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F3C-FC9B-406A-BC16-C4BBC6C1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089-F06F-43C1-B6FA-A2A08A79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22A-0120-425E-9454-01E705AF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A67-B976-4B69-978E-B9283E78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DCE-5EDC-4536-8870-DA46FC7B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D2D-5213-48AB-A755-1A4F92DD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78E-D03E-46B2-A250-E8FEBC9F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A03-927F-43C8-9220-9E5BAB43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536-883A-407C-91B1-776D5431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929-8B41-47F5-BE6E-B5F17635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B4D-4F6B-4391-A2D5-103CA740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4E1-3C7F-4C27-8E75-7B6B5B80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60F4-FA32-4D97-8B40-E9DDEEBA9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Others/Other%20Slides4.ppt" TargetMode="External"/><Relationship Id="rId2" Type="http://schemas.openxmlformats.org/officeDocument/2006/relationships/hyperlink" Target="Others/Other%20Slides4.ppt" TargetMode="External"/><Relationship Id="rId3" Type="http://schemas.openxmlformats.org/officeDocument/2006/relationships/hyperlink" Target="Others/Other%2520Slides4.ppt" TargetMode="External"/><Relationship Id="rId4" Type="http://schemas.openxmlformats.org/officeDocument/2006/relationships/hyperlink" Target="Others/UNIT%204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49360"/>
            <a:ext cx="85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MEDIATE 2 – ADDITIONAL QUESTION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7984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/>
          </p:cNvPr>
          <p:cNvSpPr/>
          <p:nvPr/>
        </p:nvSpPr>
        <p:spPr>
          <a:xfrm>
            <a:off x="0" y="2349360"/>
            <a:ext cx="1979640" cy="900360"/>
          </a:xfrm>
          <a:custGeom>
            <a:avLst/>
            <a:gdLst>
              <a:gd name="textAreaLeft" fmla="*/ 58320 w 1979640"/>
              <a:gd name="textAreaRight" fmla="*/ 1921320 w 197964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47482" h="21600">
                <a:moveTo>
                  <a:pt x="0" y="0"/>
                </a:moveTo>
                <a:lnTo>
                  <a:pt x="47482" y="0"/>
                </a:lnTo>
                <a:lnTo>
                  <a:pt x="47482" y="21600"/>
                </a:lnTo>
                <a:lnTo>
                  <a:pt x="0" y="21600"/>
                </a:lnTo>
                <a:close/>
              </a:path>
              <a:path fill="lightenLess" w="47482" h="21600">
                <a:moveTo>
                  <a:pt x="0" y="0"/>
                </a:moveTo>
                <a:lnTo>
                  <a:pt x="47482" y="0"/>
                </a:lnTo>
                <a:lnTo>
                  <a:pt x="46082" y="1400"/>
                </a:lnTo>
                <a:lnTo>
                  <a:pt x="1400" y="1400"/>
                </a:lnTo>
                <a:close/>
              </a:path>
              <a:path fill="darken" w="47482" h="21600">
                <a:moveTo>
                  <a:pt x="47482" y="0"/>
                </a:moveTo>
                <a:lnTo>
                  <a:pt x="47482" y="21600"/>
                </a:lnTo>
                <a:lnTo>
                  <a:pt x="46082" y="20200"/>
                </a:lnTo>
                <a:lnTo>
                  <a:pt x="46082" y="1400"/>
                </a:lnTo>
                <a:close/>
              </a:path>
              <a:path fill="darkenLess" w="47482" h="21600">
                <a:moveTo>
                  <a:pt x="47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82" y="20200"/>
                </a:lnTo>
                <a:close/>
              </a:path>
              <a:path fill="lighten" w="47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/>
          </p:cNvPr>
          <p:cNvSpPr/>
          <p:nvPr/>
        </p:nvSpPr>
        <p:spPr>
          <a:xfrm>
            <a:off x="2268360" y="2349360"/>
            <a:ext cx="2087640" cy="900360"/>
          </a:xfrm>
          <a:custGeom>
            <a:avLst/>
            <a:gdLst>
              <a:gd name="textAreaLeft" fmla="*/ 58320 w 2087640"/>
              <a:gd name="textAreaRight" fmla="*/ 2029320 w 208764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50072" h="21600">
                <a:moveTo>
                  <a:pt x="0" y="0"/>
                </a:moveTo>
                <a:lnTo>
                  <a:pt x="50072" y="0"/>
                </a:lnTo>
                <a:lnTo>
                  <a:pt x="50072" y="21600"/>
                </a:lnTo>
                <a:lnTo>
                  <a:pt x="0" y="21600"/>
                </a:lnTo>
                <a:close/>
              </a:path>
              <a:path fill="lightenLess" w="50072" h="21600">
                <a:moveTo>
                  <a:pt x="0" y="0"/>
                </a:moveTo>
                <a:lnTo>
                  <a:pt x="50072" y="0"/>
                </a:lnTo>
                <a:lnTo>
                  <a:pt x="48672" y="1400"/>
                </a:lnTo>
                <a:lnTo>
                  <a:pt x="1400" y="1400"/>
                </a:lnTo>
                <a:close/>
              </a:path>
              <a:path fill="darken" w="50072" h="21600">
                <a:moveTo>
                  <a:pt x="50072" y="0"/>
                </a:moveTo>
                <a:lnTo>
                  <a:pt x="50072" y="21600"/>
                </a:lnTo>
                <a:lnTo>
                  <a:pt x="48672" y="20200"/>
                </a:lnTo>
                <a:lnTo>
                  <a:pt x="48672" y="1400"/>
                </a:lnTo>
                <a:close/>
              </a:path>
              <a:path fill="darkenLess" w="50072" h="21600">
                <a:moveTo>
                  <a:pt x="50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672" y="20200"/>
                </a:lnTo>
                <a:close/>
              </a:path>
              <a:path fill="lighten" w="50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/>
          </p:cNvPr>
          <p:cNvSpPr/>
          <p:nvPr/>
        </p:nvSpPr>
        <p:spPr>
          <a:xfrm>
            <a:off x="4643280" y="2349360"/>
            <a:ext cx="2089440" cy="900360"/>
          </a:xfrm>
          <a:custGeom>
            <a:avLst/>
            <a:gdLst>
              <a:gd name="textAreaLeft" fmla="*/ 58320 w 2089440"/>
              <a:gd name="textAreaRight" fmla="*/ 2031120 w 208944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50115" h="21600">
                <a:moveTo>
                  <a:pt x="0" y="0"/>
                </a:moveTo>
                <a:lnTo>
                  <a:pt x="50115" y="0"/>
                </a:lnTo>
                <a:lnTo>
                  <a:pt x="50115" y="21600"/>
                </a:lnTo>
                <a:lnTo>
                  <a:pt x="0" y="21600"/>
                </a:lnTo>
                <a:close/>
              </a:path>
              <a:path fill="lightenLess" w="50115" h="21600">
                <a:moveTo>
                  <a:pt x="0" y="0"/>
                </a:moveTo>
                <a:lnTo>
                  <a:pt x="50115" y="0"/>
                </a:lnTo>
                <a:lnTo>
                  <a:pt x="48715" y="1400"/>
                </a:lnTo>
                <a:lnTo>
                  <a:pt x="1400" y="1400"/>
                </a:lnTo>
                <a:close/>
              </a:path>
              <a:path fill="darken" w="50115" h="21600">
                <a:moveTo>
                  <a:pt x="50115" y="0"/>
                </a:moveTo>
                <a:lnTo>
                  <a:pt x="50115" y="21600"/>
                </a:lnTo>
                <a:lnTo>
                  <a:pt x="48715" y="20200"/>
                </a:lnTo>
                <a:lnTo>
                  <a:pt x="48715" y="1400"/>
                </a:lnTo>
                <a:close/>
              </a:path>
              <a:path fill="darkenLess" w="50115" h="21600">
                <a:moveTo>
                  <a:pt x="50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15" y="20200"/>
                </a:lnTo>
                <a:close/>
              </a:path>
              <a:path fill="lighten" w="50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4960" y="1496880"/>
            <a:ext cx="77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ease decide which Unit you would like to rev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0280"/>
            <a:ext cx="1979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igh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ol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r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3500280"/>
            <a:ext cx="2087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igon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multane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raphs, Charts,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02240" y="3500280"/>
            <a:ext cx="212868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urther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adr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urther 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/>
          </p:cNvPr>
          <p:cNvSpPr/>
          <p:nvPr/>
        </p:nvSpPr>
        <p:spPr>
          <a:xfrm>
            <a:off x="6985080" y="2349360"/>
            <a:ext cx="1942920" cy="900360"/>
          </a:xfrm>
          <a:custGeom>
            <a:avLst/>
            <a:gdLst>
              <a:gd name="textAreaLeft" fmla="*/ 58320 w 1942920"/>
              <a:gd name="textAreaRight" fmla="*/ 1884600 w 194292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46601" h="21600">
                <a:moveTo>
                  <a:pt x="0" y="0"/>
                </a:moveTo>
                <a:lnTo>
                  <a:pt x="46601" y="0"/>
                </a:lnTo>
                <a:lnTo>
                  <a:pt x="46601" y="21600"/>
                </a:lnTo>
                <a:lnTo>
                  <a:pt x="0" y="21600"/>
                </a:lnTo>
                <a:close/>
              </a:path>
              <a:path fill="lightenLess" w="46601" h="21600">
                <a:moveTo>
                  <a:pt x="0" y="0"/>
                </a:moveTo>
                <a:lnTo>
                  <a:pt x="46601" y="0"/>
                </a:lnTo>
                <a:lnTo>
                  <a:pt x="45202" y="1400"/>
                </a:lnTo>
                <a:lnTo>
                  <a:pt x="1400" y="1400"/>
                </a:lnTo>
                <a:close/>
              </a:path>
              <a:path fill="darken" w="46601" h="21600">
                <a:moveTo>
                  <a:pt x="46601" y="0"/>
                </a:moveTo>
                <a:lnTo>
                  <a:pt x="46601" y="21600"/>
                </a:lnTo>
                <a:lnTo>
                  <a:pt x="45202" y="20200"/>
                </a:lnTo>
                <a:lnTo>
                  <a:pt x="45202" y="1400"/>
                </a:lnTo>
                <a:close/>
              </a:path>
              <a:path fill="darkenLess" w="46601" h="21600">
                <a:moveTo>
                  <a:pt x="46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02" y="20200"/>
                </a:lnTo>
                <a:close/>
              </a:path>
              <a:path fill="lighten" w="46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500280"/>
            <a:ext cx="21290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cial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gic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mul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0:37:42Z</dcterms:created>
  <dc:creator>Richardson</dc:creator>
  <dc:description/>
  <dc:language>en-US</dc:language>
  <cp:lastModifiedBy>Richardson</cp:lastModifiedBy>
  <dcterms:modified xsi:type="dcterms:W3CDTF">2006-01-08T12:53:43Z</dcterms:modified>
  <cp:revision>173</cp:revision>
  <dc:subject/>
  <dc:title>Slide 1</dc:title>
</cp:coreProperties>
</file>