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901-3EA7-4978-839A-D8AD6C0A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32E1-2C7A-401A-9CD2-12D8F6C4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B2E6-B068-4DAB-B416-F47C92FF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FA07-D5E4-4203-A022-376D9E1C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6B4-5670-4570-A519-198B1E31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2BD-5498-4777-893F-B61F4D71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B173-28B9-4AD8-8A37-BB3FB704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AEF-379D-44EA-9176-B6D55696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FD36-2D96-46B5-A3E2-3E17CA32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785-2F13-4F47-864B-345531C3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8B2-91A7-4393-A4F4-668E77D6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BCE-464A-4161-941F-6DEA314B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BDD2-0001-432F-98DB-04A26BBBD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hyperlink" Target="file:///Other%20Slides4.ppt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hyperlink" Target="file:///Other%20Slides4.ppt" TargetMode="Externa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image" Target="../media/image11.wmf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4.wmf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hyperlink" Target="file:///Other%20Slides4.ppt" TargetMode="External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wmf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1.png"/><Relationship Id="rId5" Type="http://schemas.openxmlformats.org/officeDocument/2006/relationships/hyperlink" Target="file:///Other%20Slides4.ppt" TargetMode="External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1.wmf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4.wmf"/><Relationship Id="rId1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image" Target="../media/image1.png"/><Relationship Id="rId4" Type="http://schemas.openxmlformats.org/officeDocument/2006/relationships/hyperlink" Target="file:///Other%20Slides4.ppt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20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MEDIATE 2 – ADDITIONAL QUESTION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1760" y="2073240"/>
            <a:ext cx="1374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UNIT 2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79840" y="5027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2060640"/>
            <a:ext cx="2808360" cy="900000"/>
          </a:xfrm>
          <a:custGeom>
            <a:avLst/>
            <a:gdLst>
              <a:gd name="textAreaLeft" fmla="*/ 58320 w 2808360"/>
              <a:gd name="textAreaRight" fmla="*/ 2750040 w 280836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67382" h="21600">
                <a:moveTo>
                  <a:pt x="0" y="0"/>
                </a:moveTo>
                <a:lnTo>
                  <a:pt x="67382" y="0"/>
                </a:lnTo>
                <a:lnTo>
                  <a:pt x="67382" y="21600"/>
                </a:lnTo>
                <a:lnTo>
                  <a:pt x="0" y="21600"/>
                </a:lnTo>
                <a:close/>
              </a:path>
              <a:path fill="lightenLess" w="67382" h="21600">
                <a:moveTo>
                  <a:pt x="0" y="0"/>
                </a:moveTo>
                <a:lnTo>
                  <a:pt x="67382" y="0"/>
                </a:lnTo>
                <a:lnTo>
                  <a:pt x="65982" y="1400"/>
                </a:lnTo>
                <a:lnTo>
                  <a:pt x="1400" y="1400"/>
                </a:lnTo>
                <a:close/>
              </a:path>
              <a:path fill="darken" w="67382" h="21600">
                <a:moveTo>
                  <a:pt x="67382" y="0"/>
                </a:moveTo>
                <a:lnTo>
                  <a:pt x="67382" y="21600"/>
                </a:lnTo>
                <a:lnTo>
                  <a:pt x="65982" y="20200"/>
                </a:lnTo>
                <a:lnTo>
                  <a:pt x="65982" y="1400"/>
                </a:lnTo>
                <a:close/>
              </a:path>
              <a:path fill="darkenLess" w="67382" h="21600">
                <a:moveTo>
                  <a:pt x="67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982" y="20200"/>
                </a:lnTo>
                <a:close/>
              </a:path>
              <a:path fill="lighten" w="67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multaneo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3920" y="134136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have chosen to stu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5600" y="3502080"/>
            <a:ext cx="686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ease choose a question to attempt from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1619280" y="4329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2916360" y="4329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4211640" y="4329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5580000" y="432900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endshow"/>
          </p:cNvPr>
          <p:cNvSpPr/>
          <p:nvPr/>
        </p:nvSpPr>
        <p:spPr>
          <a:xfrm>
            <a:off x="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5"/>
          </p:cNvPr>
          <p:cNvSpPr/>
          <p:nvPr/>
        </p:nvSpPr>
        <p:spPr>
          <a:xfrm>
            <a:off x="3708360" y="6237360"/>
            <a:ext cx="1368360" cy="620640"/>
          </a:xfrm>
          <a:custGeom>
            <a:avLst/>
            <a:gdLst>
              <a:gd name="textAreaLeft" fmla="*/ 39960 w 1368360"/>
              <a:gd name="textAreaRight" fmla="*/ 1328400 w 1368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7608" h="21600">
                <a:moveTo>
                  <a:pt x="0" y="0"/>
                </a:moveTo>
                <a:lnTo>
                  <a:pt x="47608" y="0"/>
                </a:lnTo>
                <a:lnTo>
                  <a:pt x="47608" y="21600"/>
                </a:lnTo>
                <a:lnTo>
                  <a:pt x="0" y="21600"/>
                </a:lnTo>
                <a:close/>
              </a:path>
              <a:path fill="lightenLess" w="47608" h="21600">
                <a:moveTo>
                  <a:pt x="0" y="0"/>
                </a:moveTo>
                <a:lnTo>
                  <a:pt x="47608" y="0"/>
                </a:lnTo>
                <a:lnTo>
                  <a:pt x="46208" y="1400"/>
                </a:lnTo>
                <a:lnTo>
                  <a:pt x="1400" y="1400"/>
                </a:lnTo>
                <a:close/>
              </a:path>
              <a:path fill="darken" w="47608" h="21600">
                <a:moveTo>
                  <a:pt x="47608" y="0"/>
                </a:moveTo>
                <a:lnTo>
                  <a:pt x="47608" y="21600"/>
                </a:lnTo>
                <a:lnTo>
                  <a:pt x="46208" y="20200"/>
                </a:lnTo>
                <a:lnTo>
                  <a:pt x="46208" y="1400"/>
                </a:lnTo>
                <a:close/>
              </a:path>
              <a:path fill="darkenLess" w="47608" h="21600">
                <a:moveTo>
                  <a:pt x="47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08" y="20200"/>
                </a:lnTo>
                <a:close/>
              </a:path>
              <a:path fill="lighten" w="47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2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125892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125892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2" action="ppaction://hlinksldjump"/>
          </p:cNvPr>
          <p:cNvSpPr/>
          <p:nvPr/>
        </p:nvSpPr>
        <p:spPr>
          <a:xfrm>
            <a:off x="478800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478800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49120" y="6237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81080" y="558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79640" y="6237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3080" y="5589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4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1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981000"/>
            <a:ext cx="435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agram shows the graph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x + y =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32360" y="2133720"/>
            <a:ext cx="42116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 the diagram and on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 draw the graph of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3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ce sol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 + y =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0" y="692280"/>
            <a:ext cx="4859280" cy="4859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50920" y="2205000"/>
            <a:ext cx="2665440" cy="2879640"/>
          </a:xfrm>
          <a:prstGeom prst="cloudCallout">
            <a:avLst>
              <a:gd name="adj1" fmla="val 117837"/>
              <a:gd name="adj2" fmla="val -3423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draw grap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 a table of values with at least 2 x-coordin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2997360"/>
            <a:ext cx="3600360" cy="1871640"/>
          </a:xfrm>
          <a:prstGeom prst="cloudCallout">
            <a:avLst>
              <a:gd name="adj1" fmla="val 96074"/>
              <a:gd name="adj2" fmla="val -148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 and join points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lution is where lines c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69480" y="5084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125892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478800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478800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049120" y="6237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81080" y="558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79640" y="6237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3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1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88000" y="981000"/>
            <a:ext cx="435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agram shows the graph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x + y =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32360" y="2133720"/>
            <a:ext cx="42116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 the diagram and on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 draw the graph of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3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ce sol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 + y =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0" y="620640"/>
            <a:ext cx="4859280" cy="48592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979640" y="2421000"/>
            <a:ext cx="504720" cy="431640"/>
          </a:xfrm>
          <a:prstGeom prst="ellipse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042920" y="1557360"/>
            <a:ext cx="3457800" cy="172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76720" y="1989000"/>
            <a:ext cx="21564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19280" y="278136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5300640"/>
            <a:ext cx="403200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is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= 2   &amp;   y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69480" y="5084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282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2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549360"/>
            <a:ext cx="435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agram shows the graph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x + y =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360" y="1701720"/>
            <a:ext cx="42116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 the diagram and on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 draw the graph of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3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ce sol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 + y =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Construct a table of values with at least 2 x coordin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95800" y="1125360"/>
            <a:ext cx="19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+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719680" y="1125360"/>
            <a:ext cx="1828800" cy="762120"/>
            <a:chOff x="5719680" y="1125360"/>
            <a:chExt cx="1828800" cy="762120"/>
          </a:xfrm>
        </p:grpSpPr>
        <p:sp>
          <p:nvSpPr>
            <p:cNvPr id="304" name=""/>
            <p:cNvSpPr/>
            <p:nvPr/>
          </p:nvSpPr>
          <p:spPr>
            <a:xfrm>
              <a:off x="5719680" y="1125360"/>
              <a:ext cx="1828800" cy="762120"/>
            </a:xfrm>
            <a:prstGeom prst="rect">
              <a:avLst/>
            </a:prstGeom>
            <a:solidFill>
              <a:srgbClr val="cc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19680" y="150660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76880" y="11253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62680" y="11253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796000" y="112536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      0    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96000" y="15066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      3    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995640" y="1916280"/>
            <a:ext cx="4969080" cy="4214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7380360" y="306864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651640" y="3789360"/>
            <a:ext cx="21564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316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31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2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3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49360"/>
            <a:ext cx="435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agram shows the gra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 2x + y =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4360" y="1701720"/>
            <a:ext cx="42116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 the diagram and on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 draw the graph of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3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ce sol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 + y =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195800" y="1125360"/>
            <a:ext cx="19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+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719680" y="1125360"/>
            <a:ext cx="1828800" cy="762120"/>
            <a:chOff x="5719680" y="1125360"/>
            <a:chExt cx="1828800" cy="762120"/>
          </a:xfrm>
        </p:grpSpPr>
        <p:sp>
          <p:nvSpPr>
            <p:cNvPr id="337" name=""/>
            <p:cNvSpPr/>
            <p:nvPr/>
          </p:nvSpPr>
          <p:spPr>
            <a:xfrm>
              <a:off x="5719680" y="1125360"/>
              <a:ext cx="1828800" cy="762120"/>
            </a:xfrm>
            <a:prstGeom prst="rect">
              <a:avLst/>
            </a:prstGeom>
            <a:solidFill>
              <a:srgbClr val="cc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19680" y="150660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76880" y="11253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862680" y="11253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5796000" y="112536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      0    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15066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      3    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95640" y="18900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lot and join points. Solution is where lines cro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3995640" y="1916280"/>
            <a:ext cx="4969080" cy="42145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084720" y="3429000"/>
            <a:ext cx="505080" cy="431640"/>
          </a:xfrm>
          <a:prstGeom prst="ellipse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572000" y="2852280"/>
            <a:ext cx="367200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80360" y="306864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51640" y="3789360"/>
            <a:ext cx="21564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40360" y="6093000"/>
            <a:ext cx="46479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is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= 2   &amp;   y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-2520" y="314172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45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950"/>
                            </p:stCondLst>
                            <p:childTnLst>
                              <p:par>
                                <p:cTn id="2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45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95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76500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Construct a table of values with at least 2 x coordin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8520" y="1630440"/>
            <a:ext cx="198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+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652760" y="1630440"/>
            <a:ext cx="1828800" cy="761760"/>
            <a:chOff x="1652760" y="1630440"/>
            <a:chExt cx="1828800" cy="761760"/>
          </a:xfrm>
        </p:grpSpPr>
        <p:sp>
          <p:nvSpPr>
            <p:cNvPr id="363" name=""/>
            <p:cNvSpPr/>
            <p:nvPr/>
          </p:nvSpPr>
          <p:spPr>
            <a:xfrm>
              <a:off x="1652760" y="1630440"/>
              <a:ext cx="1828800" cy="761760"/>
            </a:xfrm>
            <a:prstGeom prst="rect">
              <a:avLst/>
            </a:prstGeom>
            <a:solidFill>
              <a:srgbClr val="cc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52760" y="201132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09960" y="163044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795760" y="163044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728720" y="1630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      0    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28720" y="201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      3    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-71280" y="2421000"/>
            <a:ext cx="4968720" cy="42148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276720" y="3573360"/>
            <a:ext cx="21564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84360" y="429408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159520" y="549360"/>
            <a:ext cx="3984480" cy="4362840"/>
            <a:chOff x="5159520" y="549360"/>
            <a:chExt cx="3984480" cy="4362840"/>
          </a:xfrm>
        </p:grpSpPr>
        <p:sp>
          <p:nvSpPr>
            <p:cNvPr id="373" name=""/>
            <p:cNvSpPr/>
            <p:nvPr/>
          </p:nvSpPr>
          <p:spPr>
            <a:xfrm>
              <a:off x="5159520" y="549360"/>
              <a:ext cx="3984480" cy="436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re are two ways of draw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 line y = ½ x +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Method 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nding two points on the lin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 = 0          y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½  x 0 + 3 =  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 = 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y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½  x 2 +3  =  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 Point      (0, 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ond Point (2, 4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lot and join (0, 3), and (2, 4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73920" y="248436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84720" y="306864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0160" y="1494000"/>
            <a:ext cx="19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+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724040" y="1494000"/>
            <a:ext cx="1828800" cy="761760"/>
            <a:chOff x="1724040" y="1494000"/>
            <a:chExt cx="1828800" cy="761760"/>
          </a:xfrm>
        </p:grpSpPr>
        <p:sp>
          <p:nvSpPr>
            <p:cNvPr id="387" name=""/>
            <p:cNvSpPr/>
            <p:nvPr/>
          </p:nvSpPr>
          <p:spPr>
            <a:xfrm>
              <a:off x="1724040" y="1494000"/>
              <a:ext cx="1828800" cy="761760"/>
            </a:xfrm>
            <a:prstGeom prst="rect">
              <a:avLst/>
            </a:prstGeom>
            <a:solidFill>
              <a:srgbClr val="cc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24040" y="18748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81240" y="149400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67040" y="149400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1800360" y="1494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      0    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0360" y="18748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      3    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557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lot and join points. Solution is where lines cro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0" y="2284560"/>
            <a:ext cx="4968720" cy="42145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 flipV="1">
            <a:off x="576360" y="3212640"/>
            <a:ext cx="3635280" cy="159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48000" y="343692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55640" y="415764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44360" y="6461280"/>
            <a:ext cx="4648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ution is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 = 2   &amp;   y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076360" y="404640"/>
            <a:ext cx="3326760" cy="2172600"/>
            <a:chOff x="5076360" y="404640"/>
            <a:chExt cx="3326760" cy="2172600"/>
          </a:xfrm>
        </p:grpSpPr>
        <p:sp>
          <p:nvSpPr>
            <p:cNvPr id="400" name=""/>
            <p:cNvSpPr/>
            <p:nvPr/>
          </p:nvSpPr>
          <p:spPr>
            <a:xfrm>
              <a:off x="5354280" y="404640"/>
              <a:ext cx="30488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Method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Using  y = mx + c  form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y = mx +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5738400" y="180648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29480" y="180648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76360" y="2117520"/>
              <a:ext cx="1181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d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04040" y="2092320"/>
              <a:ext cx="165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 - inter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5291640" y="4508640"/>
            <a:ext cx="3426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C(0, 3) and draw 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m = 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5364000" y="2637000"/>
            <a:ext cx="3672000" cy="2029320"/>
            <a:chOff x="5364000" y="2637000"/>
            <a:chExt cx="3672000" cy="2029320"/>
          </a:xfrm>
        </p:grpSpPr>
        <p:grpSp>
          <p:nvGrpSpPr>
            <p:cNvPr id="407" name=""/>
            <p:cNvGrpSpPr/>
            <p:nvPr/>
          </p:nvGrpSpPr>
          <p:grpSpPr>
            <a:xfrm>
              <a:off x="5434920" y="2637000"/>
              <a:ext cx="3332520" cy="2029320"/>
              <a:chOff x="5434920" y="2637000"/>
              <a:chExt cx="3332520" cy="2029320"/>
            </a:xfrm>
          </p:grpSpPr>
          <p:sp>
            <p:nvSpPr>
              <p:cNvPr id="408" name=""/>
              <p:cNvSpPr/>
              <p:nvPr/>
            </p:nvSpPr>
            <p:spPr>
              <a:xfrm>
                <a:off x="5511960" y="2637000"/>
                <a:ext cx="159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y = ½ x +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5831640" y="3052800"/>
                <a:ext cx="304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670080" y="3052800"/>
                <a:ext cx="457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434920" y="3475080"/>
                <a:ext cx="1181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radi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 = ½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110000" y="3475080"/>
                <a:ext cx="1657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y - inter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 = +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5364000" y="2708280"/>
              <a:ext cx="3672000" cy="1657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>
            <a:hlinkClick r:id="rId1" action="ppaction://hlinksldjump"/>
          </p:cNvPr>
          <p:cNvSpPr/>
          <p:nvPr/>
        </p:nvSpPr>
        <p:spPr>
          <a:xfrm>
            <a:off x="1908000" y="3357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rId2" action="ppaction://hlinksldjump"/>
          </p:cNvPr>
          <p:cNvSpPr/>
          <p:nvPr/>
        </p:nvSpPr>
        <p:spPr>
          <a:xfrm>
            <a:off x="1908000" y="4005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>
            <a:hlinkClick r:id="rId3" action="ppaction://hlinksldjump"/>
          </p:cNvPr>
          <p:cNvSpPr/>
          <p:nvPr/>
        </p:nvSpPr>
        <p:spPr>
          <a:xfrm>
            <a:off x="1908000" y="465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rId4" action="ppaction://hlinksldjump"/>
          </p:cNvPr>
          <p:cNvSpPr/>
          <p:nvPr/>
        </p:nvSpPr>
        <p:spPr>
          <a:xfrm>
            <a:off x="190800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698560" y="4005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701440" y="4653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699640" y="530064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702520" y="3357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" y="98100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u  - 2v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u + 5v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" action="ppaction://hlinkshowjump?jump=nextslide"/>
          </p:cNvPr>
          <p:cNvSpPr/>
          <p:nvPr/>
        </p:nvSpPr>
        <p:spPr>
          <a:xfrm>
            <a:off x="1895400" y="263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700720" y="2637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1908000" y="3357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rId1" action="ppaction://hlinksldjump"/>
          </p:cNvPr>
          <p:cNvSpPr/>
          <p:nvPr/>
        </p:nvSpPr>
        <p:spPr>
          <a:xfrm>
            <a:off x="1908000" y="4005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rId2" action="ppaction://hlinksldjump"/>
          </p:cNvPr>
          <p:cNvSpPr/>
          <p:nvPr/>
        </p:nvSpPr>
        <p:spPr>
          <a:xfrm>
            <a:off x="1908000" y="465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rId3" action="ppaction://hlinksldjump"/>
          </p:cNvPr>
          <p:cNvSpPr/>
          <p:nvPr/>
        </p:nvSpPr>
        <p:spPr>
          <a:xfrm>
            <a:off x="190800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698560" y="4005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701440" y="4653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99640" y="530064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702520" y="3357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>
            <a:hlinkClick r:id="rId4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95280" y="98100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u  - 2v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u + 5v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724360" y="692280"/>
            <a:ext cx="2664000" cy="2520720"/>
          </a:xfrm>
          <a:prstGeom prst="cloudCallout">
            <a:avLst>
              <a:gd name="adj1" fmla="val -73717"/>
              <a:gd name="adj2" fmla="val 85833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minate either variable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12000" y="2852640"/>
            <a:ext cx="2592360" cy="2664000"/>
          </a:xfrm>
          <a:prstGeom prst="cloudCallout">
            <a:avLst>
              <a:gd name="adj1" fmla="val -81967"/>
              <a:gd name="adj2" fmla="val 214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itute found value in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it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original eq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05480" y="263700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1908000" y="4005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1" action="ppaction://hlinksldjump"/>
          </p:cNvPr>
          <p:cNvSpPr/>
          <p:nvPr/>
        </p:nvSpPr>
        <p:spPr>
          <a:xfrm>
            <a:off x="1908000" y="465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2" action="ppaction://hlinksldjump"/>
          </p:cNvPr>
          <p:cNvSpPr/>
          <p:nvPr/>
        </p:nvSpPr>
        <p:spPr>
          <a:xfrm>
            <a:off x="190800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98560" y="4005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701440" y="4653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699640" y="530064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rId3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5280" y="98100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u  - 2v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u + 5v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64160" y="2205000"/>
            <a:ext cx="205740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76720" y="22334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is    u = 2  &amp;  v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rId4" action="ppaction://hlinksldjump"/>
          </p:cNvPr>
          <p:cNvSpPr/>
          <p:nvPr/>
        </p:nvSpPr>
        <p:spPr>
          <a:xfrm>
            <a:off x="1908000" y="3357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74160" y="33577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other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977120" y="2852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461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4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76500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u  - 2v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u + 5v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4140360" y="1268280"/>
            <a:ext cx="3200400" cy="840600"/>
            <a:chOff x="4140360" y="1268280"/>
            <a:chExt cx="3200400" cy="840600"/>
          </a:xfrm>
        </p:grpSpPr>
        <p:sp>
          <p:nvSpPr>
            <p:cNvPr id="480" name=""/>
            <p:cNvSpPr/>
            <p:nvPr/>
          </p:nvSpPr>
          <p:spPr>
            <a:xfrm>
              <a:off x="4140360" y="1268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u  - 2v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16320" y="164916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u + 5v =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Eliminate either u’s or v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227640" y="1197000"/>
            <a:ext cx="1447560" cy="835200"/>
            <a:chOff x="6227640" y="1197000"/>
            <a:chExt cx="1447560" cy="835200"/>
          </a:xfrm>
        </p:grpSpPr>
        <p:sp>
          <p:nvSpPr>
            <p:cNvPr id="484" name=""/>
            <p:cNvSpPr/>
            <p:nvPr/>
          </p:nvSpPr>
          <p:spPr>
            <a:xfrm>
              <a:off x="6227640" y="11970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7640" y="15724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4140360" y="2997360"/>
          <a:ext cx="1944360" cy="93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2997360"/>
                    <a:ext cx="19443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4142520" y="234936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211640" y="400536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4211640" y="4149720"/>
          <a:ext cx="1649520" cy="51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1640" y="4149720"/>
                    <a:ext cx="16495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6227640" y="29973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227640" y="350028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380360" y="1700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0360" y="11970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786360" y="294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696080" y="2852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740720" y="3429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236000" y="2924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5440" y="3500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254720" y="34815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227640" y="422100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36000" y="42210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805440" y="4221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284720" y="4724280"/>
            <a:ext cx="1655640" cy="517320"/>
            <a:chOff x="4284720" y="4724280"/>
            <a:chExt cx="1655640" cy="517320"/>
          </a:xfrm>
        </p:grpSpPr>
        <p:sp>
          <p:nvSpPr>
            <p:cNvPr id="506" name=""/>
            <p:cNvSpPr/>
            <p:nvPr/>
          </p:nvSpPr>
          <p:spPr>
            <a:xfrm>
              <a:off x="4284720" y="4795560"/>
              <a:ext cx="1655640" cy="432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07" name=""/>
            <p:cNvGraphicFramePr/>
            <p:nvPr/>
          </p:nvGraphicFramePr>
          <p:xfrm>
            <a:off x="4284720" y="4724280"/>
            <a:ext cx="1576080" cy="517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0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84720" y="4724280"/>
                      <a:ext cx="1576080" cy="51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675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9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9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9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9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9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9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897440" cy="4897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104292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104292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464328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5" action="ppaction://hlinksldjump"/>
          </p:cNvPr>
          <p:cNvSpPr/>
          <p:nvPr/>
        </p:nvSpPr>
        <p:spPr>
          <a:xfrm>
            <a:off x="464328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3480" y="6237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3800" y="558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000" y="6237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7440" y="5589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6360" y="836640"/>
            <a:ext cx="442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agram shows the graph o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x + 2y = 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88000" y="2060640"/>
            <a:ext cx="43560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 the diagram and on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 draw the graph o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2x – 2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ce sol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3x + 2y =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2x – 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1440" y="508464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x + 2y = 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754380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133120" y="5589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6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512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5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>
            <a:hlinkClick r:id="rId2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84360" y="595008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>
            <a:hlinkClick r:id="rId3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76500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u  - 2v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u + 5v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140360" y="1268280"/>
            <a:ext cx="3200400" cy="840600"/>
            <a:chOff x="4140360" y="1268280"/>
            <a:chExt cx="3200400" cy="840600"/>
          </a:xfrm>
        </p:grpSpPr>
        <p:sp>
          <p:nvSpPr>
            <p:cNvPr id="529" name=""/>
            <p:cNvSpPr/>
            <p:nvPr/>
          </p:nvSpPr>
          <p:spPr>
            <a:xfrm>
              <a:off x="4140360" y="1268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u  - 2v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16320" y="164916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u + 5v =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Substitute found value into either of origin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6227640" y="1197000"/>
            <a:ext cx="1447560" cy="835200"/>
            <a:chOff x="6227640" y="1197000"/>
            <a:chExt cx="1447560" cy="835200"/>
          </a:xfrm>
        </p:grpSpPr>
        <p:sp>
          <p:nvSpPr>
            <p:cNvPr id="533" name=""/>
            <p:cNvSpPr/>
            <p:nvPr/>
          </p:nvSpPr>
          <p:spPr>
            <a:xfrm>
              <a:off x="6227640" y="11970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27640" y="15724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7380360" y="1700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380360" y="11970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995640" y="2421000"/>
            <a:ext cx="46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2 for u in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126040" y="29462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+ 5v 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508720" y="3327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v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661000" y="370836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827680" y="4365720"/>
            <a:ext cx="205740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0240" y="439416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is  u = 2  &amp;  v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740720" y="24210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85080" y="501336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other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>
            <a:hlinkClick r:id="rId4" action="ppaction://hlinksldjump"/>
          </p:cNvPr>
          <p:cNvSpPr/>
          <p:nvPr/>
        </p:nvSpPr>
        <p:spPr>
          <a:xfrm>
            <a:off x="250920" y="5084640"/>
            <a:ext cx="433440" cy="28908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569480" y="5084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3080" y="1844640"/>
            <a:ext cx="3200400" cy="840600"/>
            <a:chOff x="73080" y="1844640"/>
            <a:chExt cx="3200400" cy="840600"/>
          </a:xfrm>
        </p:grpSpPr>
        <p:sp>
          <p:nvSpPr>
            <p:cNvPr id="557" name=""/>
            <p:cNvSpPr/>
            <p:nvPr/>
          </p:nvSpPr>
          <p:spPr>
            <a:xfrm>
              <a:off x="73080" y="184464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u  - 2v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49040" y="2225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u + 5v =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0" y="836640"/>
            <a:ext cx="47163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Eliminate either u’s or v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2160720" y="1773360"/>
            <a:ext cx="1447560" cy="834840"/>
            <a:chOff x="2160720" y="1773360"/>
            <a:chExt cx="1447560" cy="834840"/>
          </a:xfrm>
        </p:grpSpPr>
        <p:sp>
          <p:nvSpPr>
            <p:cNvPr id="561" name=""/>
            <p:cNvSpPr/>
            <p:nvPr/>
          </p:nvSpPr>
          <p:spPr>
            <a:xfrm>
              <a:off x="2160720" y="177336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60720" y="21484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3" name=""/>
          <p:cNvGraphicFramePr/>
          <p:nvPr/>
        </p:nvGraphicFramePr>
        <p:xfrm>
          <a:off x="73080" y="3573360"/>
          <a:ext cx="1944720" cy="93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080" y="3573360"/>
                    <a:ext cx="194472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75240" y="29257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44360" y="458136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4360" y="4726080"/>
          <a:ext cx="1649520" cy="517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360" y="4726080"/>
                    <a:ext cx="16495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"/>
          <p:cNvSpPr/>
          <p:nvPr/>
        </p:nvSpPr>
        <p:spPr>
          <a:xfrm>
            <a:off x="2160720" y="35733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160720" y="407664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313080" y="227664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13080" y="17733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719080" y="3519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629160" y="3429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673440" y="4005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68720" y="350028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738160" y="4076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187800" y="40575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160720" y="47973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168720" y="47973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738160" y="479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217440" y="5300640"/>
            <a:ext cx="1655640" cy="517320"/>
            <a:chOff x="217440" y="5300640"/>
            <a:chExt cx="1655640" cy="517320"/>
          </a:xfrm>
        </p:grpSpPr>
        <p:sp>
          <p:nvSpPr>
            <p:cNvPr id="583" name=""/>
            <p:cNvSpPr/>
            <p:nvPr/>
          </p:nvSpPr>
          <p:spPr>
            <a:xfrm>
              <a:off x="217440" y="5371920"/>
              <a:ext cx="1655640" cy="432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4" name=""/>
            <p:cNvGraphicFramePr/>
            <p:nvPr/>
          </p:nvGraphicFramePr>
          <p:xfrm>
            <a:off x="217440" y="5300640"/>
            <a:ext cx="1576080" cy="517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7440" y="5300640"/>
                      <a:ext cx="1576080" cy="51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86" name=""/>
          <p:cNvSpPr/>
          <p:nvPr/>
        </p:nvSpPr>
        <p:spPr>
          <a:xfrm>
            <a:off x="5405040" y="549360"/>
            <a:ext cx="3460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“signs” ar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subtract to elimin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“signs”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dd to elimin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708360" y="1341360"/>
            <a:ext cx="1727280" cy="345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826560" y="1341360"/>
            <a:ext cx="4465800" cy="266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5417280" y="3213000"/>
            <a:ext cx="3729600" cy="1602720"/>
            <a:chOff x="5417280" y="3213000"/>
            <a:chExt cx="3729600" cy="1602720"/>
          </a:xfrm>
        </p:grpSpPr>
        <p:sp>
          <p:nvSpPr>
            <p:cNvPr id="590" name=""/>
            <p:cNvSpPr/>
            <p:nvPr/>
          </p:nvSpPr>
          <p:spPr>
            <a:xfrm>
              <a:off x="5417280" y="3213000"/>
              <a:ext cx="273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.g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x  +  3y 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x  +  3y 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346800" y="401004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51760" y="4356000"/>
              <a:ext cx="28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tract the equ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732720" y="3068640"/>
            <a:ext cx="1079280" cy="122400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3080" y="1844640"/>
            <a:ext cx="3200400" cy="840600"/>
            <a:chOff x="73080" y="1844640"/>
            <a:chExt cx="3200400" cy="840600"/>
          </a:xfrm>
        </p:grpSpPr>
        <p:sp>
          <p:nvSpPr>
            <p:cNvPr id="604" name=""/>
            <p:cNvSpPr/>
            <p:nvPr/>
          </p:nvSpPr>
          <p:spPr>
            <a:xfrm>
              <a:off x="73080" y="184464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u  - 2v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49040" y="2225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u + 5v =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0" y="836640"/>
            <a:ext cx="47163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Eliminate either u’s or v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2160720" y="1773360"/>
            <a:ext cx="1447560" cy="834840"/>
            <a:chOff x="2160720" y="1773360"/>
            <a:chExt cx="1447560" cy="834840"/>
          </a:xfrm>
        </p:grpSpPr>
        <p:sp>
          <p:nvSpPr>
            <p:cNvPr id="608" name=""/>
            <p:cNvSpPr/>
            <p:nvPr/>
          </p:nvSpPr>
          <p:spPr>
            <a:xfrm>
              <a:off x="2160720" y="177336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160720" y="21484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0" name=""/>
          <p:cNvGraphicFramePr/>
          <p:nvPr/>
        </p:nvGraphicFramePr>
        <p:xfrm>
          <a:off x="73080" y="3573360"/>
          <a:ext cx="1944720" cy="93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080" y="3573360"/>
                    <a:ext cx="194472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"/>
          <p:cNvSpPr/>
          <p:nvPr/>
        </p:nvSpPr>
        <p:spPr>
          <a:xfrm>
            <a:off x="75240" y="29257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44360" y="458136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144360" y="4726080"/>
          <a:ext cx="1649520" cy="517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360" y="4726080"/>
                    <a:ext cx="16495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2160720" y="35733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160720" y="407664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313080" y="227664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313080" y="17733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719080" y="3519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629160" y="3429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673440" y="4005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168720" y="35733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738160" y="4076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187800" y="40575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160720" y="47973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168720" y="47973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738160" y="479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217440" y="5300640"/>
            <a:ext cx="1655640" cy="517320"/>
            <a:chOff x="217440" y="5300640"/>
            <a:chExt cx="1655640" cy="517320"/>
          </a:xfrm>
        </p:grpSpPr>
        <p:sp>
          <p:nvSpPr>
            <p:cNvPr id="630" name=""/>
            <p:cNvSpPr/>
            <p:nvPr/>
          </p:nvSpPr>
          <p:spPr>
            <a:xfrm>
              <a:off x="217440" y="5371920"/>
              <a:ext cx="1655640" cy="432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31" name=""/>
            <p:cNvGraphicFramePr/>
            <p:nvPr/>
          </p:nvGraphicFramePr>
          <p:xfrm>
            <a:off x="217440" y="5300640"/>
            <a:ext cx="1576080" cy="517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7440" y="5300640"/>
                      <a:ext cx="1576080" cy="51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3" name=""/>
          <p:cNvSpPr/>
          <p:nvPr/>
        </p:nvSpPr>
        <p:spPr>
          <a:xfrm>
            <a:off x="5405040" y="549360"/>
            <a:ext cx="3460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“signs” ar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subtract to elimin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“signs”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dd to elimin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3708360" y="1341360"/>
            <a:ext cx="1727280" cy="345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826560" y="1341360"/>
            <a:ext cx="4465800" cy="266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652720" y="3284640"/>
            <a:ext cx="3237840" cy="1602720"/>
            <a:chOff x="5652720" y="3284640"/>
            <a:chExt cx="3237840" cy="1602720"/>
          </a:xfrm>
        </p:grpSpPr>
        <p:sp>
          <p:nvSpPr>
            <p:cNvPr id="637" name=""/>
            <p:cNvSpPr/>
            <p:nvPr/>
          </p:nvSpPr>
          <p:spPr>
            <a:xfrm>
              <a:off x="5652720" y="3284640"/>
              <a:ext cx="274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.g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x  +  3y 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x   -  3y 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581880" y="40816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9360" y="442764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the equ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7093080" y="3068640"/>
            <a:ext cx="718920" cy="122400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>
            <a:hlinkClick r:id="rId1" action="ppaction://hlinksldjump"/>
          </p:cNvPr>
          <p:cNvSpPr/>
          <p:nvPr/>
        </p:nvSpPr>
        <p:spPr>
          <a:xfrm>
            <a:off x="1908000" y="3357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>
            <a:hlinkClick r:id="rId2" action="ppaction://hlinksldjump"/>
          </p:cNvPr>
          <p:cNvSpPr/>
          <p:nvPr/>
        </p:nvSpPr>
        <p:spPr>
          <a:xfrm>
            <a:off x="1908000" y="4005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rId3" action="ppaction://hlinksldjump"/>
          </p:cNvPr>
          <p:cNvSpPr/>
          <p:nvPr/>
        </p:nvSpPr>
        <p:spPr>
          <a:xfrm>
            <a:off x="1908000" y="465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>
            <a:hlinkClick r:id="rId4" action="ppaction://hlinksldjump"/>
          </p:cNvPr>
          <p:cNvSpPr/>
          <p:nvPr/>
        </p:nvSpPr>
        <p:spPr>
          <a:xfrm>
            <a:off x="190800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698560" y="4005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701440" y="4653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699640" y="530064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702520" y="3357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9640" y="98100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p + 3q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p + 5q = -2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1895400" y="263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700720" y="2637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1908000" y="3357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>
            <a:hlinkClick r:id="rId1" action="ppaction://hlinksldjump"/>
          </p:cNvPr>
          <p:cNvSpPr/>
          <p:nvPr/>
        </p:nvSpPr>
        <p:spPr>
          <a:xfrm>
            <a:off x="1908000" y="4005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>
            <a:hlinkClick r:id="rId2" action="ppaction://hlinksldjump"/>
          </p:cNvPr>
          <p:cNvSpPr/>
          <p:nvPr/>
        </p:nvSpPr>
        <p:spPr>
          <a:xfrm>
            <a:off x="1908000" y="465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>
            <a:hlinkClick r:id="rId3" action="ppaction://hlinksldjump"/>
          </p:cNvPr>
          <p:cNvSpPr/>
          <p:nvPr/>
        </p:nvSpPr>
        <p:spPr>
          <a:xfrm>
            <a:off x="190800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698560" y="4005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701440" y="4653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699640" y="530064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702520" y="3357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>
            <a:hlinkClick r:id="rId4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39640" y="98100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p + 3q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p + 5q = -2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724360" y="692280"/>
            <a:ext cx="2664000" cy="2520720"/>
          </a:xfrm>
          <a:prstGeom prst="cloudCallout">
            <a:avLst>
              <a:gd name="adj1" fmla="val -73717"/>
              <a:gd name="adj2" fmla="val 85833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minate either variable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012000" y="2852640"/>
            <a:ext cx="2592360" cy="2664000"/>
          </a:xfrm>
          <a:prstGeom prst="cloudCallout">
            <a:avLst>
              <a:gd name="adj1" fmla="val -81967"/>
              <a:gd name="adj2" fmla="val 214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itute found value in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it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original eq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832760" y="263700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1908000" y="4005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>
            <a:hlinkClick r:id="rId1" action="ppaction://hlinksldjump"/>
          </p:cNvPr>
          <p:cNvSpPr/>
          <p:nvPr/>
        </p:nvSpPr>
        <p:spPr>
          <a:xfrm>
            <a:off x="1908000" y="465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>
            <a:hlinkClick r:id="rId2" action="ppaction://hlinksldjump"/>
          </p:cNvPr>
          <p:cNvSpPr/>
          <p:nvPr/>
        </p:nvSpPr>
        <p:spPr>
          <a:xfrm>
            <a:off x="190800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698560" y="4005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701440" y="4653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699640" y="530064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>
            <a:hlinkClick r:id="rId3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39640" y="98100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p + 3q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p + 5q = -2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151080" y="2608200"/>
            <a:ext cx="205740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763640" y="2637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is  q = -1  &amp;  q = 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905480" y="335772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686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6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4140360" y="1268280"/>
            <a:ext cx="4463640" cy="840600"/>
            <a:chOff x="4140360" y="1268280"/>
            <a:chExt cx="4463640" cy="840600"/>
          </a:xfrm>
        </p:grpSpPr>
        <p:sp>
          <p:nvSpPr>
            <p:cNvPr id="704" name=""/>
            <p:cNvSpPr/>
            <p:nvPr/>
          </p:nvSpPr>
          <p:spPr>
            <a:xfrm>
              <a:off x="4140360" y="1268280"/>
              <a:ext cx="44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p  + 3q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46200" y="1649160"/>
              <a:ext cx="255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p  + 5q = -2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Eliminate either p’s or q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6372360" y="1197000"/>
            <a:ext cx="1447560" cy="835200"/>
            <a:chOff x="6372360" y="1197000"/>
            <a:chExt cx="1447560" cy="835200"/>
          </a:xfrm>
        </p:grpSpPr>
        <p:sp>
          <p:nvSpPr>
            <p:cNvPr id="708" name=""/>
            <p:cNvSpPr/>
            <p:nvPr/>
          </p:nvSpPr>
          <p:spPr>
            <a:xfrm>
              <a:off x="6372360" y="11970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372360" y="15724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10" name=""/>
          <p:cNvGraphicFramePr/>
          <p:nvPr/>
        </p:nvGraphicFramePr>
        <p:xfrm>
          <a:off x="4017960" y="3021120"/>
          <a:ext cx="2190600" cy="88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17960" y="3021120"/>
                    <a:ext cx="219060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"/>
          <p:cNvSpPr/>
          <p:nvPr/>
        </p:nvSpPr>
        <p:spPr>
          <a:xfrm>
            <a:off x="4142520" y="234936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211640" y="400536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4788000" y="4221000"/>
          <a:ext cx="1255680" cy="3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4221000"/>
                    <a:ext cx="12556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"/>
          <p:cNvSpPr/>
          <p:nvPr/>
        </p:nvSpPr>
        <p:spPr>
          <a:xfrm>
            <a:off x="6227640" y="29973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227640" y="350028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380360" y="1700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380360" y="11970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786360" y="294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696080" y="2852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740720" y="3429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236000" y="2924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805440" y="3500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254720" y="34815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227640" y="422100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236000" y="42210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05440" y="4221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643280" y="4869000"/>
            <a:ext cx="1656000" cy="442440"/>
            <a:chOff x="4643280" y="4869000"/>
            <a:chExt cx="1656000" cy="442440"/>
          </a:xfrm>
        </p:grpSpPr>
        <p:sp>
          <p:nvSpPr>
            <p:cNvPr id="730" name=""/>
            <p:cNvSpPr/>
            <p:nvPr/>
          </p:nvSpPr>
          <p:spPr>
            <a:xfrm>
              <a:off x="4643280" y="4879800"/>
              <a:ext cx="1656000" cy="431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31" name=""/>
            <p:cNvGraphicFramePr/>
            <p:nvPr/>
          </p:nvGraphicFramePr>
          <p:xfrm>
            <a:off x="5013360" y="4869000"/>
            <a:ext cx="836640" cy="39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3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13360" y="4869000"/>
                      <a:ext cx="836640" cy="39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33" name=""/>
          <p:cNvSpPr/>
          <p:nvPr/>
        </p:nvSpPr>
        <p:spPr>
          <a:xfrm>
            <a:off x="0" y="62064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p + 3q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p + 5q = -2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9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9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9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9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9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9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9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9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9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737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73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9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>
            <a:hlinkClick r:id="rId2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>
            <a:hlinkClick r:id="rId3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Substitute found value into either of origin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995640" y="2421000"/>
            <a:ext cx="46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-1 for q in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932360" y="2924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p + (- 3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59560" y="3327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p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11840" y="370836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 =3/5 = 0.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899320" y="4365720"/>
            <a:ext cx="205740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440240" y="439416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is  q = -1  &amp;  p = 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740720" y="24210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62064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p + 3q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p + 5q = -2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4356000" y="1268280"/>
            <a:ext cx="4463640" cy="840600"/>
            <a:chOff x="4356000" y="1268280"/>
            <a:chExt cx="4463640" cy="840600"/>
          </a:xfrm>
        </p:grpSpPr>
        <p:sp>
          <p:nvSpPr>
            <p:cNvPr id="764" name=""/>
            <p:cNvSpPr/>
            <p:nvPr/>
          </p:nvSpPr>
          <p:spPr>
            <a:xfrm>
              <a:off x="4356000" y="1268280"/>
              <a:ext cx="44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p  + 3q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461840" y="1649160"/>
              <a:ext cx="255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p  + 5q = -2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6588000" y="1197000"/>
            <a:ext cx="1447560" cy="835200"/>
            <a:chOff x="6588000" y="1197000"/>
            <a:chExt cx="1447560" cy="835200"/>
          </a:xfrm>
        </p:grpSpPr>
        <p:sp>
          <p:nvSpPr>
            <p:cNvPr id="767" name=""/>
            <p:cNvSpPr/>
            <p:nvPr/>
          </p:nvSpPr>
          <p:spPr>
            <a:xfrm>
              <a:off x="6588000" y="11970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588000" y="15724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7596360" y="1700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596360" y="11970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569480" y="5192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73080" y="1773360"/>
            <a:ext cx="4463640" cy="840600"/>
            <a:chOff x="73080" y="1773360"/>
            <a:chExt cx="4463640" cy="840600"/>
          </a:xfrm>
        </p:grpSpPr>
        <p:sp>
          <p:nvSpPr>
            <p:cNvPr id="782" name=""/>
            <p:cNvSpPr/>
            <p:nvPr/>
          </p:nvSpPr>
          <p:spPr>
            <a:xfrm>
              <a:off x="73080" y="1773360"/>
              <a:ext cx="44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p  + 3q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78920" y="2154240"/>
              <a:ext cx="255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p  + 5q = -2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0" y="765000"/>
            <a:ext cx="464328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Eliminate either p’s or q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305080" y="1701720"/>
            <a:ext cx="1447560" cy="835200"/>
            <a:chOff x="2305080" y="1701720"/>
            <a:chExt cx="1447560" cy="835200"/>
          </a:xfrm>
        </p:grpSpPr>
        <p:sp>
          <p:nvSpPr>
            <p:cNvPr id="786" name=""/>
            <p:cNvSpPr/>
            <p:nvPr/>
          </p:nvSpPr>
          <p:spPr>
            <a:xfrm>
              <a:off x="2305080" y="17017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05080" y="20772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88" name=""/>
          <p:cNvGraphicFramePr/>
          <p:nvPr/>
        </p:nvGraphicFramePr>
        <p:xfrm>
          <a:off x="-49320" y="3525840"/>
          <a:ext cx="2190960" cy="88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49320" y="3525840"/>
                    <a:ext cx="219096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75240" y="28544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44360" y="451008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720720" y="4726080"/>
          <a:ext cx="1255680" cy="393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0720" y="4726080"/>
                    <a:ext cx="12556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4" name=""/>
          <p:cNvSpPr/>
          <p:nvPr/>
        </p:nvSpPr>
        <p:spPr>
          <a:xfrm>
            <a:off x="2160720" y="35020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160720" y="400536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313080" y="220500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313080" y="170172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719080" y="3448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629160" y="3357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673440" y="39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168720" y="34290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738160" y="4005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87800" y="3986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160720" y="47260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168720" y="47260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738160" y="4726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576360" y="5373720"/>
            <a:ext cx="1655640" cy="442440"/>
            <a:chOff x="576360" y="5373720"/>
            <a:chExt cx="1655640" cy="442440"/>
          </a:xfrm>
        </p:grpSpPr>
        <p:sp>
          <p:nvSpPr>
            <p:cNvPr id="808" name=""/>
            <p:cNvSpPr/>
            <p:nvPr/>
          </p:nvSpPr>
          <p:spPr>
            <a:xfrm>
              <a:off x="576360" y="5384520"/>
              <a:ext cx="1655640" cy="431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9" name=""/>
            <p:cNvGraphicFramePr/>
            <p:nvPr/>
          </p:nvGraphicFramePr>
          <p:xfrm>
            <a:off x="946080" y="5373720"/>
            <a:ext cx="836280" cy="394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1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46080" y="5373720"/>
                      <a:ext cx="836280" cy="39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1" name=""/>
          <p:cNvSpPr/>
          <p:nvPr/>
        </p:nvSpPr>
        <p:spPr>
          <a:xfrm>
            <a:off x="5405040" y="549360"/>
            <a:ext cx="3460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“signs” ar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subtract to elimin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“signs”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dd to elimin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708360" y="1341360"/>
            <a:ext cx="1727280" cy="345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826560" y="1341360"/>
            <a:ext cx="4465800" cy="266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5417280" y="3213000"/>
            <a:ext cx="3729600" cy="1602720"/>
            <a:chOff x="5417280" y="3213000"/>
            <a:chExt cx="3729600" cy="1602720"/>
          </a:xfrm>
        </p:grpSpPr>
        <p:sp>
          <p:nvSpPr>
            <p:cNvPr id="815" name=""/>
            <p:cNvSpPr/>
            <p:nvPr/>
          </p:nvSpPr>
          <p:spPr>
            <a:xfrm>
              <a:off x="5417280" y="3213000"/>
              <a:ext cx="273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.g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x  +  3y 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x  +  3y 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346800" y="401004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251760" y="4356000"/>
              <a:ext cx="28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tract the equ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6732720" y="3068640"/>
            <a:ext cx="1079280" cy="122400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5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3000"/>
                            </p:stCondLst>
                            <p:childTnLst>
                              <p:par>
                                <p:cTn id="8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73080" y="1773360"/>
            <a:ext cx="4463640" cy="840600"/>
            <a:chOff x="73080" y="1773360"/>
            <a:chExt cx="4463640" cy="840600"/>
          </a:xfrm>
        </p:grpSpPr>
        <p:sp>
          <p:nvSpPr>
            <p:cNvPr id="829" name=""/>
            <p:cNvSpPr/>
            <p:nvPr/>
          </p:nvSpPr>
          <p:spPr>
            <a:xfrm>
              <a:off x="73080" y="1773360"/>
              <a:ext cx="44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p  + 3q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78920" y="2154240"/>
              <a:ext cx="255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p  + 5q = -2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0" y="765000"/>
            <a:ext cx="464328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Eliminate either p’s or q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2305080" y="1701720"/>
            <a:ext cx="1447560" cy="835200"/>
            <a:chOff x="2305080" y="1701720"/>
            <a:chExt cx="1447560" cy="835200"/>
          </a:xfrm>
        </p:grpSpPr>
        <p:sp>
          <p:nvSpPr>
            <p:cNvPr id="833" name=""/>
            <p:cNvSpPr/>
            <p:nvPr/>
          </p:nvSpPr>
          <p:spPr>
            <a:xfrm>
              <a:off x="2305080" y="17017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305080" y="20772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35" name=""/>
          <p:cNvGraphicFramePr/>
          <p:nvPr/>
        </p:nvGraphicFramePr>
        <p:xfrm>
          <a:off x="-49320" y="3525840"/>
          <a:ext cx="2190960" cy="88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49320" y="3525840"/>
                    <a:ext cx="219096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"/>
          <p:cNvSpPr/>
          <p:nvPr/>
        </p:nvSpPr>
        <p:spPr>
          <a:xfrm>
            <a:off x="75240" y="28544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4360" y="451008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720720" y="4726080"/>
          <a:ext cx="1255680" cy="393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0720" y="4726080"/>
                    <a:ext cx="12556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1" name=""/>
          <p:cNvSpPr/>
          <p:nvPr/>
        </p:nvSpPr>
        <p:spPr>
          <a:xfrm>
            <a:off x="2160720" y="35020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60720" y="400536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313080" y="220500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313080" y="170172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719080" y="3448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629160" y="3357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73440" y="39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168720" y="34290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738160" y="4005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187800" y="3986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160720" y="47260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168720" y="47260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738160" y="4726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576360" y="5373720"/>
            <a:ext cx="1655640" cy="442440"/>
            <a:chOff x="576360" y="5373720"/>
            <a:chExt cx="1655640" cy="442440"/>
          </a:xfrm>
        </p:grpSpPr>
        <p:sp>
          <p:nvSpPr>
            <p:cNvPr id="855" name=""/>
            <p:cNvSpPr/>
            <p:nvPr/>
          </p:nvSpPr>
          <p:spPr>
            <a:xfrm>
              <a:off x="576360" y="5384520"/>
              <a:ext cx="1655640" cy="431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6" name=""/>
            <p:cNvGraphicFramePr/>
            <p:nvPr/>
          </p:nvGraphicFramePr>
          <p:xfrm>
            <a:off x="946080" y="5373720"/>
            <a:ext cx="836280" cy="394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5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46080" y="5373720"/>
                      <a:ext cx="836280" cy="39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8" name=""/>
          <p:cNvSpPr/>
          <p:nvPr/>
        </p:nvSpPr>
        <p:spPr>
          <a:xfrm>
            <a:off x="5405040" y="549360"/>
            <a:ext cx="3460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“signs” ar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subtract to elimin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“signs”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dd to elimin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3708360" y="1341360"/>
            <a:ext cx="1727280" cy="345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826560" y="1341360"/>
            <a:ext cx="4465800" cy="266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5868360" y="3500280"/>
            <a:ext cx="3237840" cy="1602720"/>
            <a:chOff x="5868360" y="3500280"/>
            <a:chExt cx="3237840" cy="1602720"/>
          </a:xfrm>
        </p:grpSpPr>
        <p:sp>
          <p:nvSpPr>
            <p:cNvPr id="862" name=""/>
            <p:cNvSpPr/>
            <p:nvPr/>
          </p:nvSpPr>
          <p:spPr>
            <a:xfrm>
              <a:off x="5868360" y="3500280"/>
              <a:ext cx="274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.g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x  +  3y 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x   -  3y 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97520" y="4297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705000" y="464328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the equ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7308720" y="3284640"/>
            <a:ext cx="719280" cy="122400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897440" cy="4897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133200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133200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493236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4" action="ppaction://hlinksldjump"/>
          </p:cNvPr>
          <p:cNvSpPr/>
          <p:nvPr/>
        </p:nvSpPr>
        <p:spPr>
          <a:xfrm>
            <a:off x="493236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2200" y="6237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5440" y="558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4000" y="6237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26160" y="5589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16360" y="836640"/>
            <a:ext cx="442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agram shows the graph o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x + 2y = 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2060640"/>
            <a:ext cx="43560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 the diagram and on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 draw the graph o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2x – 2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ce sol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3x + 2y =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2x – 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96720" y="508464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x + 2y = 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205000"/>
            <a:ext cx="2665440" cy="2879640"/>
          </a:xfrm>
          <a:prstGeom prst="cloudCallout">
            <a:avLst>
              <a:gd name="adj1" fmla="val 117837"/>
              <a:gd name="adj2" fmla="val -3423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draw grap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 a table of values with at least 2 x-coordin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997360"/>
            <a:ext cx="3600360" cy="1871640"/>
          </a:xfrm>
          <a:prstGeom prst="cloudCallout">
            <a:avLst>
              <a:gd name="adj1" fmla="val 96074"/>
              <a:gd name="adj2" fmla="val -148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 and join points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lution is where lines c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69480" y="5084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>
            <a:hlinkClick r:id="rId1" action="ppaction://hlinksldjump"/>
          </p:cNvPr>
          <p:cNvSpPr/>
          <p:nvPr/>
        </p:nvSpPr>
        <p:spPr>
          <a:xfrm>
            <a:off x="1908000" y="3357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>
            <a:hlinkClick r:id="rId2" action="ppaction://hlinksldjump"/>
          </p:cNvPr>
          <p:cNvSpPr/>
          <p:nvPr/>
        </p:nvSpPr>
        <p:spPr>
          <a:xfrm>
            <a:off x="1908000" y="4005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>
            <a:hlinkClick r:id="rId3" action="ppaction://hlinksldjump"/>
          </p:cNvPr>
          <p:cNvSpPr/>
          <p:nvPr/>
        </p:nvSpPr>
        <p:spPr>
          <a:xfrm>
            <a:off x="1908000" y="465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>
            <a:hlinkClick r:id="rId4" action="ppaction://hlinksldjump"/>
          </p:cNvPr>
          <p:cNvSpPr/>
          <p:nvPr/>
        </p:nvSpPr>
        <p:spPr>
          <a:xfrm>
            <a:off x="190800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698560" y="4005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701440" y="4653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699640" y="530064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702520" y="3357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6"/>
          <a:stretch/>
        </p:blipFill>
        <p:spPr>
          <a:xfrm>
            <a:off x="5789520" y="2276640"/>
            <a:ext cx="3354480" cy="405108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50920" y="765000"/>
            <a:ext cx="7696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wo coffees &amp; three doughnuts cost £2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three coffees &amp; one doughnut cost £2.6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find the cost of two coffees &amp; five doughn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>
            <a:hlinkClick r:id="" action="ppaction://hlinkshowjump?jump=nextslide"/>
          </p:cNvPr>
          <p:cNvSpPr/>
          <p:nvPr/>
        </p:nvSpPr>
        <p:spPr>
          <a:xfrm>
            <a:off x="1908000" y="263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713680" y="2637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>
            <a:hlinkClick r:id="" action="ppaction://hlinkshowjump?jump=nextslide"/>
          </p:cNvPr>
          <p:cNvSpPr/>
          <p:nvPr/>
        </p:nvSpPr>
        <p:spPr>
          <a:xfrm>
            <a:off x="1908000" y="3357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>
            <a:hlinkClick r:id="rId1" action="ppaction://hlinksldjump"/>
          </p:cNvPr>
          <p:cNvSpPr/>
          <p:nvPr/>
        </p:nvSpPr>
        <p:spPr>
          <a:xfrm>
            <a:off x="1908000" y="4005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>
            <a:hlinkClick r:id="rId2" action="ppaction://hlinksldjump"/>
          </p:cNvPr>
          <p:cNvSpPr/>
          <p:nvPr/>
        </p:nvSpPr>
        <p:spPr>
          <a:xfrm>
            <a:off x="1908000" y="465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>
            <a:hlinkClick r:id="rId3" action="ppaction://hlinksldjump"/>
          </p:cNvPr>
          <p:cNvSpPr/>
          <p:nvPr/>
        </p:nvSpPr>
        <p:spPr>
          <a:xfrm>
            <a:off x="190800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698560" y="4005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701440" y="4653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699640" y="530064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702520" y="3357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>
            <a:hlinkClick r:id="rId4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5"/>
          <a:stretch/>
        </p:blipFill>
        <p:spPr>
          <a:xfrm>
            <a:off x="5789520" y="2276640"/>
            <a:ext cx="3354480" cy="405108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>
            <a:off x="250920" y="765000"/>
            <a:ext cx="7696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wo coffees &amp; three doughnuts cost £2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three coffees &amp; one doughnut cost £2.6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find the cost of two coffees &amp; five doughn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292720" y="2421000"/>
            <a:ext cx="3240000" cy="2232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 two equations, keeping costs in pence to avoid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003640" y="2637000"/>
            <a:ext cx="2953080" cy="2376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iminate either c’s or d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148360" y="3068640"/>
            <a:ext cx="3024000" cy="2521080"/>
          </a:xfrm>
          <a:prstGeom prst="cloudCallout">
            <a:avLst>
              <a:gd name="adj1" fmla="val -50421"/>
              <a:gd name="adj2" fmla="val 6026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found value into either of origin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003640" y="3357720"/>
            <a:ext cx="2953080" cy="1871640"/>
          </a:xfrm>
          <a:prstGeom prst="cloudCallout">
            <a:avLst>
              <a:gd name="adj1" fmla="val -43226"/>
              <a:gd name="adj2" fmla="val 9122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ember to answer the question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832760" y="270828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4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8" dur="500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9" dur="50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0" dur="5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>
            <a:hlinkClick r:id="" action="ppaction://hlinkshowjump?jump=nextslide"/>
          </p:cNvPr>
          <p:cNvSpPr/>
          <p:nvPr/>
        </p:nvSpPr>
        <p:spPr>
          <a:xfrm>
            <a:off x="1908000" y="4005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>
            <a:hlinkClick r:id="rId1" action="ppaction://hlinksldjump"/>
          </p:cNvPr>
          <p:cNvSpPr/>
          <p:nvPr/>
        </p:nvSpPr>
        <p:spPr>
          <a:xfrm>
            <a:off x="1908000" y="465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>
            <a:hlinkClick r:id="rId2" action="ppaction://hlinksldjump"/>
          </p:cNvPr>
          <p:cNvSpPr/>
          <p:nvPr/>
        </p:nvSpPr>
        <p:spPr>
          <a:xfrm>
            <a:off x="190800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698560" y="4005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701440" y="4653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699640" y="530064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>
            <a:hlinkClick r:id="rId3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4"/>
          <a:stretch/>
        </p:blipFill>
        <p:spPr>
          <a:xfrm>
            <a:off x="5789520" y="2276640"/>
            <a:ext cx="3354480" cy="405108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250920" y="765000"/>
            <a:ext cx="7696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wo coffees &amp; three doughnuts cost £2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three coffees &amp; one doughnut cost £2.6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find the cost of two coffees &amp; five doughn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>
            <a:hlinkClick r:id="rId5" action="ppaction://hlinksldjump"/>
          </p:cNvPr>
          <p:cNvSpPr/>
          <p:nvPr/>
        </p:nvSpPr>
        <p:spPr>
          <a:xfrm>
            <a:off x="1906560" y="3284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772360" y="328464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other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89080" y="2563920"/>
            <a:ext cx="434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coffees &amp; five doughn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427640" y="2565360"/>
            <a:ext cx="13842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£3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8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917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9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9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140360" y="1987560"/>
            <a:ext cx="4463640" cy="840600"/>
            <a:chOff x="4140360" y="1987560"/>
            <a:chExt cx="4463640" cy="840600"/>
          </a:xfrm>
        </p:grpSpPr>
        <p:sp>
          <p:nvSpPr>
            <p:cNvPr id="933" name=""/>
            <p:cNvSpPr/>
            <p:nvPr/>
          </p:nvSpPr>
          <p:spPr>
            <a:xfrm>
              <a:off x="4140360" y="1987560"/>
              <a:ext cx="44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c  + 3d = 2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246200" y="2368440"/>
              <a:ext cx="255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c  + 1d = 2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orm two equations, keeping costs in pence to avoid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6372360" y="1916280"/>
            <a:ext cx="1447560" cy="834840"/>
            <a:chOff x="6372360" y="1916280"/>
            <a:chExt cx="1447560" cy="834840"/>
          </a:xfrm>
        </p:grpSpPr>
        <p:sp>
          <p:nvSpPr>
            <p:cNvPr id="937" name=""/>
            <p:cNvSpPr/>
            <p:nvPr/>
          </p:nvSpPr>
          <p:spPr>
            <a:xfrm>
              <a:off x="6372360" y="191628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372360" y="22914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39" name=""/>
          <p:cNvGraphicFramePr/>
          <p:nvPr/>
        </p:nvGraphicFramePr>
        <p:xfrm>
          <a:off x="4189320" y="3813120"/>
          <a:ext cx="1846440" cy="88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89320" y="3813120"/>
                    <a:ext cx="18464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1" name=""/>
          <p:cNvSpPr/>
          <p:nvPr/>
        </p:nvSpPr>
        <p:spPr>
          <a:xfrm>
            <a:off x="4211640" y="479736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4861080" y="5037120"/>
          <a:ext cx="1108080" cy="34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61080" y="5037120"/>
                    <a:ext cx="11080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4" name=""/>
          <p:cNvSpPr/>
          <p:nvPr/>
        </p:nvSpPr>
        <p:spPr>
          <a:xfrm>
            <a:off x="6227640" y="37893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227640" y="429264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380360" y="24192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7380360" y="1916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786360" y="3735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696080" y="364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740720" y="4221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6000" y="371628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805440" y="4292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254720" y="42735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227640" y="50133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236000" y="501336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05440" y="5013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643280" y="5672160"/>
            <a:ext cx="1656000" cy="431640"/>
            <a:chOff x="4643280" y="5672160"/>
            <a:chExt cx="1656000" cy="431640"/>
          </a:xfrm>
        </p:grpSpPr>
        <p:sp>
          <p:nvSpPr>
            <p:cNvPr id="958" name=""/>
            <p:cNvSpPr/>
            <p:nvPr/>
          </p:nvSpPr>
          <p:spPr>
            <a:xfrm>
              <a:off x="4643280" y="5672160"/>
              <a:ext cx="1656000" cy="431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9" name=""/>
            <p:cNvGraphicFramePr/>
            <p:nvPr/>
          </p:nvGraphicFramePr>
          <p:xfrm>
            <a:off x="5024520" y="5684400"/>
            <a:ext cx="812520" cy="345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6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4520" y="5684400"/>
                      <a:ext cx="81252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61" name=""/>
          <p:cNvSpPr/>
          <p:nvPr/>
        </p:nvSpPr>
        <p:spPr>
          <a:xfrm>
            <a:off x="0" y="549360"/>
            <a:ext cx="7696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wo coffees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hree doughnuts cost £2.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hree coffe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&amp; one doughnut cost £2.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find the cos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wo coffees &amp; five doughnu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962520" y="1052640"/>
            <a:ext cx="5181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coffees cos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doughnu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  then we h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995640" y="285264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Eliminate either c’s or d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85080" y="501336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other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>
            <a:hlinkClick r:id="rId11" action="ppaction://hlinksldjump"/>
          </p:cNvPr>
          <p:cNvSpPr/>
          <p:nvPr/>
        </p:nvSpPr>
        <p:spPr>
          <a:xfrm>
            <a:off x="250920" y="5084640"/>
            <a:ext cx="433440" cy="28908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9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9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9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9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2000"/>
                            </p:stCondLst>
                            <p:childTnLst>
                              <p:par>
                                <p:cTn id="9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9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3000"/>
                            </p:stCondLst>
                            <p:childTnLst>
                              <p:par>
                                <p:cTn id="9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9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9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9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9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9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9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9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969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9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1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>
            <a:hlinkClick r:id="rId2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>
            <a:hlinkClick r:id="rId3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Substitute found value into either of origin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983040" y="318456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70 for c in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919760" y="368784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0 + d = 2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646600" y="409104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=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549360"/>
            <a:ext cx="39956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wo coffees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hree doughnuts cost £2.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hree coffe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&amp; one doughnut cost £2.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find the cos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wo coffees &amp; five doughnu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4356000" y="2203560"/>
            <a:ext cx="4463640" cy="840600"/>
            <a:chOff x="4356000" y="2203560"/>
            <a:chExt cx="4463640" cy="840600"/>
          </a:xfrm>
        </p:grpSpPr>
        <p:sp>
          <p:nvSpPr>
            <p:cNvPr id="990" name=""/>
            <p:cNvSpPr/>
            <p:nvPr/>
          </p:nvSpPr>
          <p:spPr>
            <a:xfrm>
              <a:off x="4356000" y="2203560"/>
              <a:ext cx="44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c  + 3d = 2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461840" y="2584440"/>
              <a:ext cx="255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c  + 1d = 2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6588000" y="2131920"/>
            <a:ext cx="1447560" cy="835200"/>
            <a:chOff x="6588000" y="2131920"/>
            <a:chExt cx="1447560" cy="835200"/>
          </a:xfrm>
        </p:grpSpPr>
        <p:sp>
          <p:nvSpPr>
            <p:cNvPr id="993" name=""/>
            <p:cNvSpPr/>
            <p:nvPr/>
          </p:nvSpPr>
          <p:spPr>
            <a:xfrm>
              <a:off x="6588000" y="21319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588000" y="25074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7596360" y="26352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7596360" y="213192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178160" y="1268280"/>
            <a:ext cx="5181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coffees cos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doughnu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  then we h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956720" y="32130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284720" y="4508640"/>
            <a:ext cx="434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coffees &amp; five doughn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979800" y="4889520"/>
            <a:ext cx="358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(2 x 70p)  +  (5 x 50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979800" y="5346720"/>
            <a:ext cx="358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£1.40  +  £2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995640" y="5805360"/>
            <a:ext cx="138456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£3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85080" y="501336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other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>
            <a:hlinkClick r:id="rId4" action="ppaction://hlinksldjump"/>
          </p:cNvPr>
          <p:cNvSpPr/>
          <p:nvPr/>
        </p:nvSpPr>
        <p:spPr>
          <a:xfrm>
            <a:off x="250920" y="5084640"/>
            <a:ext cx="433440" cy="28908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-2520" y="364500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3900"/>
                            </p:stCondLst>
                            <p:childTnLst>
                              <p:par>
                                <p:cTn id="1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4400"/>
                            </p:stCondLst>
                            <p:childTnLst>
                              <p:par>
                                <p:cTn id="1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4900"/>
                            </p:stCondLst>
                            <p:childTnLst>
                              <p:par>
                                <p:cTn id="10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400"/>
                            </p:stCondLst>
                            <p:childTnLst>
                              <p:par>
                                <p:cTn id="1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9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069520" y="476280"/>
            <a:ext cx="404244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 the two simultane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tions first by introducing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ter to represent the cost of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ffee ( c)  and a different le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represent the cost of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ghnut (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73080" y="2492280"/>
            <a:ext cx="4463640" cy="840600"/>
            <a:chOff x="73080" y="2492280"/>
            <a:chExt cx="4463640" cy="840600"/>
          </a:xfrm>
        </p:grpSpPr>
        <p:sp>
          <p:nvSpPr>
            <p:cNvPr id="1017" name=""/>
            <p:cNvSpPr/>
            <p:nvPr/>
          </p:nvSpPr>
          <p:spPr>
            <a:xfrm>
              <a:off x="73080" y="2492280"/>
              <a:ext cx="44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c  + 3d = 2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78920" y="2873160"/>
              <a:ext cx="255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c  + 1d = 2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"/>
          <p:cNvSpPr/>
          <p:nvPr/>
        </p:nvSpPr>
        <p:spPr>
          <a:xfrm>
            <a:off x="0" y="765000"/>
            <a:ext cx="464328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orm two equations, keeping costs in pence to avoid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2305080" y="2421000"/>
            <a:ext cx="1447560" cy="835200"/>
            <a:chOff x="2305080" y="2421000"/>
            <a:chExt cx="1447560" cy="835200"/>
          </a:xfrm>
        </p:grpSpPr>
        <p:sp>
          <p:nvSpPr>
            <p:cNvPr id="1021" name=""/>
            <p:cNvSpPr/>
            <p:nvPr/>
          </p:nvSpPr>
          <p:spPr>
            <a:xfrm>
              <a:off x="2305080" y="24210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305080" y="27964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23" name=""/>
          <p:cNvGraphicFramePr/>
          <p:nvPr/>
        </p:nvGraphicFramePr>
        <p:xfrm>
          <a:off x="122400" y="4317840"/>
          <a:ext cx="1846080" cy="88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2400" y="4317840"/>
                    <a:ext cx="18460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5" name=""/>
          <p:cNvSpPr/>
          <p:nvPr/>
        </p:nvSpPr>
        <p:spPr>
          <a:xfrm>
            <a:off x="144360" y="530208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793800" y="5541840"/>
          <a:ext cx="1108080" cy="344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3800" y="5541840"/>
                    <a:ext cx="11080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8" name=""/>
          <p:cNvSpPr/>
          <p:nvPr/>
        </p:nvSpPr>
        <p:spPr>
          <a:xfrm>
            <a:off x="2160720" y="429408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160720" y="47973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313080" y="292428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313080" y="242100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719080" y="4240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629160" y="4149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673440" y="4726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68720" y="42210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738160" y="479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187800" y="477828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160720" y="551808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168720" y="551808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738160" y="5518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576360" y="6176880"/>
            <a:ext cx="1655640" cy="432000"/>
            <a:chOff x="576360" y="6176880"/>
            <a:chExt cx="1655640" cy="432000"/>
          </a:xfrm>
        </p:grpSpPr>
        <p:sp>
          <p:nvSpPr>
            <p:cNvPr id="1042" name=""/>
            <p:cNvSpPr/>
            <p:nvPr/>
          </p:nvSpPr>
          <p:spPr>
            <a:xfrm>
              <a:off x="576360" y="6176880"/>
              <a:ext cx="1655640" cy="432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43" name=""/>
            <p:cNvGraphicFramePr/>
            <p:nvPr/>
          </p:nvGraphicFramePr>
          <p:xfrm>
            <a:off x="957240" y="6189480"/>
            <a:ext cx="812160" cy="346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4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57240" y="6189480"/>
                      <a:ext cx="8121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45" name=""/>
          <p:cNvSpPr/>
          <p:nvPr/>
        </p:nvSpPr>
        <p:spPr>
          <a:xfrm>
            <a:off x="-104760" y="1557360"/>
            <a:ext cx="5181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coffees cos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doughnu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  then we h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-71280" y="3357720"/>
            <a:ext cx="47145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Eliminate either c’s or d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718880" y="2995560"/>
            <a:ext cx="43459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i.e.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2c  +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3d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1d  +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2c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2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8028000" y="3789360"/>
            <a:ext cx="579600" cy="57636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362280" y="4365720"/>
            <a:ext cx="278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Note chang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pence eases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0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8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9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9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073120" y="476280"/>
            <a:ext cx="403956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e by elim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whichever variable it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make have the s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efficient in both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73080" y="2492280"/>
            <a:ext cx="4463640" cy="840600"/>
            <a:chOff x="73080" y="2492280"/>
            <a:chExt cx="4463640" cy="840600"/>
          </a:xfrm>
        </p:grpSpPr>
        <p:sp>
          <p:nvSpPr>
            <p:cNvPr id="1061" name=""/>
            <p:cNvSpPr/>
            <p:nvPr/>
          </p:nvSpPr>
          <p:spPr>
            <a:xfrm>
              <a:off x="73080" y="2492280"/>
              <a:ext cx="44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c  + 3d = 2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8920" y="2873160"/>
              <a:ext cx="255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c  + 1d = 2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0" y="765000"/>
            <a:ext cx="464328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orm two equations, keeping costs in pence to avoid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2305080" y="2421000"/>
            <a:ext cx="1447560" cy="835200"/>
            <a:chOff x="2305080" y="2421000"/>
            <a:chExt cx="1447560" cy="835200"/>
          </a:xfrm>
        </p:grpSpPr>
        <p:sp>
          <p:nvSpPr>
            <p:cNvPr id="1065" name=""/>
            <p:cNvSpPr/>
            <p:nvPr/>
          </p:nvSpPr>
          <p:spPr>
            <a:xfrm>
              <a:off x="2305080" y="24210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305080" y="27964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67" name=""/>
          <p:cNvGraphicFramePr/>
          <p:nvPr/>
        </p:nvGraphicFramePr>
        <p:xfrm>
          <a:off x="122400" y="4317840"/>
          <a:ext cx="1846080" cy="88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2400" y="4317840"/>
                    <a:ext cx="18460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9" name=""/>
          <p:cNvSpPr/>
          <p:nvPr/>
        </p:nvSpPr>
        <p:spPr>
          <a:xfrm>
            <a:off x="144360" y="530208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793800" y="5541840"/>
          <a:ext cx="1108080" cy="344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3800" y="5541840"/>
                    <a:ext cx="11080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2" name=""/>
          <p:cNvSpPr/>
          <p:nvPr/>
        </p:nvSpPr>
        <p:spPr>
          <a:xfrm>
            <a:off x="2160720" y="429408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160720" y="47973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313080" y="292428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313080" y="242100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719080" y="4240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629160" y="4149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673440" y="4726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168720" y="42210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738160" y="479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187800" y="477828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2160720" y="551808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168720" y="551808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738160" y="5518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576360" y="6176880"/>
            <a:ext cx="1655640" cy="432000"/>
            <a:chOff x="576360" y="6176880"/>
            <a:chExt cx="1655640" cy="432000"/>
          </a:xfrm>
        </p:grpSpPr>
        <p:sp>
          <p:nvSpPr>
            <p:cNvPr id="1086" name=""/>
            <p:cNvSpPr/>
            <p:nvPr/>
          </p:nvSpPr>
          <p:spPr>
            <a:xfrm>
              <a:off x="576360" y="6176880"/>
              <a:ext cx="1655640" cy="432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87" name=""/>
            <p:cNvGraphicFramePr/>
            <p:nvPr/>
          </p:nvGraphicFramePr>
          <p:xfrm>
            <a:off x="957240" y="6189480"/>
            <a:ext cx="812160" cy="346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8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57240" y="6189480"/>
                      <a:ext cx="8121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89" name=""/>
          <p:cNvSpPr/>
          <p:nvPr/>
        </p:nvSpPr>
        <p:spPr>
          <a:xfrm>
            <a:off x="-104760" y="1557360"/>
            <a:ext cx="5181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coffees cos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doughnu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  then we h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-71280" y="3357720"/>
            <a:ext cx="47145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Eliminate either c’s or d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3492000" y="907920"/>
            <a:ext cx="1584360" cy="302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8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4080"/>
                            </p:stCondLst>
                            <p:childTnLst>
                              <p:par>
                                <p:cTn id="1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87480" y="620640"/>
            <a:ext cx="462888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Substitute found value into either of origin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240" y="3544920"/>
            <a:ext cx="44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70 for c in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939960" y="40482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0 + d = 2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666800" y="44514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=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376200" y="2563920"/>
            <a:ext cx="4219200" cy="840600"/>
            <a:chOff x="376200" y="2563920"/>
            <a:chExt cx="4219200" cy="840600"/>
          </a:xfrm>
        </p:grpSpPr>
        <p:sp>
          <p:nvSpPr>
            <p:cNvPr id="1106" name=""/>
            <p:cNvSpPr/>
            <p:nvPr/>
          </p:nvSpPr>
          <p:spPr>
            <a:xfrm>
              <a:off x="376200" y="2563920"/>
              <a:ext cx="421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c  + 3d = 2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76280" y="2944800"/>
              <a:ext cx="241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c  + 1d = 2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8" name=""/>
          <p:cNvSpPr/>
          <p:nvPr/>
        </p:nvSpPr>
        <p:spPr>
          <a:xfrm>
            <a:off x="198360" y="1628640"/>
            <a:ext cx="4518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coffees cos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doughnu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 then we h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04920" y="4869000"/>
            <a:ext cx="4105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coffees &amp; five doughn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0" y="5249880"/>
            <a:ext cx="338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(2 x 70p)  +  (5 x 50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0" y="5707080"/>
            <a:ext cx="338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£1.40  +  £2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5840" y="6165720"/>
            <a:ext cx="130824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£3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073840" y="476280"/>
            <a:ext cx="3984480" cy="31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you have a valu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variable you can sub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value into any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tions to find th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ther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usually best to choose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tion that you were 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3059280" y="765000"/>
            <a:ext cx="2017440" cy="28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163120" y="3935520"/>
            <a:ext cx="32774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ember to answer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2987280" y="4076640"/>
            <a:ext cx="208908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0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1" dur="8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2" dur="8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3" dur="8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7040"/>
                            </p:stCondLst>
                            <p:childTnLst>
                              <p:par>
                                <p:cTn id="1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3" dur="8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4" dur="8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5" dur="8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440"/>
                            </p:stCondLst>
                            <p:childTnLst>
                              <p:par>
                                <p:cTn id="1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" descr=""/>
          <p:cNvPicPr/>
          <p:nvPr/>
        </p:nvPicPr>
        <p:blipFill>
          <a:blip r:embed="rId1"/>
          <a:stretch/>
        </p:blipFill>
        <p:spPr>
          <a:xfrm>
            <a:off x="7315200" y="1557360"/>
            <a:ext cx="1828800" cy="1411200"/>
          </a:xfrm>
          <a:prstGeom prst="rect">
            <a:avLst/>
          </a:prstGeom>
          <a:ln w="0">
            <a:noFill/>
          </a:ln>
        </p:spPr>
      </p:pic>
      <p:sp>
        <p:nvSpPr>
          <p:cNvPr id="1118" name=""/>
          <p:cNvSpPr/>
          <p:nvPr/>
        </p:nvSpPr>
        <p:spPr>
          <a:xfrm>
            <a:off x="108000" y="692280"/>
            <a:ext cx="882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mpany plan to introduce a new blend of tropical fruit drink made from bananas &amp; kiwis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produce three blends of the drink for market research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lend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ses 70% banana syrup, 30% kiwi syru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he cost per litre is 74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lend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s 55% banana syrup, 45% kiwi syrup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costs 71p per litre to produ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third blend is made using 75% banana syrup and 25% kiwi.  How does its cost compare to the other two ble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>
            <a:hlinkClick r:id="rId2" action="ppaction://hlinksldjump"/>
          </p:cNvPr>
          <p:cNvSpPr/>
          <p:nvPr/>
        </p:nvSpPr>
        <p:spPr>
          <a:xfrm>
            <a:off x="125892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>
            <a:hlinkClick r:id="rId3" action="ppaction://hlinksldjump"/>
          </p:cNvPr>
          <p:cNvSpPr/>
          <p:nvPr/>
        </p:nvSpPr>
        <p:spPr>
          <a:xfrm>
            <a:off x="125892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>
            <a:hlinkClick r:id="rId4" action="ppaction://hlinksldjump"/>
          </p:cNvPr>
          <p:cNvSpPr/>
          <p:nvPr/>
        </p:nvSpPr>
        <p:spPr>
          <a:xfrm>
            <a:off x="457200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>
            <a:hlinkClick r:id="rId5" action="ppaction://hlinksldjump"/>
          </p:cNvPr>
          <p:cNvSpPr/>
          <p:nvPr/>
        </p:nvSpPr>
        <p:spPr>
          <a:xfrm>
            <a:off x="457200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049120" y="63817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365080" y="573408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363640" y="638172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053800" y="57340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>
            <a:hlinkClick r:id="rId6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3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7"/>
          <a:stretch/>
        </p:blipFill>
        <p:spPr>
          <a:xfrm>
            <a:off x="7391520" y="4797360"/>
            <a:ext cx="1752480" cy="1452600"/>
          </a:xfrm>
          <a:prstGeom prst="rect">
            <a:avLst/>
          </a:prstGeom>
          <a:ln w="0">
            <a:noFill/>
          </a:ln>
        </p:spPr>
      </p:pic>
      <p:sp>
        <p:nvSpPr>
          <p:cNvPr id="1131" name="">
            <a:hlinkClick r:id="" action="ppaction://hlinkshowjump?jump=nextslide"/>
          </p:cNvPr>
          <p:cNvSpPr/>
          <p:nvPr/>
        </p:nvSpPr>
        <p:spPr>
          <a:xfrm>
            <a:off x="1246320" y="5157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051640" y="5157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7315200" y="1557360"/>
            <a:ext cx="1828800" cy="1411200"/>
          </a:xfrm>
          <a:prstGeom prst="rect">
            <a:avLst/>
          </a:prstGeom>
          <a:ln w="0">
            <a:noFill/>
          </a:ln>
        </p:spPr>
      </p:pic>
      <p:sp>
        <p:nvSpPr>
          <p:cNvPr id="1134" name=""/>
          <p:cNvSpPr/>
          <p:nvPr/>
        </p:nvSpPr>
        <p:spPr>
          <a:xfrm>
            <a:off x="108000" y="692280"/>
            <a:ext cx="882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mpany plan to introduce a new blend of tropical fruit drink made from bananas &amp; kiwis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produce three blends of the drink for market research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lend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ses 70% banana syrup, 30% kiwi syru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he cost per litre is 74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lend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s 55% banana syrup, 45% kiwi syrup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costs 71p per litre to produ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third blend is made using 75% banana syrup and 25% kiwi.  How does its cost compare to the other two ble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>
            <a:hlinkClick r:id="" action="ppaction://hlinkshowjump?jump=nextslide"/>
          </p:cNvPr>
          <p:cNvSpPr/>
          <p:nvPr/>
        </p:nvSpPr>
        <p:spPr>
          <a:xfrm>
            <a:off x="125892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>
            <a:hlinkClick r:id="rId2" action="ppaction://hlinksldjump"/>
          </p:cNvPr>
          <p:cNvSpPr/>
          <p:nvPr/>
        </p:nvSpPr>
        <p:spPr>
          <a:xfrm>
            <a:off x="125892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>
            <a:hlinkClick r:id="rId3" action="ppaction://hlinksldjump"/>
          </p:cNvPr>
          <p:cNvSpPr/>
          <p:nvPr/>
        </p:nvSpPr>
        <p:spPr>
          <a:xfrm>
            <a:off x="457200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>
            <a:hlinkClick r:id="rId4" action="ppaction://hlinksldjump"/>
          </p:cNvPr>
          <p:cNvSpPr/>
          <p:nvPr/>
        </p:nvSpPr>
        <p:spPr>
          <a:xfrm>
            <a:off x="457200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049120" y="6237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365080" y="558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363640" y="6237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053800" y="5589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3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" descr=""/>
          <p:cNvPicPr/>
          <p:nvPr/>
        </p:nvPicPr>
        <p:blipFill>
          <a:blip r:embed="rId6"/>
          <a:stretch/>
        </p:blipFill>
        <p:spPr>
          <a:xfrm>
            <a:off x="7391520" y="4797360"/>
            <a:ext cx="1752480" cy="145260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5796000" y="2997360"/>
            <a:ext cx="3240000" cy="2592360"/>
          </a:xfrm>
          <a:prstGeom prst="cloudCallout">
            <a:avLst>
              <a:gd name="adj1" fmla="val -62592"/>
              <a:gd name="adj2" fmla="val 4497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 two equations, eliminating decimals wherever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614920" y="2852640"/>
            <a:ext cx="2952720" cy="2376720"/>
          </a:xfrm>
          <a:prstGeom prst="cloudCallout">
            <a:avLst>
              <a:gd name="adj1" fmla="val -64462"/>
              <a:gd name="adj2" fmla="val 6088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iminate either c’s or d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759280" y="3284640"/>
            <a:ext cx="3024360" cy="2520720"/>
          </a:xfrm>
          <a:prstGeom prst="cloudCallout">
            <a:avLst>
              <a:gd name="adj1" fmla="val -54462"/>
              <a:gd name="adj2" fmla="val 4005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found value into either of origin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614920" y="3573360"/>
            <a:ext cx="2952720" cy="1871640"/>
          </a:xfrm>
          <a:prstGeom prst="cloudCallout">
            <a:avLst>
              <a:gd name="adj1" fmla="val -32421"/>
              <a:gd name="adj2" fmla="val 5695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ember to answer the question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24400" y="5084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0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7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1" dur="500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2" dur="500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3" dur="500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4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5040360" cy="4411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>
            <a:off x="1368360" y="907560"/>
            <a:ext cx="2303640" cy="381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68720" y="1413000"/>
            <a:ext cx="216000" cy="21564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55640" y="393228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48000" y="2276640"/>
            <a:ext cx="504720" cy="431640"/>
          </a:xfrm>
          <a:prstGeom prst="ellipse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133200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493236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2200" y="6237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440" y="558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24000" y="6237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836640"/>
            <a:ext cx="442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agram shows the graph o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x + 2y = 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2060640"/>
            <a:ext cx="43560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 the diagram and on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 draw the graph o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2x – 2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ce sol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3x + 2y =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2x – 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68360" y="508464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x + 2y = 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4941720"/>
            <a:ext cx="2133720" cy="457200"/>
          </a:xfrm>
          <a:prstGeom prst="rect">
            <a:avLst/>
          </a:prstGeom>
          <a:solidFill>
            <a:srgbClr val="ff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9417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ution is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= 3   &amp;   y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493236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133200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7800" y="55897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other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69480" y="5084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" descr=""/>
          <p:cNvPicPr/>
          <p:nvPr/>
        </p:nvPicPr>
        <p:blipFill>
          <a:blip r:embed="rId1"/>
          <a:stretch/>
        </p:blipFill>
        <p:spPr>
          <a:xfrm>
            <a:off x="7315200" y="1557360"/>
            <a:ext cx="1828800" cy="1411200"/>
          </a:xfrm>
          <a:prstGeom prst="rect">
            <a:avLst/>
          </a:prstGeom>
          <a:ln w="0">
            <a:noFill/>
          </a:ln>
        </p:spPr>
      </p:pic>
      <p:sp>
        <p:nvSpPr>
          <p:cNvPr id="1153" name=""/>
          <p:cNvSpPr/>
          <p:nvPr/>
        </p:nvSpPr>
        <p:spPr>
          <a:xfrm>
            <a:off x="108000" y="692280"/>
            <a:ext cx="882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mpany plan to introduce a new blend of tropical fruit drink made from bananas &amp; kiwis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produce three blends of the drink for market research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lend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ses 70% banana syrup, 30% kiwi syru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he cost per litre is 74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lend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s 55% banana syrup, 45% kiwi syrup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costs 71p per litre to produ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third blend is made using 75% banana syrup and 25% kiwi.  How does its cost compare to the other two ble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>
            <a:hlinkClick r:id="" action="ppaction://hlinkshowjump?jump=nextslide"/>
          </p:cNvPr>
          <p:cNvSpPr/>
          <p:nvPr/>
        </p:nvSpPr>
        <p:spPr>
          <a:xfrm>
            <a:off x="125892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>
            <a:hlinkClick r:id="rId2" action="ppaction://hlinksldjump"/>
          </p:cNvPr>
          <p:cNvSpPr/>
          <p:nvPr/>
        </p:nvSpPr>
        <p:spPr>
          <a:xfrm>
            <a:off x="493236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>
            <a:hlinkClick r:id="rId3" action="ppaction://hlinksldjump"/>
          </p:cNvPr>
          <p:cNvSpPr/>
          <p:nvPr/>
        </p:nvSpPr>
        <p:spPr>
          <a:xfrm>
            <a:off x="493236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049120" y="6237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436720" y="558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434920" y="6237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>
            <a:hlinkClick r:id="rId4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3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3" name="" descr=""/>
          <p:cNvPicPr/>
          <p:nvPr/>
        </p:nvPicPr>
        <p:blipFill>
          <a:blip r:embed="rId5"/>
          <a:stretch/>
        </p:blipFill>
        <p:spPr>
          <a:xfrm>
            <a:off x="7391520" y="4797360"/>
            <a:ext cx="1752480" cy="1452600"/>
          </a:xfrm>
          <a:prstGeom prst="rect">
            <a:avLst/>
          </a:prstGeom>
          <a:ln w="0">
            <a:noFill/>
          </a:ln>
        </p:spPr>
      </p:pic>
      <p:sp>
        <p:nvSpPr>
          <p:cNvPr id="1164" name=""/>
          <p:cNvSpPr/>
          <p:nvPr/>
        </p:nvSpPr>
        <p:spPr>
          <a:xfrm>
            <a:off x="250920" y="5157720"/>
            <a:ext cx="4392360" cy="703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this blend is more expensive than the other tw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0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1" dur="80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2" dur="80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80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168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1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2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4140360" y="1987560"/>
            <a:ext cx="5832000" cy="840600"/>
            <a:chOff x="4140360" y="1987560"/>
            <a:chExt cx="5832000" cy="840600"/>
          </a:xfrm>
        </p:grpSpPr>
        <p:sp>
          <p:nvSpPr>
            <p:cNvPr id="1186" name=""/>
            <p:cNvSpPr/>
            <p:nvPr/>
          </p:nvSpPr>
          <p:spPr>
            <a:xfrm>
              <a:off x="4140360" y="1987560"/>
              <a:ext cx="58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70B  + 0.30K = 7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278600" y="2368440"/>
              <a:ext cx="33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55B  + 0.45K = 7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orm two equations, keeping costs in pence to avoid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7020000" y="1949400"/>
            <a:ext cx="1447560" cy="835200"/>
            <a:chOff x="7020000" y="1949400"/>
            <a:chExt cx="1447560" cy="835200"/>
          </a:xfrm>
        </p:grpSpPr>
        <p:sp>
          <p:nvSpPr>
            <p:cNvPr id="1190" name=""/>
            <p:cNvSpPr/>
            <p:nvPr/>
          </p:nvSpPr>
          <p:spPr>
            <a:xfrm>
              <a:off x="7020000" y="19494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020000" y="23248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10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92" name=""/>
          <p:cNvGraphicFramePr/>
          <p:nvPr/>
        </p:nvGraphicFramePr>
        <p:xfrm>
          <a:off x="4059360" y="3405240"/>
          <a:ext cx="2438280" cy="93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59360" y="3405240"/>
                    <a:ext cx="24382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4" name=""/>
          <p:cNvSpPr/>
          <p:nvPr/>
        </p:nvSpPr>
        <p:spPr>
          <a:xfrm>
            <a:off x="6489720" y="34290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489720" y="3932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7956720" y="24192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956720" y="1916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975360" y="337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7885080" y="3284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7929720" y="3860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424640" y="335592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6994440" y="3932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7443720" y="391320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3995640" y="285264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Get rid of dec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08000" y="620640"/>
            <a:ext cx="388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lend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s 70% banana syrup, 30% kiwi syru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cost per litre is 74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lend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55% banana syrup, 45% kiwi syrup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osts 71p per litre to produ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hird blend is made using 75% banana syrup and 25% kiwi.  How does its cost compare to the other two blen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067280" y="1052640"/>
            <a:ext cx="480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one litre of banana syrup cos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&amp; one litre of kiwi syrup cos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0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9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9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8" dur="80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9" dur="80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0" dur="80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9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9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9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9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9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9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9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210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2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2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4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7" name=""/>
          <p:cNvGraphicFramePr/>
          <p:nvPr/>
        </p:nvGraphicFramePr>
        <p:xfrm>
          <a:off x="4140360" y="836640"/>
          <a:ext cx="2438280" cy="93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836640"/>
                    <a:ext cx="24382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9" name=""/>
          <p:cNvGraphicFramePr/>
          <p:nvPr/>
        </p:nvGraphicFramePr>
        <p:xfrm>
          <a:off x="4932360" y="3429000"/>
          <a:ext cx="1477800" cy="34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3429000"/>
                    <a:ext cx="14778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1" name=""/>
          <p:cNvSpPr/>
          <p:nvPr/>
        </p:nvSpPr>
        <p:spPr>
          <a:xfrm>
            <a:off x="6570720" y="8604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570720" y="13636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146720" y="2152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093080" y="83664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961400" y="2060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596360" y="213372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732720" y="335772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740720" y="335772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310160" y="3357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4859280" y="3933720"/>
            <a:ext cx="1656000" cy="432000"/>
            <a:chOff x="4859280" y="3933720"/>
            <a:chExt cx="1656000" cy="432000"/>
          </a:xfrm>
        </p:grpSpPr>
        <p:sp>
          <p:nvSpPr>
            <p:cNvPr id="1241" name=""/>
            <p:cNvSpPr/>
            <p:nvPr/>
          </p:nvSpPr>
          <p:spPr>
            <a:xfrm>
              <a:off x="4859280" y="3933720"/>
              <a:ext cx="1656000" cy="432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42" name=""/>
            <p:cNvGraphicFramePr/>
            <p:nvPr/>
          </p:nvGraphicFramePr>
          <p:xfrm>
            <a:off x="5216400" y="3946320"/>
            <a:ext cx="862200" cy="346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4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216400" y="3946320"/>
                      <a:ext cx="8622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44" name=""/>
          <p:cNvSpPr/>
          <p:nvPr/>
        </p:nvSpPr>
        <p:spPr>
          <a:xfrm>
            <a:off x="108000" y="620640"/>
            <a:ext cx="388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lend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s 70% banana syrup, 30% kiwi syru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cost per litre is 74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lend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55% banana syrup, 45% kiwi syrup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osts 71p per litre to produ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hird blend is made using 75% banana syrup and 25% kiwi.  How does its cost compare to the other two blen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995640" y="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 Eliminate either B’s or K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6" name=""/>
          <p:cNvGraphicFramePr/>
          <p:nvPr/>
        </p:nvGraphicFramePr>
        <p:xfrm>
          <a:off x="4016520" y="2205000"/>
          <a:ext cx="2685960" cy="93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16520" y="2205000"/>
                    <a:ext cx="26859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8" name=""/>
          <p:cNvSpPr/>
          <p:nvPr/>
        </p:nvSpPr>
        <p:spPr>
          <a:xfrm>
            <a:off x="4211640" y="3213000"/>
            <a:ext cx="2305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659640" y="213372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6659640" y="26370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0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9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9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9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9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9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9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9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9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9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254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25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6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>
            <a:hlinkClick r:id="rId2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>
            <a:hlinkClick r:id="rId3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140360" y="836640"/>
          <a:ext cx="2438280" cy="93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40360" y="836640"/>
                    <a:ext cx="24382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3" name=""/>
          <p:cNvSpPr/>
          <p:nvPr/>
        </p:nvSpPr>
        <p:spPr>
          <a:xfrm>
            <a:off x="6570720" y="8604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570720" y="13636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093080" y="83664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08000" y="620640"/>
            <a:ext cx="388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lend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s 70% banana syrup, 30% kiwi syru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cost per litre is 74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lend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55% banana syrup, 45% kiwi syrup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osts 71p per litre to produ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hird blend is made using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75% banana syrup and 25% kiw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How does its cost compare to the other two blen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995640" y="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Substitute found value into an equation without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140360" y="198900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80 for B in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076720" y="249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60 + 3K = 7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5803920" y="2895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K = 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8028000" y="19890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796000" y="3357720"/>
            <a:ext cx="129528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=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4067280" y="3933720"/>
            <a:ext cx="507672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Use these values to answer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822840" y="44146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%B+25%K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880240" y="4414680"/>
            <a:ext cx="3263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.75 x 80p)+(0.25 x 60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724360" y="48690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 60p  +  15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5724360" y="52340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75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067280" y="5661000"/>
            <a:ext cx="4681440" cy="703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this blend is more expensive than the other tw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059280" y="1916280"/>
            <a:ext cx="576000" cy="57600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826920" y="1052640"/>
            <a:ext cx="576360" cy="57600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7236000" y="3357720"/>
            <a:ext cx="1655640" cy="431640"/>
            <a:chOff x="7236000" y="3357720"/>
            <a:chExt cx="1655640" cy="431640"/>
          </a:xfrm>
        </p:grpSpPr>
        <p:sp>
          <p:nvSpPr>
            <p:cNvPr id="1292" name=""/>
            <p:cNvSpPr/>
            <p:nvPr/>
          </p:nvSpPr>
          <p:spPr>
            <a:xfrm>
              <a:off x="7236000" y="3357720"/>
              <a:ext cx="1655640" cy="431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93" name=""/>
            <p:cNvGraphicFramePr/>
            <p:nvPr/>
          </p:nvGraphicFramePr>
          <p:xfrm>
            <a:off x="7592760" y="3369960"/>
            <a:ext cx="861840" cy="345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9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592760" y="3369960"/>
                      <a:ext cx="86184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95" name=""/>
          <p:cNvSpPr/>
          <p:nvPr/>
        </p:nvSpPr>
        <p:spPr>
          <a:xfrm>
            <a:off x="-2520" y="4076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0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8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7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2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500"/>
                            </p:stCondLst>
                            <p:childTnLst>
                              <p:par>
                                <p:cTn id="15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00"/>
                            </p:stCondLst>
                            <p:childTnLst>
                              <p:par>
                                <p:cTn id="15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2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297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73080" y="2492280"/>
            <a:ext cx="5832000" cy="840600"/>
            <a:chOff x="73080" y="2492280"/>
            <a:chExt cx="5832000" cy="840600"/>
          </a:xfrm>
        </p:grpSpPr>
        <p:sp>
          <p:nvSpPr>
            <p:cNvPr id="1306" name=""/>
            <p:cNvSpPr/>
            <p:nvPr/>
          </p:nvSpPr>
          <p:spPr>
            <a:xfrm>
              <a:off x="73080" y="2492280"/>
              <a:ext cx="58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70B  + 0.30K = 7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11320" y="2873160"/>
              <a:ext cx="33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55B  + 0.45K = 7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8" name=""/>
          <p:cNvSpPr/>
          <p:nvPr/>
        </p:nvSpPr>
        <p:spPr>
          <a:xfrm>
            <a:off x="0" y="765000"/>
            <a:ext cx="47163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orm two equations, keeping costs in pence to avoid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2952720" y="2454120"/>
            <a:ext cx="1447560" cy="835200"/>
            <a:chOff x="2952720" y="2454120"/>
            <a:chExt cx="1447560" cy="835200"/>
          </a:xfrm>
        </p:grpSpPr>
        <p:sp>
          <p:nvSpPr>
            <p:cNvPr id="1310" name=""/>
            <p:cNvSpPr/>
            <p:nvPr/>
          </p:nvSpPr>
          <p:spPr>
            <a:xfrm>
              <a:off x="2952720" y="24541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952720" y="2829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10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12" name=""/>
          <p:cNvGraphicFramePr/>
          <p:nvPr/>
        </p:nvGraphicFramePr>
        <p:xfrm>
          <a:off x="-7920" y="3909960"/>
          <a:ext cx="2438280" cy="93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7920" y="3909960"/>
                    <a:ext cx="24382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4" name=""/>
          <p:cNvSpPr/>
          <p:nvPr/>
        </p:nvSpPr>
        <p:spPr>
          <a:xfrm>
            <a:off x="2422440" y="393372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422440" y="443700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889440" y="2924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889440" y="24210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908080" y="3879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3817800" y="3789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862440" y="4365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357720" y="386064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927160" y="4437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3376440" y="441792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-71280" y="3357720"/>
            <a:ext cx="47876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Get rid of dec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0" y="1557360"/>
            <a:ext cx="480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one litre of banana syrup cos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&amp; one litre of kiwi syrup cos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780800" y="476280"/>
            <a:ext cx="439596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 the two simultane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tions first by introducing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ter to represent the cost per l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banana syrup  ( B)  and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letter to represen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per litre of  kiwis fruit (K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1835280" y="981000"/>
            <a:ext cx="2952720" cy="129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789080" y="2997360"/>
            <a:ext cx="41216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i.e.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0.70 B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+  0.30K   =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0.55B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+  0.45K   =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788000" y="4149720"/>
            <a:ext cx="273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Multiply all terms by 100 to remove dec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6156360" y="3645000"/>
            <a:ext cx="216000" cy="57600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8100720" y="3573360"/>
            <a:ext cx="406440" cy="57636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7093080" y="422100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Note change to pence eases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0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9" dur="80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0" dur="80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1" dur="80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6600"/>
                            </p:stCondLst>
                            <p:childTnLst>
                              <p:par>
                                <p:cTn id="15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9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9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3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334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2" name=""/>
          <p:cNvGraphicFramePr/>
          <p:nvPr/>
        </p:nvGraphicFramePr>
        <p:xfrm>
          <a:off x="360360" y="1528920"/>
          <a:ext cx="2438280" cy="93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0360" y="1528920"/>
                    <a:ext cx="24382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4" name=""/>
          <p:cNvGraphicFramePr/>
          <p:nvPr/>
        </p:nvGraphicFramePr>
        <p:xfrm>
          <a:off x="1152360" y="4121280"/>
          <a:ext cx="1478160" cy="344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2360" y="4121280"/>
                    <a:ext cx="147816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"/>
          <p:cNvSpPr/>
          <p:nvPr/>
        </p:nvSpPr>
        <p:spPr>
          <a:xfrm>
            <a:off x="2790720" y="155268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790720" y="20559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3367080" y="2844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313080" y="1528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4181400" y="2752560"/>
            <a:ext cx="895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816360" y="282564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2952720" y="404964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960720" y="404964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1079640" y="4626000"/>
            <a:ext cx="1655640" cy="431640"/>
            <a:chOff x="1079640" y="4626000"/>
            <a:chExt cx="1655640" cy="431640"/>
          </a:xfrm>
        </p:grpSpPr>
        <p:sp>
          <p:nvSpPr>
            <p:cNvPr id="1355" name=""/>
            <p:cNvSpPr/>
            <p:nvPr/>
          </p:nvSpPr>
          <p:spPr>
            <a:xfrm>
              <a:off x="1079640" y="4626000"/>
              <a:ext cx="1655640" cy="431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56" name=""/>
            <p:cNvGraphicFramePr/>
            <p:nvPr/>
          </p:nvGraphicFramePr>
          <p:xfrm>
            <a:off x="1436400" y="4638240"/>
            <a:ext cx="861840" cy="3459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5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36400" y="4638240"/>
                      <a:ext cx="86184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58" name=""/>
          <p:cNvSpPr/>
          <p:nvPr/>
        </p:nvSpPr>
        <p:spPr>
          <a:xfrm>
            <a:off x="34920" y="692280"/>
            <a:ext cx="46083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 Eliminate either B’s or K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9" name=""/>
          <p:cNvGraphicFramePr/>
          <p:nvPr/>
        </p:nvGraphicFramePr>
        <p:xfrm>
          <a:off x="236520" y="2897280"/>
          <a:ext cx="2685960" cy="934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6520" y="2897280"/>
                    <a:ext cx="26859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1" name=""/>
          <p:cNvSpPr/>
          <p:nvPr/>
        </p:nvSpPr>
        <p:spPr>
          <a:xfrm>
            <a:off x="431640" y="3905280"/>
            <a:ext cx="2305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879640" y="282564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879640" y="332892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350520" y="3875040"/>
            <a:ext cx="7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5073120" y="476280"/>
            <a:ext cx="403956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e by elim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whichever variable it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make have the s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efficient in both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3851280" y="907920"/>
            <a:ext cx="1225440" cy="217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fill="hold">
                      <p:stCondLst>
                        <p:cond delay="0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9" dur="80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0" dur="80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1" dur="80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4080"/>
                            </p:stCondLst>
                            <p:childTnLst>
                              <p:par>
                                <p:cTn id="1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5073840" y="476280"/>
            <a:ext cx="3984480" cy="31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you have a valu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variable you can sub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value into any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tions to find th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ther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usually best to choose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tion that you were 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163120" y="3935520"/>
            <a:ext cx="32774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ember to answer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8" name=""/>
          <p:cNvGraphicFramePr/>
          <p:nvPr/>
        </p:nvGraphicFramePr>
        <p:xfrm>
          <a:off x="144360" y="1557360"/>
          <a:ext cx="2438640" cy="93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360" y="1557360"/>
                    <a:ext cx="24386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0" name=""/>
          <p:cNvSpPr/>
          <p:nvPr/>
        </p:nvSpPr>
        <p:spPr>
          <a:xfrm>
            <a:off x="2575080" y="158112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575080" y="20844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097080" y="1557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-36360" y="765000"/>
            <a:ext cx="46796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Substitute found value into an equation without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144360" y="2708280"/>
            <a:ext cx="46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80 for B in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081080" y="32115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60 + 3K = 7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808280" y="35733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K = 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032360" y="2708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763640" y="3968640"/>
            <a:ext cx="12956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=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4920" y="4437000"/>
            <a:ext cx="507672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Use these values to answer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-173160" y="491796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%B+25%K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1884240" y="4917960"/>
            <a:ext cx="3264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.75 x 80p)+(0.25 x 60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728720" y="537228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 60p  +  15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728720" y="57373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75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71280" y="6164280"/>
            <a:ext cx="4681800" cy="703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this blend is more expensive than the other tw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3132000" y="3933720"/>
            <a:ext cx="1656000" cy="432000"/>
            <a:chOff x="3132000" y="3933720"/>
            <a:chExt cx="1656000" cy="432000"/>
          </a:xfrm>
        </p:grpSpPr>
        <p:sp>
          <p:nvSpPr>
            <p:cNvPr id="1396" name=""/>
            <p:cNvSpPr/>
            <p:nvPr/>
          </p:nvSpPr>
          <p:spPr>
            <a:xfrm>
              <a:off x="3132000" y="3933720"/>
              <a:ext cx="1656000" cy="432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97" name=""/>
            <p:cNvGraphicFramePr/>
            <p:nvPr/>
          </p:nvGraphicFramePr>
          <p:xfrm>
            <a:off x="3489120" y="3946320"/>
            <a:ext cx="862200" cy="346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9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89120" y="3946320"/>
                      <a:ext cx="8622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99" name=""/>
          <p:cNvSpPr/>
          <p:nvPr/>
        </p:nvSpPr>
        <p:spPr>
          <a:xfrm flipH="1">
            <a:off x="3348000" y="765000"/>
            <a:ext cx="1728720" cy="194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4140000" y="4076640"/>
            <a:ext cx="936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0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3" dur="80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4" dur="80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5" dur="80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7040"/>
                            </p:stCondLst>
                            <p:childTnLst>
                              <p:par>
                                <p:cTn id="1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5" dur="80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6" dur="80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7" dur="80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1440"/>
                            </p:stCondLst>
                            <p:childTnLst>
                              <p:par>
                                <p:cTn id="16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>
            <a:hlinkClick r:id="rId1" action="ppaction://hlinksldjump"/>
          </p:cNvPr>
          <p:cNvSpPr/>
          <p:nvPr/>
        </p:nvSpPr>
        <p:spPr>
          <a:xfrm>
            <a:off x="125892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>
            <a:hlinkClick r:id="rId2" action="ppaction://hlinksldjump"/>
          </p:cNvPr>
          <p:cNvSpPr/>
          <p:nvPr/>
        </p:nvSpPr>
        <p:spPr>
          <a:xfrm>
            <a:off x="125892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>
            <a:hlinkClick r:id="rId3" action="ppaction://hlinksldjump"/>
          </p:cNvPr>
          <p:cNvSpPr/>
          <p:nvPr/>
        </p:nvSpPr>
        <p:spPr>
          <a:xfrm>
            <a:off x="457200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>
            <a:hlinkClick r:id="rId4" action="ppaction://hlinksldjump"/>
          </p:cNvPr>
          <p:cNvSpPr/>
          <p:nvPr/>
        </p:nvSpPr>
        <p:spPr>
          <a:xfrm>
            <a:off x="457200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049120" y="63817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365080" y="573408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363640" y="638172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053800" y="57340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0" y="620640"/>
            <a:ext cx="88390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bonacci Sequenc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s formed as follows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rt with two term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 first two to obtain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&amp;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o obtain 4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&amp; 4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o obtain 5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g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rting with 3 &amp; 7, next four terms are  10, 17, 27 &amp; 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the first two terms of such a sequence are P and Q then find expressions for the next 4 terms in their simples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the 5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&amp; 6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erms are 8 and 11 respectively then write down two equations in P and Q and hence find the values of P and 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>
            <a:hlinkClick r:id="" action="ppaction://hlinkshowjump?jump=nextslide"/>
          </p:cNvPr>
          <p:cNvSpPr/>
          <p:nvPr/>
        </p:nvSpPr>
        <p:spPr>
          <a:xfrm>
            <a:off x="1246320" y="5157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2051640" y="5157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>
            <a:hlinkClick r:id="" action="ppaction://hlinkshowjump?jump=nextslide"/>
          </p:cNvPr>
          <p:cNvSpPr/>
          <p:nvPr/>
        </p:nvSpPr>
        <p:spPr>
          <a:xfrm>
            <a:off x="1258920" y="56610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>
            <a:hlinkClick r:id="rId1" action="ppaction://hlinksldjump"/>
          </p:cNvPr>
          <p:cNvSpPr/>
          <p:nvPr/>
        </p:nvSpPr>
        <p:spPr>
          <a:xfrm>
            <a:off x="125892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>
            <a:hlinkClick r:id="rId2" action="ppaction://hlinksldjump"/>
          </p:cNvPr>
          <p:cNvSpPr/>
          <p:nvPr/>
        </p:nvSpPr>
        <p:spPr>
          <a:xfrm>
            <a:off x="457200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>
            <a:hlinkClick r:id="rId3" action="ppaction://hlinksldjump"/>
          </p:cNvPr>
          <p:cNvSpPr/>
          <p:nvPr/>
        </p:nvSpPr>
        <p:spPr>
          <a:xfrm>
            <a:off x="457200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2049120" y="6237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365080" y="558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5363640" y="6237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053800" y="566100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>
            <a:hlinkClick r:id="rId4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0" y="620640"/>
            <a:ext cx="88390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bonacci Sequenc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s formed as follows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rt with two term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 first two to obtain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&amp;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o obtain 4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&amp; 4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o obtain 5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g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rting with 3 &amp; 7, next four terms are  10, 17, 27 &amp; 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the first two terms of such a sequence are P and Q then find expressions for the next 4 terms in their simples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the 5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&amp; 6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erms are 8 and 11 respectively then write down two equations in P and Q and hence find the values of P and 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048360" y="189000"/>
            <a:ext cx="3095640" cy="2448000"/>
          </a:xfrm>
          <a:prstGeom prst="cloudCallout">
            <a:avLst>
              <a:gd name="adj1" fmla="val -93745"/>
              <a:gd name="adj2" fmla="val 9643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down expressions using previous two to form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3851280" y="836640"/>
            <a:ext cx="4753080" cy="1440000"/>
          </a:xfrm>
          <a:prstGeom prst="cloudCallout">
            <a:avLst>
              <a:gd name="adj1" fmla="val -77486"/>
              <a:gd name="adj2" fmla="val 19751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find values of P &amp; 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ch term from (a) with values given in qu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284720" y="692280"/>
            <a:ext cx="4464000" cy="2233440"/>
          </a:xfrm>
          <a:prstGeom prst="cloudCallout">
            <a:avLst>
              <a:gd name="adj1" fmla="val -71194"/>
              <a:gd name="adj2" fmla="val 13443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two equation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minate either P’s or Q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148360" y="404640"/>
            <a:ext cx="3456000" cy="3024360"/>
          </a:xfrm>
          <a:prstGeom prst="cloudCallout">
            <a:avLst>
              <a:gd name="adj1" fmla="val -87574"/>
              <a:gd name="adj2" fmla="val 9561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e and substitute found value into either of origin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184760" y="5084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fill="hold">
                      <p:stCondLst>
                        <p:cond delay="0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4" dur="500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5" dur="500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500"/>
                            </p:stCondLst>
                            <p:childTnLst>
                              <p:par>
                                <p:cTn id="1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5" dur="500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500"/>
                            </p:stCondLst>
                            <p:childTnLst>
                              <p:par>
                                <p:cTn id="16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6" dur="500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500"/>
                            </p:stCondLst>
                            <p:childTnLst>
                              <p:par>
                                <p:cTn id="16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7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>
            <a:hlinkClick r:id="" action="ppaction://hlinkshowjump?jump=nextslide"/>
          </p:cNvPr>
          <p:cNvSpPr/>
          <p:nvPr/>
        </p:nvSpPr>
        <p:spPr>
          <a:xfrm>
            <a:off x="1258920" y="63104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>
            <a:hlinkClick r:id="rId1" action="ppaction://hlinksldjump"/>
          </p:cNvPr>
          <p:cNvSpPr/>
          <p:nvPr/>
        </p:nvSpPr>
        <p:spPr>
          <a:xfrm>
            <a:off x="4572000" y="56624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>
            <a:hlinkClick r:id="rId2" action="ppaction://hlinksldjump"/>
          </p:cNvPr>
          <p:cNvSpPr/>
          <p:nvPr/>
        </p:nvSpPr>
        <p:spPr>
          <a:xfrm>
            <a:off x="4572000" y="63104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2049120" y="631044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365080" y="56624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363640" y="631044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>
            <a:hlinkClick r:id="rId3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0" y="620640"/>
            <a:ext cx="88390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bonacci Sequenc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s formed as follows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rt with two term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 first two to obtain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&amp;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o obtain 4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&amp; 4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o obtain 5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g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rting with 3 &amp; 7, next four terms are  10, 17, 27 &amp; 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the first two terms of such a sequence are P and Q then find expressions for the next 4 terms in their simples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the 5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&amp; 6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erms are 8 and 11 respectively then write down two equations in P and Q and hence find the values of P and 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84360" y="418464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P + Q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836720" y="4184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P + 2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916360" y="4184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3399"/>
                </a:solidFill>
                <a:uFillTx/>
                <a:latin typeface="Arial"/>
              </a:rPr>
              <a:t>2P + 3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4356000" y="4184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P + 5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5977080" y="4437000"/>
            <a:ext cx="129528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488360" y="4437000"/>
            <a:ext cx="1655640" cy="43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8" name=""/>
          <p:cNvGraphicFramePr/>
          <p:nvPr/>
        </p:nvGraphicFramePr>
        <p:xfrm>
          <a:off x="7913520" y="4413240"/>
          <a:ext cx="911520" cy="39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13520" y="4413240"/>
                    <a:ext cx="9115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">
            <a:hlinkClick r:id="rId6" action="ppaction://hlinksldjump"/>
          </p:cNvPr>
          <p:cNvSpPr/>
          <p:nvPr/>
        </p:nvSpPr>
        <p:spPr>
          <a:xfrm>
            <a:off x="125892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124720" y="57340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other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fill="hold">
                      <p:stCondLst>
                        <p:cond delay="0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4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8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6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7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14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476280"/>
            <a:ext cx="442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agram shows the gra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 3x + 2y = 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84280"/>
            <a:ext cx="43560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 the diagram and on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 draw the graph o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2x – 2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ce sol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3x + 2y =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2x – 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924360" y="1844640"/>
            <a:ext cx="5040360" cy="4411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Construct a table of values with at least 2 x coordin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11034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= 2x -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791320" y="1103400"/>
            <a:ext cx="1828800" cy="761760"/>
            <a:chOff x="5791320" y="1103400"/>
            <a:chExt cx="1828800" cy="761760"/>
          </a:xfrm>
        </p:grpSpPr>
        <p:sp>
          <p:nvSpPr>
            <p:cNvPr id="136" name=""/>
            <p:cNvSpPr/>
            <p:nvPr/>
          </p:nvSpPr>
          <p:spPr>
            <a:xfrm>
              <a:off x="5791320" y="1103400"/>
              <a:ext cx="1828800" cy="761760"/>
            </a:xfrm>
            <a:prstGeom prst="rect">
              <a:avLst/>
            </a:prstGeom>
            <a:solidFill>
              <a:srgbClr val="cc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91320" y="14842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48520" y="110340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34320" y="110340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867280" y="11034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      0    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1484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     -2     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93080" y="2565360"/>
            <a:ext cx="21564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80000" y="508464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5"/>
          </p:cNvPr>
          <p:cNvSpPr/>
          <p:nvPr/>
        </p:nvSpPr>
        <p:spPr>
          <a:xfrm>
            <a:off x="2509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4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455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4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7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9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down expressions using previous two to form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-194400" y="765000"/>
            <a:ext cx="4446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 first two terms of such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 are P and Q then 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ions for the next 4 te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ir simplest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886200" y="11970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   First term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&amp; second term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495680" y="16542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rm  = 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P +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1114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rm  =  Q +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P + 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=  </a:t>
            </a: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P + 2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4495680" y="2568600"/>
            <a:ext cx="4876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rm  =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P + Q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P + 2Q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000" spc="-1" strike="noStrike" u="sng">
                <a:solidFill>
                  <a:srgbClr val="ff3399"/>
                </a:solidFill>
                <a:uFillTx/>
                <a:latin typeface="Arial"/>
              </a:rPr>
              <a:t>2P + 3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4500720" y="3573360"/>
            <a:ext cx="5181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rm  = 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P + 2Q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(2P + 3Q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P + 5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85080" y="501336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other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>
            <a:hlinkClick r:id="rId4" action="ppaction://hlinksldjump"/>
          </p:cNvPr>
          <p:cNvSpPr/>
          <p:nvPr/>
        </p:nvSpPr>
        <p:spPr>
          <a:xfrm>
            <a:off x="250920" y="5084640"/>
            <a:ext cx="433440" cy="28908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8" dur="indefinite" restart="never" nodeType="tmRoot">
          <p:childTnLst>
            <p:seq>
              <p:cTn id="1689" dur="indefinite" nodeType="mainSeq">
                <p:childTnLst>
                  <p:par>
                    <p:cTn id="1690" fill="hold">
                      <p:stCondLst>
                        <p:cond delay="0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8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3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8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1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482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4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4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6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7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7" name=""/>
          <p:cNvGraphicFramePr/>
          <p:nvPr/>
        </p:nvGraphicFramePr>
        <p:xfrm>
          <a:off x="4484520" y="836640"/>
          <a:ext cx="1748160" cy="93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84520" y="836640"/>
                    <a:ext cx="17481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9" name=""/>
          <p:cNvSpPr/>
          <p:nvPr/>
        </p:nvSpPr>
        <p:spPr>
          <a:xfrm>
            <a:off x="6570720" y="8604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6570720" y="13636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110360" y="2800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7093080" y="83664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8101080" y="278136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7559640" y="27813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6659640" y="393372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7667640" y="393372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7237080" y="3933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4716360" y="4005360"/>
            <a:ext cx="1656000" cy="431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995640" y="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Match term from (a) with values given in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0" name=""/>
          <p:cNvGraphicFramePr/>
          <p:nvPr/>
        </p:nvGraphicFramePr>
        <p:xfrm>
          <a:off x="4376880" y="2852640"/>
          <a:ext cx="1922400" cy="935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76880" y="2852640"/>
                    <a:ext cx="192240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2" name=""/>
          <p:cNvSpPr/>
          <p:nvPr/>
        </p:nvSpPr>
        <p:spPr>
          <a:xfrm>
            <a:off x="4175280" y="3860640"/>
            <a:ext cx="230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6622920" y="27813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6622920" y="328464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-345240" y="666720"/>
            <a:ext cx="4708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If the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5th &amp; 6th terms are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nd 11 respective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n w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 two equations in P and Q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hence find the valu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and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7164360" y="1341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3995640" y="198900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Eliminate either P’s or Q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7094520" y="3284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543800" y="326556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8101080" y="328464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1" name=""/>
          <p:cNvGraphicFramePr/>
          <p:nvPr/>
        </p:nvGraphicFramePr>
        <p:xfrm>
          <a:off x="5141880" y="3981600"/>
          <a:ext cx="911160" cy="393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41880" y="3981600"/>
                    <a:ext cx="9111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3" name=""/>
          <p:cNvSpPr/>
          <p:nvPr/>
        </p:nvSpPr>
        <p:spPr>
          <a:xfrm>
            <a:off x="685080" y="501336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other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>
            <a:hlinkClick r:id="rId10" action="ppaction://hlinksldjump"/>
          </p:cNvPr>
          <p:cNvSpPr/>
          <p:nvPr/>
        </p:nvSpPr>
        <p:spPr>
          <a:xfrm>
            <a:off x="250920" y="5084640"/>
            <a:ext cx="433440" cy="28908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0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3300"/>
                            </p:stCondLst>
                            <p:childTnLst>
                              <p:par>
                                <p:cTn id="1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8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3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9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9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2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7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9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4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9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1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9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9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9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9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0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1" dur="1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9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9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1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9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8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9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5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9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3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7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528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52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0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2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>
            <a:hlinkClick r:id="rId2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3995640" y="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Substitute found value into either of origin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4140360" y="198900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-2 for Q in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076720" y="249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P + (-6)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5803920" y="2895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P =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8028000" y="19890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5796000" y="3357720"/>
            <a:ext cx="129528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-345240" y="666720"/>
            <a:ext cx="4708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If the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5th &amp; 6th terms are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nd 11 respective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n w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 two equations in P and Q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hence find the valu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and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0" name=""/>
          <p:cNvGraphicFramePr/>
          <p:nvPr/>
        </p:nvGraphicFramePr>
        <p:xfrm>
          <a:off x="4484520" y="836640"/>
          <a:ext cx="1748160" cy="93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84520" y="836640"/>
                    <a:ext cx="17481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2" name=""/>
          <p:cNvSpPr/>
          <p:nvPr/>
        </p:nvSpPr>
        <p:spPr>
          <a:xfrm>
            <a:off x="6570720" y="8604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6570720" y="13636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7093080" y="83664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7164360" y="1341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4067280" y="4365720"/>
            <a:ext cx="4681440" cy="703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two terms are 7  and –2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685080" y="501336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other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>
            <a:hlinkClick r:id="rId5" action="ppaction://hlinksldjump"/>
          </p:cNvPr>
          <p:cNvSpPr/>
          <p:nvPr/>
        </p:nvSpPr>
        <p:spPr>
          <a:xfrm>
            <a:off x="250920" y="5084640"/>
            <a:ext cx="433440" cy="28908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4569480" y="533700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7" dur="indefinite" restart="never" nodeType="tmRoot">
          <p:childTnLst>
            <p:seq>
              <p:cTn id="1858" dur="indefinite" nodeType="mainSeq">
                <p:childTnLst>
                  <p:par>
                    <p:cTn id="1859" fill="hold">
                      <p:stCondLst>
                        <p:cond delay="0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3900"/>
                            </p:stCondLst>
                            <p:childTnLst>
                              <p:par>
                                <p:cTn id="18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6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4400"/>
                            </p:stCondLst>
                            <p:childTnLst>
                              <p:par>
                                <p:cTn id="18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0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4900"/>
                            </p:stCondLst>
                            <p:childTnLst>
                              <p:par>
                                <p:cTn id="18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4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5400"/>
                            </p:stCondLst>
                            <p:childTnLst>
                              <p:par>
                                <p:cTn id="18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5900"/>
                            </p:stCondLst>
                            <p:childTnLst>
                              <p:par>
                                <p:cTn id="1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2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7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1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6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500"/>
                            </p:stCondLst>
                            <p:childTnLst>
                              <p:par>
                                <p:cTn id="19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5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0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561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-36360" y="765000"/>
            <a:ext cx="46796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down expressions using previous two to form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0" y="1557360"/>
            <a:ext cx="525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term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&amp; second term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95280" y="25272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rm  = 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P +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395280" y="29844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rm  =  Q +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P + 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=  </a:t>
            </a: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P + 2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395280" y="3441600"/>
            <a:ext cx="4876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rm  =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P + Q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P + 2Q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000" spc="-1" strike="noStrike" u="sng">
                <a:solidFill>
                  <a:srgbClr val="ff3399"/>
                </a:solidFill>
                <a:uFillTx/>
                <a:latin typeface="Arial"/>
              </a:rPr>
              <a:t>2P + 3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399960" y="4446720"/>
            <a:ext cx="5181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rm  = 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P + 2Q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(2P + 3Q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P + 5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4898880" y="404640"/>
            <a:ext cx="4245120" cy="46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oblems in context it is often useful to do a simple numerical example before attempting the algebraic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onacci Sequ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   7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   17,   27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,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     Q  P + Q P + 2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   6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   16,   26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,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introduce the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,  Q,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 + Q, P + 2Q,  2P + 3Q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6" dur="indefinite" restart="never" nodeType="tmRoot">
          <p:childTnLst>
            <p:seq>
              <p:cTn id="1917" dur="indefinite" nodeType="mainSeq">
                <p:childTnLst>
                  <p:par>
                    <p:cTn id="1918" fill="hold">
                      <p:stCondLst>
                        <p:cond delay="0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2" dur="80"/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3" dur="80"/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4" dur="80"/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9" dur="500"/>
                                        <p:tgtEl>
                                          <p:spTgt spid="1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500"/>
                            </p:stCondLst>
                            <p:childTnLst>
                              <p:par>
                                <p:cTn id="19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3" dur="80"/>
                                        <p:tgtEl>
                                          <p:spTgt spid="1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4" dur="80"/>
                                        <p:tgtEl>
                                          <p:spTgt spid="1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5" dur="80"/>
                                        <p:tgtEl>
                                          <p:spTgt spid="1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1260"/>
                            </p:stCondLst>
                            <p:childTnLst>
                              <p:par>
                                <p:cTn id="19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9" dur="80"/>
                                        <p:tgtEl>
                                          <p:spTgt spid="1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0" dur="80"/>
                                        <p:tgtEl>
                                          <p:spTgt spid="1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1" dur="80"/>
                                        <p:tgtEl>
                                          <p:spTgt spid="1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6" dur="80"/>
                                        <p:tgtEl>
                                          <p:spTgt spid="1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7" dur="80"/>
                                        <p:tgtEl>
                                          <p:spTgt spid="1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8" dur="80"/>
                                        <p:tgtEl>
                                          <p:spTgt spid="1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fill="hold">
                            <p:stCondLst>
                              <p:cond delay="1080"/>
                            </p:stCondLst>
                            <p:childTnLst>
                              <p:par>
                                <p:cTn id="19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2" dur="80"/>
                                        <p:tgtEl>
                                          <p:spTgt spid="1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3" dur="80"/>
                                        <p:tgtEl>
                                          <p:spTgt spid="1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4" dur="80"/>
                                        <p:tgtEl>
                                          <p:spTgt spid="1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920"/>
                            </p:stCondLst>
                            <p:childTnLst>
                              <p:par>
                                <p:cTn id="19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1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1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"/>
          <p:cNvGrpSpPr/>
          <p:nvPr/>
        </p:nvGrpSpPr>
        <p:grpSpPr>
          <a:xfrm>
            <a:off x="2195640" y="1628640"/>
            <a:ext cx="3657600" cy="1218960"/>
            <a:chOff x="2195640" y="1628640"/>
            <a:chExt cx="3657600" cy="1218960"/>
          </a:xfrm>
        </p:grpSpPr>
        <p:sp>
          <p:nvSpPr>
            <p:cNvPr id="1577" name=""/>
            <p:cNvSpPr/>
            <p:nvPr/>
          </p:nvSpPr>
          <p:spPr>
            <a:xfrm>
              <a:off x="3618000" y="1628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110040" y="19332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024440" y="19332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567240" y="22381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652840" y="22381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81640" y="22381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9388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0244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1100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1956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7" name="">
            <a:hlinkClick r:id="rId1" action="ppaction://hlinksldjump"/>
          </p:cNvPr>
          <p:cNvSpPr/>
          <p:nvPr/>
        </p:nvSpPr>
        <p:spPr>
          <a:xfrm>
            <a:off x="1258920" y="5805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>
            <a:hlinkClick r:id="rId2" action="ppaction://hlinksldjump"/>
          </p:cNvPr>
          <p:cNvSpPr/>
          <p:nvPr/>
        </p:nvSpPr>
        <p:spPr>
          <a:xfrm>
            <a:off x="125892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>
            <a:hlinkClick r:id="rId3" action="ppaction://hlinksldjump"/>
          </p:cNvPr>
          <p:cNvSpPr/>
          <p:nvPr/>
        </p:nvSpPr>
        <p:spPr>
          <a:xfrm>
            <a:off x="4572000" y="5805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>
            <a:hlinkClick r:id="rId4" action="ppaction://hlinksldjump"/>
          </p:cNvPr>
          <p:cNvSpPr/>
          <p:nvPr/>
        </p:nvSpPr>
        <p:spPr>
          <a:xfrm>
            <a:off x="457200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2049120" y="63817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5365080" y="580536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5363640" y="638172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2053800" y="58053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4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250920" y="7650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“Number Pyramid”  the value in each block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 of the values in the two blocks underneath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9" name=""/>
          <p:cNvGrpSpPr/>
          <p:nvPr/>
        </p:nvGrpSpPr>
        <p:grpSpPr>
          <a:xfrm>
            <a:off x="2308320" y="1603440"/>
            <a:ext cx="3657600" cy="1313280"/>
            <a:chOff x="2308320" y="1603440"/>
            <a:chExt cx="3657600" cy="1313280"/>
          </a:xfrm>
        </p:grpSpPr>
        <p:sp>
          <p:nvSpPr>
            <p:cNvPr id="1600" name=""/>
            <p:cNvSpPr/>
            <p:nvPr/>
          </p:nvSpPr>
          <p:spPr>
            <a:xfrm>
              <a:off x="2308320" y="251748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            3          -4          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765520" y="2212920"/>
              <a:ext cx="243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           -1          -5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222720" y="190800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           -6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755880" y="16034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4" name=""/>
          <p:cNvSpPr/>
          <p:nvPr/>
        </p:nvSpPr>
        <p:spPr>
          <a:xfrm>
            <a:off x="1116000" y="29242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wo number pyramids below have the middle two rows missing.  Find the values of v and 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5" name=""/>
          <p:cNvGrpSpPr/>
          <p:nvPr/>
        </p:nvGrpSpPr>
        <p:grpSpPr>
          <a:xfrm>
            <a:off x="582480" y="3789360"/>
            <a:ext cx="3657600" cy="1218960"/>
            <a:chOff x="582480" y="3789360"/>
            <a:chExt cx="3657600" cy="1218960"/>
          </a:xfrm>
        </p:grpSpPr>
        <p:sp>
          <p:nvSpPr>
            <p:cNvPr id="1606" name=""/>
            <p:cNvSpPr/>
            <p:nvPr/>
          </p:nvSpPr>
          <p:spPr>
            <a:xfrm>
              <a:off x="2004840" y="378936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496880" y="409392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411280" y="409392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954080" y="439884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039680" y="439884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868480" y="439884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325680" y="470376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411280" y="470376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496880" y="470376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82480" y="470376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4697280" y="3797280"/>
            <a:ext cx="3657600" cy="1218960"/>
            <a:chOff x="4697280" y="3797280"/>
            <a:chExt cx="3657600" cy="1218960"/>
          </a:xfrm>
        </p:grpSpPr>
        <p:sp>
          <p:nvSpPr>
            <p:cNvPr id="1617" name=""/>
            <p:cNvSpPr/>
            <p:nvPr/>
          </p:nvSpPr>
          <p:spPr>
            <a:xfrm>
              <a:off x="6119640" y="37972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611680" y="41018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526080" y="41018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068880" y="4406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154480" y="4406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983280" y="4406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40480" y="4711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526080" y="4711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611680" y="4711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697280" y="4711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7" name=""/>
          <p:cNvSpPr/>
          <p:nvPr/>
        </p:nvSpPr>
        <p:spPr>
          <a:xfrm>
            <a:off x="658800" y="4621320"/>
            <a:ext cx="358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2w       w – 2v    v +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811080" y="3716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4849920" y="3645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4697280" y="4635360"/>
            <a:ext cx="358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+ 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v – 3w       6w     v -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195640" y="3716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6310440" y="3730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>
            <a:hlinkClick r:id="" action="ppaction://hlinkshowjump?jump=nextslide"/>
          </p:cNvPr>
          <p:cNvSpPr/>
          <p:nvPr/>
        </p:nvSpPr>
        <p:spPr>
          <a:xfrm>
            <a:off x="1246320" y="5157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2051640" y="5157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5" name=""/>
          <p:cNvGrpSpPr/>
          <p:nvPr/>
        </p:nvGrpSpPr>
        <p:grpSpPr>
          <a:xfrm>
            <a:off x="2195640" y="1628640"/>
            <a:ext cx="3657600" cy="1218960"/>
            <a:chOff x="2195640" y="1628640"/>
            <a:chExt cx="3657600" cy="1218960"/>
          </a:xfrm>
        </p:grpSpPr>
        <p:sp>
          <p:nvSpPr>
            <p:cNvPr id="1636" name=""/>
            <p:cNvSpPr/>
            <p:nvPr/>
          </p:nvSpPr>
          <p:spPr>
            <a:xfrm>
              <a:off x="3618000" y="1628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110040" y="19332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024440" y="19332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567240" y="22381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52840" y="22381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481640" y="22381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9388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244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1100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1956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6" name="">
            <a:hlinkClick r:id="" action="ppaction://hlinkshowjump?jump=nextslide"/>
          </p:cNvPr>
          <p:cNvSpPr/>
          <p:nvPr/>
        </p:nvSpPr>
        <p:spPr>
          <a:xfrm>
            <a:off x="125892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>
            <a:hlinkClick r:id="rId1" action="ppaction://hlinksldjump"/>
          </p:cNvPr>
          <p:cNvSpPr/>
          <p:nvPr/>
        </p:nvSpPr>
        <p:spPr>
          <a:xfrm>
            <a:off x="125892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>
            <a:hlinkClick r:id="rId2" action="ppaction://hlinksldjump"/>
          </p:cNvPr>
          <p:cNvSpPr/>
          <p:nvPr/>
        </p:nvSpPr>
        <p:spPr>
          <a:xfrm>
            <a:off x="457200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>
            <a:hlinkClick r:id="rId3" action="ppaction://hlinksldjump"/>
          </p:cNvPr>
          <p:cNvSpPr/>
          <p:nvPr/>
        </p:nvSpPr>
        <p:spPr>
          <a:xfrm>
            <a:off x="457200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2049120" y="6237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5365080" y="558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5363640" y="6237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2053800" y="5589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4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250920" y="7650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“Number Pyramid”  the value in each block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 of the values in the two blocks underneath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2308320" y="1603440"/>
            <a:ext cx="3657600" cy="1313280"/>
            <a:chOff x="2308320" y="1603440"/>
            <a:chExt cx="3657600" cy="1313280"/>
          </a:xfrm>
        </p:grpSpPr>
        <p:sp>
          <p:nvSpPr>
            <p:cNvPr id="1659" name=""/>
            <p:cNvSpPr/>
            <p:nvPr/>
          </p:nvSpPr>
          <p:spPr>
            <a:xfrm>
              <a:off x="2308320" y="251748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            3          -4          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765520" y="2212920"/>
              <a:ext cx="243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           -1          -5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22720" y="190800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           -6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755880" y="16034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3" name=""/>
          <p:cNvSpPr/>
          <p:nvPr/>
        </p:nvSpPr>
        <p:spPr>
          <a:xfrm>
            <a:off x="1116000" y="29242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wo number pyramids below have the middle two rows missing.  Find the values of v and 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582480" y="4143240"/>
            <a:ext cx="3657600" cy="1218960"/>
            <a:chOff x="582480" y="4143240"/>
            <a:chExt cx="3657600" cy="1218960"/>
          </a:xfrm>
        </p:grpSpPr>
        <p:sp>
          <p:nvSpPr>
            <p:cNvPr id="1665" name=""/>
            <p:cNvSpPr/>
            <p:nvPr/>
          </p:nvSpPr>
          <p:spPr>
            <a:xfrm>
              <a:off x="2004840" y="41432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496880" y="4447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411280" y="4447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9540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0396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8684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3256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4112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4968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824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4697280" y="4143240"/>
            <a:ext cx="3657600" cy="1218960"/>
            <a:chOff x="4697280" y="4143240"/>
            <a:chExt cx="3657600" cy="1218960"/>
          </a:xfrm>
        </p:grpSpPr>
        <p:sp>
          <p:nvSpPr>
            <p:cNvPr id="1676" name=""/>
            <p:cNvSpPr/>
            <p:nvPr/>
          </p:nvSpPr>
          <p:spPr>
            <a:xfrm>
              <a:off x="6119640" y="41432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611680" y="4447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526080" y="4447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0688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1544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9832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4404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5260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6116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6972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658800" y="4981680"/>
            <a:ext cx="358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2w       w – 2v    v +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811080" y="40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849920" y="39909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4697280" y="4981680"/>
            <a:ext cx="358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+ 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v – 3w       6w     v -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2195640" y="40766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6310440" y="40766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5398920" y="1268280"/>
            <a:ext cx="3745080" cy="2160720"/>
          </a:xfrm>
          <a:prstGeom prst="cloudCallout">
            <a:avLst>
              <a:gd name="adj1" fmla="val -73527"/>
              <a:gd name="adj2" fmla="val 4808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your way to an expression for the top row by filling in the middle r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4284720" y="765000"/>
            <a:ext cx="4176720" cy="2232360"/>
          </a:xfrm>
          <a:prstGeom prst="cloudCallout">
            <a:avLst>
              <a:gd name="adj1" fmla="val -51749"/>
              <a:gd name="adj2" fmla="val 6835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m 2 equations and eliminate either v’s or w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4643280" y="1197000"/>
            <a:ext cx="4032360" cy="1655640"/>
          </a:xfrm>
          <a:prstGeom prst="cloudCallout">
            <a:avLst>
              <a:gd name="adj1" fmla="val -36101"/>
              <a:gd name="adj2" fmla="val 8202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found value into either of origin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0" dur="indefinite" restart="never" nodeType="tmRoot">
          <p:childTnLst>
            <p:seq>
              <p:cTn id="1961" dur="indefinite" nodeType="mainSeq">
                <p:childTnLst>
                  <p:par>
                    <p:cTn id="1962" fill="hold">
                      <p:stCondLst>
                        <p:cond delay="0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1" dur="500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2" dur="500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500"/>
                            </p:stCondLst>
                            <p:childTnLst>
                              <p:par>
                                <p:cTn id="19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2" dur="500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fill="hold">
                            <p:stCondLst>
                              <p:cond delay="500"/>
                            </p:stCondLst>
                            <p:childTnLst>
                              <p:par>
                                <p:cTn id="19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5" name=""/>
          <p:cNvGrpSpPr/>
          <p:nvPr/>
        </p:nvGrpSpPr>
        <p:grpSpPr>
          <a:xfrm>
            <a:off x="2195640" y="1628640"/>
            <a:ext cx="3657600" cy="1218960"/>
            <a:chOff x="2195640" y="1628640"/>
            <a:chExt cx="3657600" cy="1218960"/>
          </a:xfrm>
        </p:grpSpPr>
        <p:sp>
          <p:nvSpPr>
            <p:cNvPr id="1696" name=""/>
            <p:cNvSpPr/>
            <p:nvPr/>
          </p:nvSpPr>
          <p:spPr>
            <a:xfrm>
              <a:off x="3618000" y="1628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110040" y="19332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024440" y="19332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567240" y="22381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652840" y="22381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481640" y="22381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388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0244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1100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1956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6" name="">
            <a:hlinkClick r:id="" action="ppaction://hlinkshowjump?jump=nextslide"/>
          </p:cNvPr>
          <p:cNvSpPr/>
          <p:nvPr/>
        </p:nvSpPr>
        <p:spPr>
          <a:xfrm>
            <a:off x="125892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>
            <a:hlinkClick r:id="rId1" action="ppaction://hlinksldjump"/>
          </p:cNvPr>
          <p:cNvSpPr/>
          <p:nvPr/>
        </p:nvSpPr>
        <p:spPr>
          <a:xfrm>
            <a:off x="457200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>
            <a:hlinkClick r:id="rId2" action="ppaction://hlinksldjump"/>
          </p:cNvPr>
          <p:cNvSpPr/>
          <p:nvPr/>
        </p:nvSpPr>
        <p:spPr>
          <a:xfrm>
            <a:off x="457200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2049120" y="6237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365080" y="558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5363640" y="6237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4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250920" y="7650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“Number Pyramid”  the value in each block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 of the values in the two blocks underneath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6" name=""/>
          <p:cNvGrpSpPr/>
          <p:nvPr/>
        </p:nvGrpSpPr>
        <p:grpSpPr>
          <a:xfrm>
            <a:off x="2308320" y="1603440"/>
            <a:ext cx="3657600" cy="1313280"/>
            <a:chOff x="2308320" y="1603440"/>
            <a:chExt cx="3657600" cy="1313280"/>
          </a:xfrm>
        </p:grpSpPr>
        <p:sp>
          <p:nvSpPr>
            <p:cNvPr id="1717" name=""/>
            <p:cNvSpPr/>
            <p:nvPr/>
          </p:nvSpPr>
          <p:spPr>
            <a:xfrm>
              <a:off x="2308320" y="251748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            3          -4          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765520" y="2212920"/>
              <a:ext cx="243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           -1          -5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222720" y="190800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           -6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755880" y="16034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1" name=""/>
          <p:cNvSpPr/>
          <p:nvPr/>
        </p:nvSpPr>
        <p:spPr>
          <a:xfrm>
            <a:off x="1116000" y="29242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wo number pyramids below have the middle two rows missing.  Find the values of v and 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"/>
          <p:cNvGrpSpPr/>
          <p:nvPr/>
        </p:nvGrpSpPr>
        <p:grpSpPr>
          <a:xfrm>
            <a:off x="582480" y="4143240"/>
            <a:ext cx="3657600" cy="1218960"/>
            <a:chOff x="582480" y="4143240"/>
            <a:chExt cx="3657600" cy="1218960"/>
          </a:xfrm>
        </p:grpSpPr>
        <p:sp>
          <p:nvSpPr>
            <p:cNvPr id="1723" name=""/>
            <p:cNvSpPr/>
            <p:nvPr/>
          </p:nvSpPr>
          <p:spPr>
            <a:xfrm>
              <a:off x="2004840" y="41432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496880" y="4447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411280" y="4447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9540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0396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8684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3256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4112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4968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824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4697280" y="4143240"/>
            <a:ext cx="3657600" cy="1218960"/>
            <a:chOff x="4697280" y="4143240"/>
            <a:chExt cx="3657600" cy="1218960"/>
          </a:xfrm>
        </p:grpSpPr>
        <p:sp>
          <p:nvSpPr>
            <p:cNvPr id="1734" name=""/>
            <p:cNvSpPr/>
            <p:nvPr/>
          </p:nvSpPr>
          <p:spPr>
            <a:xfrm>
              <a:off x="6119640" y="41432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611680" y="4447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526080" y="4447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0688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1544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9832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4404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5260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6116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6972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4" name=""/>
          <p:cNvSpPr/>
          <p:nvPr/>
        </p:nvSpPr>
        <p:spPr>
          <a:xfrm>
            <a:off x="658800" y="4981680"/>
            <a:ext cx="358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2w       w – 2v    v +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811080" y="40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4849920" y="39909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4697280" y="4981680"/>
            <a:ext cx="358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+ 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v – 3w       6w     v -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2195640" y="40766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6310440" y="40766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324000" y="5589720"/>
            <a:ext cx="1655640" cy="431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1" name=""/>
          <p:cNvGraphicFramePr/>
          <p:nvPr/>
        </p:nvGraphicFramePr>
        <p:xfrm>
          <a:off x="744480" y="5613480"/>
          <a:ext cx="936720" cy="3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4480" y="5613480"/>
                    <a:ext cx="93672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3" name=""/>
          <p:cNvSpPr/>
          <p:nvPr/>
        </p:nvSpPr>
        <p:spPr>
          <a:xfrm>
            <a:off x="2268360" y="5589720"/>
            <a:ext cx="12956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0" dur="indefinite" restart="never" nodeType="tmRoot">
          <p:childTnLst>
            <p:seq>
              <p:cTn id="1991" dur="indefinite" nodeType="mainSeq">
                <p:childTnLst>
                  <p:par>
                    <p:cTn id="1992" fill="hold">
                      <p:stCondLst>
                        <p:cond delay="0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6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3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757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7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9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1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2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067280" y="260280"/>
            <a:ext cx="4897440" cy="1008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ork your way to an expression for the top row by filling in the middle r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0" y="687240"/>
            <a:ext cx="3657600" cy="1218960"/>
            <a:chOff x="0" y="687240"/>
            <a:chExt cx="3657600" cy="1218960"/>
          </a:xfrm>
        </p:grpSpPr>
        <p:sp>
          <p:nvSpPr>
            <p:cNvPr id="1776" name=""/>
            <p:cNvSpPr/>
            <p:nvPr/>
          </p:nvSpPr>
          <p:spPr>
            <a:xfrm>
              <a:off x="1422360" y="6872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914400" y="991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828800" y="991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371600" y="1296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57200" y="1296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286000" y="1296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74320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82880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91440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76320" y="1525680"/>
            <a:ext cx="358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2w       w – 2v    v +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228600" y="61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612800" y="62064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171360" y="2573280"/>
            <a:ext cx="3657600" cy="1218960"/>
            <a:chOff x="171360" y="2573280"/>
            <a:chExt cx="3657600" cy="1218960"/>
          </a:xfrm>
        </p:grpSpPr>
        <p:sp>
          <p:nvSpPr>
            <p:cNvPr id="1790" name=""/>
            <p:cNvSpPr/>
            <p:nvPr/>
          </p:nvSpPr>
          <p:spPr>
            <a:xfrm>
              <a:off x="1593720" y="25732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085760" y="28778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000160" y="28778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542960" y="3182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28560" y="3182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457360" y="3182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9145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0001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0857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713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0" name=""/>
          <p:cNvSpPr/>
          <p:nvPr/>
        </p:nvSpPr>
        <p:spPr>
          <a:xfrm>
            <a:off x="324000" y="2421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171360" y="3411360"/>
            <a:ext cx="358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+ 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v – 3w       6w     v -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1784520" y="2506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067280" y="14842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yramid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4211640" y="1989000"/>
            <a:ext cx="466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3v + 2w,  -2v + 3w,  -v + 2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4211640" y="249228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v + 5w,  -3v + 5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4211640" y="299736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p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-2v + 1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flipV="1">
            <a:off x="5651640" y="2276640"/>
            <a:ext cx="144360" cy="28872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flipV="1">
            <a:off x="5724360" y="2349360"/>
            <a:ext cx="1152720" cy="2160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flipV="1">
            <a:off x="6877080" y="2276640"/>
            <a:ext cx="142920" cy="2887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V="1">
            <a:off x="6948360" y="2276640"/>
            <a:ext cx="1008360" cy="2887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flipH="1" flipV="1">
            <a:off x="5724360" y="2781360"/>
            <a:ext cx="216000" cy="28728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 flipV="1">
            <a:off x="6084720" y="2852640"/>
            <a:ext cx="648000" cy="21600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7000560" y="2990880"/>
            <a:ext cx="83916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-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332000" y="476280"/>
            <a:ext cx="1150920" cy="576360"/>
          </a:xfrm>
          <a:prstGeom prst="ellipse">
            <a:avLst/>
          </a:prstGeom>
          <a:noFill/>
          <a:ln w="507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051440" y="3840120"/>
            <a:ext cx="21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yramid 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356000" y="4221000"/>
            <a:ext cx="426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2v - 2w,  v + 3w,  v + 5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4284720" y="4848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3v + w,  2v + 8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284720" y="53737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p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5v + 9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 flipV="1">
            <a:off x="5867280" y="4653000"/>
            <a:ext cx="144720" cy="28872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 flipV="1">
            <a:off x="5940360" y="4508280"/>
            <a:ext cx="936720" cy="43308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 flipV="1">
            <a:off x="6877080" y="4581000"/>
            <a:ext cx="216000" cy="360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 flipV="1">
            <a:off x="6948360" y="4581000"/>
            <a:ext cx="792360" cy="360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 flipV="1">
            <a:off x="5796000" y="5157720"/>
            <a:ext cx="216000" cy="28728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6156360" y="5229000"/>
            <a:ext cx="647640" cy="21564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6877440" y="5373720"/>
            <a:ext cx="6836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403280" y="2349360"/>
            <a:ext cx="1150920" cy="576360"/>
          </a:xfrm>
          <a:prstGeom prst="ellipse">
            <a:avLst/>
          </a:prstGeom>
          <a:noFill/>
          <a:ln w="507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4" dur="indefinite" restart="never" nodeType="tmRoot">
          <p:childTnLst>
            <p:seq>
              <p:cTn id="2005" dur="indefinite" nodeType="mainSeq">
                <p:childTnLst>
                  <p:par>
                    <p:cTn id="2006" fill="hold">
                      <p:stCondLst>
                        <p:cond delay="0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4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9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4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500"/>
                            </p:stCondLst>
                            <p:childTnLst>
                              <p:par>
                                <p:cTn id="20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0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500"/>
                            </p:stCondLst>
                            <p:childTnLst>
                              <p:par>
                                <p:cTn id="206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0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9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4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500"/>
                            </p:stCondLst>
                            <p:childTnLst>
                              <p:par>
                                <p:cTn id="20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9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500"/>
                            </p:stCondLst>
                            <p:childTnLst>
                              <p:par>
                                <p:cTn id="212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9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830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8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2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4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5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684720" y="59500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7" name=""/>
          <p:cNvGrpSpPr/>
          <p:nvPr/>
        </p:nvGrpSpPr>
        <p:grpSpPr>
          <a:xfrm>
            <a:off x="0" y="687240"/>
            <a:ext cx="3657600" cy="1218960"/>
            <a:chOff x="0" y="687240"/>
            <a:chExt cx="3657600" cy="1218960"/>
          </a:xfrm>
        </p:grpSpPr>
        <p:sp>
          <p:nvSpPr>
            <p:cNvPr id="1848" name=""/>
            <p:cNvSpPr/>
            <p:nvPr/>
          </p:nvSpPr>
          <p:spPr>
            <a:xfrm>
              <a:off x="1422360" y="6872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914400" y="991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828800" y="991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371600" y="1296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57200" y="1296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286000" y="1296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74320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82880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91440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8" name=""/>
          <p:cNvSpPr/>
          <p:nvPr/>
        </p:nvSpPr>
        <p:spPr>
          <a:xfrm>
            <a:off x="76320" y="1525680"/>
            <a:ext cx="358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2w       w – 2v    v +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228600" y="61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612800" y="62064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1" name=""/>
          <p:cNvGrpSpPr/>
          <p:nvPr/>
        </p:nvGrpSpPr>
        <p:grpSpPr>
          <a:xfrm>
            <a:off x="171360" y="2573280"/>
            <a:ext cx="3657600" cy="1218960"/>
            <a:chOff x="171360" y="2573280"/>
            <a:chExt cx="3657600" cy="1218960"/>
          </a:xfrm>
        </p:grpSpPr>
        <p:sp>
          <p:nvSpPr>
            <p:cNvPr id="1862" name=""/>
            <p:cNvSpPr/>
            <p:nvPr/>
          </p:nvSpPr>
          <p:spPr>
            <a:xfrm>
              <a:off x="1593720" y="25732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085760" y="28778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000160" y="28778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542960" y="3182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28560" y="3182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457360" y="3182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9145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0001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0857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713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2" name=""/>
          <p:cNvSpPr/>
          <p:nvPr/>
        </p:nvSpPr>
        <p:spPr>
          <a:xfrm>
            <a:off x="324000" y="2421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171360" y="3411360"/>
            <a:ext cx="358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+ 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v – 3w       6w     v -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1784520" y="2506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1332000" y="476280"/>
            <a:ext cx="1150920" cy="576360"/>
          </a:xfrm>
          <a:prstGeom prst="ellipse">
            <a:avLst/>
          </a:prstGeom>
          <a:noFill/>
          <a:ln w="507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1403280" y="2349360"/>
            <a:ext cx="1150920" cy="576360"/>
          </a:xfrm>
          <a:prstGeom prst="ellipse">
            <a:avLst/>
          </a:prstGeom>
          <a:noFill/>
          <a:ln w="507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995640" y="0"/>
            <a:ext cx="4897440" cy="1008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Form 2 equations and eliminate either v’s or w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8" name=""/>
          <p:cNvGraphicFramePr/>
          <p:nvPr/>
        </p:nvGraphicFramePr>
        <p:xfrm>
          <a:off x="4202280" y="1195560"/>
          <a:ext cx="2314440" cy="93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02280" y="1195560"/>
                    <a:ext cx="23144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0" name=""/>
          <p:cNvSpPr/>
          <p:nvPr/>
        </p:nvSpPr>
        <p:spPr>
          <a:xfrm>
            <a:off x="6570720" y="121932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6570720" y="17226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7093080" y="11955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7164360" y="1700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7003800" y="294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7994520" y="292428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7453440" y="2924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6553080" y="407664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7561440" y="407664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7130880" y="4076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4643280" y="4581360"/>
            <a:ext cx="165600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1" name=""/>
          <p:cNvGraphicFramePr/>
          <p:nvPr/>
        </p:nvGraphicFramePr>
        <p:xfrm>
          <a:off x="3987720" y="2995560"/>
          <a:ext cx="2489400" cy="93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87720" y="2995560"/>
                    <a:ext cx="24894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3" name=""/>
          <p:cNvSpPr/>
          <p:nvPr/>
        </p:nvSpPr>
        <p:spPr>
          <a:xfrm>
            <a:off x="4068720" y="4003560"/>
            <a:ext cx="2305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6516720" y="2924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6516720" y="342756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6987960" y="34275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7437600" y="34084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7994520" y="342756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9" name=""/>
          <p:cNvGraphicFramePr/>
          <p:nvPr/>
        </p:nvGraphicFramePr>
        <p:xfrm>
          <a:off x="4789440" y="4148280"/>
          <a:ext cx="1403280" cy="344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89440" y="4148280"/>
                    <a:ext cx="14032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1" name=""/>
          <p:cNvSpPr/>
          <p:nvPr/>
        </p:nvSpPr>
        <p:spPr>
          <a:xfrm>
            <a:off x="4121640" y="236700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2" name=""/>
          <p:cNvGraphicFramePr/>
          <p:nvPr/>
        </p:nvGraphicFramePr>
        <p:xfrm>
          <a:off x="5064120" y="4605480"/>
          <a:ext cx="936720" cy="344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0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64120" y="4605480"/>
                    <a:ext cx="93672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4" name=""/>
          <p:cNvSpPr/>
          <p:nvPr/>
        </p:nvSpPr>
        <p:spPr>
          <a:xfrm>
            <a:off x="4569480" y="5192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1" dur="indefinite" restart="never" nodeType="tmRoot">
          <p:childTnLst>
            <p:seq>
              <p:cTn id="2132" dur="indefinite" nodeType="mainSeq">
                <p:childTnLst>
                  <p:par>
                    <p:cTn id="2133" fill="hold">
                      <p:stCondLst>
                        <p:cond delay="0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1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9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2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3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9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0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3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8" dur="10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9" dur="10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9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5" dur="1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9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10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9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9" dur="1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9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6" dur="10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9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3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4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9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0" dur="1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9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2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7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8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9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9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8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9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9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5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6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9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3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8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1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5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908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9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0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2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>
            <a:hlinkClick r:id="rId2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5" name=""/>
          <p:cNvGrpSpPr/>
          <p:nvPr/>
        </p:nvGrpSpPr>
        <p:grpSpPr>
          <a:xfrm>
            <a:off x="0" y="687240"/>
            <a:ext cx="3657600" cy="1218960"/>
            <a:chOff x="0" y="687240"/>
            <a:chExt cx="3657600" cy="1218960"/>
          </a:xfrm>
        </p:grpSpPr>
        <p:sp>
          <p:nvSpPr>
            <p:cNvPr id="1926" name=""/>
            <p:cNvSpPr/>
            <p:nvPr/>
          </p:nvSpPr>
          <p:spPr>
            <a:xfrm>
              <a:off x="1422360" y="6872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914400" y="991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828800" y="991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371600" y="1296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57200" y="1296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286000" y="1296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74320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82880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91440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76320" y="1525680"/>
            <a:ext cx="358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2w       w – 2v    v +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228600" y="61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1612800" y="62064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9" name=""/>
          <p:cNvGrpSpPr/>
          <p:nvPr/>
        </p:nvGrpSpPr>
        <p:grpSpPr>
          <a:xfrm>
            <a:off x="171360" y="2573280"/>
            <a:ext cx="3657600" cy="1218960"/>
            <a:chOff x="171360" y="2573280"/>
            <a:chExt cx="3657600" cy="1218960"/>
          </a:xfrm>
        </p:grpSpPr>
        <p:sp>
          <p:nvSpPr>
            <p:cNvPr id="1940" name=""/>
            <p:cNvSpPr/>
            <p:nvPr/>
          </p:nvSpPr>
          <p:spPr>
            <a:xfrm>
              <a:off x="1593720" y="25732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085760" y="28778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000160" y="28778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542960" y="3182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28560" y="3182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457360" y="3182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9145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0001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0857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713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0" name=""/>
          <p:cNvSpPr/>
          <p:nvPr/>
        </p:nvSpPr>
        <p:spPr>
          <a:xfrm>
            <a:off x="324000" y="2421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171360" y="3411360"/>
            <a:ext cx="358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+ 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v – 3w       6w     v -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1784520" y="2506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1332000" y="476280"/>
            <a:ext cx="1150920" cy="576360"/>
          </a:xfrm>
          <a:prstGeom prst="ellipse">
            <a:avLst/>
          </a:prstGeom>
          <a:noFill/>
          <a:ln w="507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1403280" y="2349360"/>
            <a:ext cx="1150920" cy="576360"/>
          </a:xfrm>
          <a:prstGeom prst="ellipse">
            <a:avLst/>
          </a:prstGeom>
          <a:noFill/>
          <a:ln w="507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5" name=""/>
          <p:cNvGraphicFramePr/>
          <p:nvPr/>
        </p:nvGraphicFramePr>
        <p:xfrm>
          <a:off x="4202280" y="907920"/>
          <a:ext cx="2314440" cy="9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2280" y="907920"/>
                    <a:ext cx="23144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7" name=""/>
          <p:cNvSpPr/>
          <p:nvPr/>
        </p:nvSpPr>
        <p:spPr>
          <a:xfrm>
            <a:off x="6570720" y="93204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6570720" y="14349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093080" y="907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7164360" y="141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3995640" y="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Substitute found value into either of origin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4140360" y="220500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-1 for W in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5076720" y="2708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V + (-9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5803920" y="3111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V =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5796000" y="3573360"/>
            <a:ext cx="129528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8028000" y="213372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6" dur="indefinite" restart="never" nodeType="tmRoot">
          <p:childTnLst>
            <p:seq>
              <p:cTn id="2277" dur="indefinite" nodeType="mainSeq">
                <p:childTnLst>
                  <p:par>
                    <p:cTn id="2278" fill="hold">
                      <p:stCondLst>
                        <p:cond delay="0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6" dur="5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1" dur="5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1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48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080" y="501336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other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476280"/>
            <a:ext cx="442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agram shows the gra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 3x + 2y = 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484280"/>
            <a:ext cx="43560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 the diagram and on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 draw the graph o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2x – 2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ce sol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3x + 2y =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2x – 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924360" y="981000"/>
            <a:ext cx="5040360" cy="4411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lot and join points. Solution is where lines cro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292720" y="1196640"/>
            <a:ext cx="2303640" cy="381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93080" y="1701720"/>
            <a:ext cx="21564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80000" y="422100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72360" y="2565360"/>
            <a:ext cx="504720" cy="432000"/>
          </a:xfrm>
          <a:prstGeom prst="ellipse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92840" y="5516640"/>
            <a:ext cx="2133720" cy="457200"/>
          </a:xfrm>
          <a:prstGeom prst="rect">
            <a:avLst/>
          </a:prstGeom>
          <a:solidFill>
            <a:srgbClr val="ff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551664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ution is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= 3   &amp;   y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4" action="ppaction://hlinksldjump"/>
          </p:cNvPr>
          <p:cNvSpPr/>
          <p:nvPr/>
        </p:nvSpPr>
        <p:spPr>
          <a:xfrm>
            <a:off x="250920" y="5084640"/>
            <a:ext cx="433440" cy="28908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5"/>
          </p:cNvPr>
          <p:cNvSpPr/>
          <p:nvPr/>
        </p:nvSpPr>
        <p:spPr>
          <a:xfrm>
            <a:off x="252360" y="6381720"/>
            <a:ext cx="432000" cy="476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12">
                <a:moveTo>
                  <a:pt x="0" y="0"/>
                </a:moveTo>
                <a:lnTo>
                  <a:pt x="21600" y="0"/>
                </a:lnTo>
                <a:lnTo>
                  <a:pt x="21600" y="23812"/>
                </a:lnTo>
                <a:lnTo>
                  <a:pt x="0" y="23812"/>
                </a:lnTo>
                <a:close/>
              </a:path>
              <a:path fill="lightenLess" w="21600" h="23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2">
                <a:moveTo>
                  <a:pt x="21600" y="0"/>
                </a:moveTo>
                <a:lnTo>
                  <a:pt x="21600" y="23812"/>
                </a:lnTo>
                <a:lnTo>
                  <a:pt x="20200" y="22412"/>
                </a:lnTo>
                <a:lnTo>
                  <a:pt x="20200" y="1400"/>
                </a:lnTo>
                <a:close/>
              </a:path>
              <a:path fill="darkenLess" w="21600" h="23812">
                <a:moveTo>
                  <a:pt x="21600" y="23812"/>
                </a:moveTo>
                <a:lnTo>
                  <a:pt x="0" y="23812"/>
                </a:lnTo>
                <a:lnTo>
                  <a:pt x="1400" y="22412"/>
                </a:lnTo>
                <a:lnTo>
                  <a:pt x="20200" y="22412"/>
                </a:lnTo>
                <a:close/>
              </a:path>
              <a:path fill="lighten" w="21600" h="23812">
                <a:moveTo>
                  <a:pt x="0" y="23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2"/>
                </a:lnTo>
                <a:close/>
              </a:path>
              <a:path fill="darken" w="21600" h="23812">
                <a:moveTo>
                  <a:pt x="10800" y="4943"/>
                </a:moveTo>
                <a:lnTo>
                  <a:pt x="13376" y="7554"/>
                </a:lnTo>
                <a:lnTo>
                  <a:pt x="13376" y="5813"/>
                </a:lnTo>
                <a:lnTo>
                  <a:pt x="15152" y="5813"/>
                </a:lnTo>
                <a:lnTo>
                  <a:pt x="15152" y="9330"/>
                </a:lnTo>
                <a:lnTo>
                  <a:pt x="17763" y="11906"/>
                </a:lnTo>
                <a:lnTo>
                  <a:pt x="16109" y="11906"/>
                </a:lnTo>
                <a:lnTo>
                  <a:pt x="16109" y="19095"/>
                </a:lnTo>
                <a:lnTo>
                  <a:pt x="5491" y="19095"/>
                </a:lnTo>
                <a:lnTo>
                  <a:pt x="5491" y="11906"/>
                </a:lnTo>
                <a:lnTo>
                  <a:pt x="3837" y="11906"/>
                </a:lnTo>
                <a:close/>
              </a:path>
              <a:path fill="darkenLess" w="21600" h="23812">
                <a:moveTo>
                  <a:pt x="13376" y="7554"/>
                </a:moveTo>
                <a:lnTo>
                  <a:pt x="13376" y="5813"/>
                </a:lnTo>
                <a:lnTo>
                  <a:pt x="15152" y="5813"/>
                </a:lnTo>
                <a:lnTo>
                  <a:pt x="15152" y="9330"/>
                </a:lnTo>
                <a:close/>
              </a:path>
              <a:path fill="darkenLess" w="21600" h="23812">
                <a:moveTo>
                  <a:pt x="9877" y="15405"/>
                </a:moveTo>
                <a:lnTo>
                  <a:pt x="11723" y="15405"/>
                </a:lnTo>
                <a:lnTo>
                  <a:pt x="11723" y="19095"/>
                </a:lnTo>
                <a:lnTo>
                  <a:pt x="16109" y="19095"/>
                </a:lnTo>
                <a:lnTo>
                  <a:pt x="16109" y="11906"/>
                </a:lnTo>
                <a:lnTo>
                  <a:pt x="5491" y="11906"/>
                </a:lnTo>
                <a:lnTo>
                  <a:pt x="5491" y="19095"/>
                </a:lnTo>
                <a:lnTo>
                  <a:pt x="9877" y="190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95080" y="623736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45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45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7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968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15840" y="836640"/>
            <a:ext cx="4700520" cy="1008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ork your way to an expression for the top row by filling in the middle r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15840" y="206064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yramid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160200" y="2565360"/>
            <a:ext cx="466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3v + 2w,  -2v + 3w,  -v + 2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60200" y="306864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v + 5w,  -3v + 5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160200" y="357336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p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-2v + 1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2949120" y="3567240"/>
            <a:ext cx="83916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-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0" y="4416480"/>
            <a:ext cx="21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yramid 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304920" y="479736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2v - 2w,  v + 3w,  v + 5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233280" y="542448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3v + w,  2v + 8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233280" y="5950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p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5v + 9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826000" y="5950080"/>
            <a:ext cx="6836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5148360" y="620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iagrams given to organise wor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5003640" y="1773360"/>
            <a:ext cx="3916440" cy="1298160"/>
            <a:chOff x="5003640" y="1773360"/>
            <a:chExt cx="3916440" cy="1298160"/>
          </a:xfrm>
        </p:grpSpPr>
        <p:grpSp>
          <p:nvGrpSpPr>
            <p:cNvPr id="1989" name=""/>
            <p:cNvGrpSpPr/>
            <p:nvPr/>
          </p:nvGrpSpPr>
          <p:grpSpPr>
            <a:xfrm>
              <a:off x="5003640" y="1773360"/>
              <a:ext cx="3916440" cy="1298160"/>
              <a:chOff x="5003640" y="1773360"/>
              <a:chExt cx="3916440" cy="1298160"/>
            </a:xfrm>
          </p:grpSpPr>
          <p:grpSp>
            <p:nvGrpSpPr>
              <p:cNvPr id="1990" name=""/>
              <p:cNvGrpSpPr/>
              <p:nvPr/>
            </p:nvGrpSpPr>
            <p:grpSpPr>
              <a:xfrm>
                <a:off x="5003640" y="1849320"/>
                <a:ext cx="3657600" cy="1218600"/>
                <a:chOff x="5003640" y="1849320"/>
                <a:chExt cx="3657600" cy="121860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6426000" y="184932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5918040" y="215388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6832440" y="215388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6375240" y="245844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5460840" y="245844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7289640" y="245844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7746840" y="276336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6832440" y="276336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5918040" y="276336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5003640" y="276336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1" name=""/>
              <p:cNvSpPr/>
              <p:nvPr/>
            </p:nvSpPr>
            <p:spPr>
              <a:xfrm>
                <a:off x="5338800" y="2398320"/>
                <a:ext cx="358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v + 2w    3w - 2v     2w - v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6680160" y="1773360"/>
                <a:ext cx="1066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1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384880" y="177336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202360" y="2703240"/>
                <a:ext cx="358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v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2w       w – 2v    v + w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5" name=""/>
            <p:cNvSpPr/>
            <p:nvPr/>
          </p:nvSpPr>
          <p:spPr>
            <a:xfrm>
              <a:off x="5765760" y="207792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w + v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5w - 3v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5129280" y="3645000"/>
            <a:ext cx="4014720" cy="1633680"/>
            <a:chOff x="5129280" y="3645000"/>
            <a:chExt cx="4014720" cy="1633680"/>
          </a:xfrm>
        </p:grpSpPr>
        <p:grpSp>
          <p:nvGrpSpPr>
            <p:cNvPr id="2007" name=""/>
            <p:cNvGrpSpPr/>
            <p:nvPr/>
          </p:nvGrpSpPr>
          <p:grpSpPr>
            <a:xfrm>
              <a:off x="5129280" y="3645000"/>
              <a:ext cx="4014720" cy="1633680"/>
              <a:chOff x="5129280" y="3645000"/>
              <a:chExt cx="4014720" cy="1633680"/>
            </a:xfrm>
          </p:grpSpPr>
          <p:grpSp>
            <p:nvGrpSpPr>
              <p:cNvPr id="2008" name=""/>
              <p:cNvGrpSpPr/>
              <p:nvPr/>
            </p:nvGrpSpPr>
            <p:grpSpPr>
              <a:xfrm>
                <a:off x="5176800" y="3797280"/>
                <a:ext cx="3657600" cy="1218600"/>
                <a:chOff x="5176800" y="3797280"/>
                <a:chExt cx="3657600" cy="1218600"/>
              </a:xfrm>
            </p:grpSpPr>
            <p:sp>
              <p:nvSpPr>
                <p:cNvPr id="2009" name=""/>
                <p:cNvSpPr/>
                <p:nvPr/>
              </p:nvSpPr>
              <p:spPr>
                <a:xfrm>
                  <a:off x="6599160" y="379728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6091200" y="410184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7005600" y="410184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6548400" y="440640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5634000" y="440640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7462800" y="440640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7920000" y="471132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7005600" y="471132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091200" y="471132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176800" y="471132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9" name=""/>
              <p:cNvSpPr/>
              <p:nvPr/>
            </p:nvSpPr>
            <p:spPr>
              <a:xfrm>
                <a:off x="5481720" y="364500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129280" y="4667040"/>
                <a:ext cx="358128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 + w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v – 3w        6w           v - w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853320" y="3720960"/>
                <a:ext cx="1066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5562720" y="4381200"/>
                <a:ext cx="358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v - 2w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3w + v       5w + v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3" name=""/>
            <p:cNvSpPr/>
            <p:nvPr/>
          </p:nvSpPr>
          <p:spPr>
            <a:xfrm>
              <a:off x="6031080" y="4025880"/>
              <a:ext cx="2041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v + w    8w + 2v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2" dur="indefinite" restart="never" nodeType="tmRoot">
          <p:childTnLst>
            <p:seq>
              <p:cTn id="2303" dur="indefinite" nodeType="mainSeq">
                <p:childTnLst>
                  <p:par>
                    <p:cTn id="2304" fill="hold">
                      <p:stCondLst>
                        <p:cond delay="0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500"/>
                            </p:stCondLst>
                            <p:childTnLst>
                              <p:par>
                                <p:cTn id="2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4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2025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15840" y="836640"/>
            <a:ext cx="4700520" cy="1008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ork your way to an expression for the top row by filling in the middle r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5840" y="206064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yramid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160200" y="2565360"/>
            <a:ext cx="466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3v + 2w,  -2v + 3w,  -v + 2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160200" y="306864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v + 5w,  -3v + 5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160200" y="357336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p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-2v + 1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2949120" y="3567240"/>
            <a:ext cx="83916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-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0" y="4416480"/>
            <a:ext cx="21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yramid 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304920" y="479736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2v - 2w,  v + 3w,  v + 5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233280" y="542448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3v + w,  2v + 8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233280" y="5950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p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5v + 9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2826000" y="5950080"/>
            <a:ext cx="6836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647680" y="785880"/>
            <a:ext cx="25506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w - 2v =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w  + 5v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5726880" y="2563920"/>
            <a:ext cx="295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by th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 flipH="1">
            <a:off x="3563640" y="1052640"/>
            <a:ext cx="2087640" cy="24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 flipH="1">
            <a:off x="3492360" y="1125360"/>
            <a:ext cx="2232000" cy="468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163480" y="4149720"/>
            <a:ext cx="39816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of simultaneous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5" dur="indefinite" restart="never" nodeType="tmRoot">
          <p:childTnLst>
            <p:seq>
              <p:cTn id="2316" dur="indefinite" nodeType="mainSeq">
                <p:childTnLst>
                  <p:par>
                    <p:cTn id="2317" fill="hold">
                      <p:stCondLst>
                        <p:cond delay="0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6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0" y="2446200"/>
            <a:ext cx="5040360" cy="4411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42920" y="861840"/>
            <a:ext cx="4573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Construct a table of values with at least 2 x coordin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3080" y="170496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= 2x -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43280" y="170496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      0    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43280" y="208584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     -2     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68720" y="316692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55640" y="5686560"/>
            <a:ext cx="216000" cy="21564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159520" y="549360"/>
            <a:ext cx="3984480" cy="4362840"/>
            <a:chOff x="5159520" y="549360"/>
            <a:chExt cx="3984480" cy="4362840"/>
          </a:xfrm>
        </p:grpSpPr>
        <p:sp>
          <p:nvSpPr>
            <p:cNvPr id="192" name=""/>
            <p:cNvSpPr/>
            <p:nvPr/>
          </p:nvSpPr>
          <p:spPr>
            <a:xfrm>
              <a:off x="5159520" y="549360"/>
              <a:ext cx="3984480" cy="436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re are two ways of draw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 line y = 2x -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Method 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nding two points on the lin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 = 0          y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2 x 0 – 1 =  -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 = 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y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2 x 2 - 1  =  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 Point (0,-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ond Point (-1,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lot and join (0,-1), and (-1,3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73920" y="248436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84720" y="306864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>
            <a:hlinkClick r:id="rId4"/>
          </p:cNvPr>
          <p:cNvSpPr/>
          <p:nvPr/>
        </p:nvSpPr>
        <p:spPr>
          <a:xfrm>
            <a:off x="637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0" y="1557360"/>
            <a:ext cx="5040360" cy="4411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168720" y="227808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55640" y="479736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76500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lot and join points. Solution is where lines cro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403280" y="1676160"/>
            <a:ext cx="2303640" cy="381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82920" y="3044880"/>
            <a:ext cx="504720" cy="431640"/>
          </a:xfrm>
          <a:prstGeom prst="ellipse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6093000"/>
            <a:ext cx="2133720" cy="457200"/>
          </a:xfrm>
          <a:prstGeom prst="rect">
            <a:avLst/>
          </a:prstGeom>
          <a:solidFill>
            <a:srgbClr val="ff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0930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ution is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= 3   &amp;   y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076360" y="404640"/>
            <a:ext cx="3326760" cy="2172600"/>
            <a:chOff x="5076360" y="404640"/>
            <a:chExt cx="3326760" cy="2172600"/>
          </a:xfrm>
        </p:grpSpPr>
        <p:sp>
          <p:nvSpPr>
            <p:cNvPr id="214" name=""/>
            <p:cNvSpPr/>
            <p:nvPr/>
          </p:nvSpPr>
          <p:spPr>
            <a:xfrm>
              <a:off x="5354280" y="404640"/>
              <a:ext cx="30488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Method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Using  y = mx + c  form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y = mx +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738400" y="180648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29480" y="180648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76360" y="2117520"/>
              <a:ext cx="1181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d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04040" y="2092320"/>
              <a:ext cx="165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 - inter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5291280" y="4508640"/>
            <a:ext cx="3529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C(0, -1) and draw 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m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292720" y="2637000"/>
            <a:ext cx="3672000" cy="2029320"/>
            <a:chOff x="5292720" y="2637000"/>
            <a:chExt cx="3672000" cy="2029320"/>
          </a:xfrm>
        </p:grpSpPr>
        <p:grpSp>
          <p:nvGrpSpPr>
            <p:cNvPr id="221" name=""/>
            <p:cNvGrpSpPr/>
            <p:nvPr/>
          </p:nvGrpSpPr>
          <p:grpSpPr>
            <a:xfrm>
              <a:off x="5363640" y="2637000"/>
              <a:ext cx="3332520" cy="2029320"/>
              <a:chOff x="5363640" y="2637000"/>
              <a:chExt cx="3332520" cy="2029320"/>
            </a:xfrm>
          </p:grpSpPr>
          <p:sp>
            <p:nvSpPr>
              <p:cNvPr id="222" name=""/>
              <p:cNvSpPr/>
              <p:nvPr/>
            </p:nvSpPr>
            <p:spPr>
              <a:xfrm>
                <a:off x="5440320" y="2637000"/>
                <a:ext cx="137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y = 2x - 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5760360" y="3052800"/>
                <a:ext cx="304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598800" y="3052800"/>
                <a:ext cx="457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363640" y="3475080"/>
                <a:ext cx="1181880" cy="82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radi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 =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038720" y="3475080"/>
                <a:ext cx="1657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y - inter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 = 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292720" y="2708280"/>
              <a:ext cx="3672000" cy="1657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106668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106668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459576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4" action="ppaction://hlinksldjump"/>
          </p:cNvPr>
          <p:cNvSpPr/>
          <p:nvPr/>
        </p:nvSpPr>
        <p:spPr>
          <a:xfrm>
            <a:off x="459576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57240" y="6237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20720" y="558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19280" y="6237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61200" y="5589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1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88000" y="981000"/>
            <a:ext cx="435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agram shows the graph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x + y =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2133720"/>
            <a:ext cx="42116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 the diagram and on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 draw the graph of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3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ce sol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 + y =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6"/>
          <a:stretch/>
        </p:blipFill>
        <p:spPr>
          <a:xfrm>
            <a:off x="0" y="620640"/>
            <a:ext cx="4859280" cy="48592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752472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14400" y="5589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14:09:20Z</dcterms:created>
  <dc:creator>Richardson</dc:creator>
  <dc:description/>
  <dc:language>en-US</dc:language>
  <cp:lastModifiedBy>Richardson</cp:lastModifiedBy>
  <dcterms:modified xsi:type="dcterms:W3CDTF">2006-01-08T14:46:56Z</dcterms:modified>
  <cp:revision>19</cp:revision>
  <dc:subject/>
  <dc:title>Slide 1</dc:title>
</cp:coreProperties>
</file>