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C88-5BA3-480E-86E9-142F80E2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AF6-4343-4E77-8E29-5058ED1D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544-4FE0-4F3B-A610-0C52A459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0A2-CDF1-4323-84E7-2A921114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E4F-5267-4242-85F4-59F98055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38B-7D33-475D-90EA-D902F4B2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F08-839F-48CB-AAEF-7054F0C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595-C878-4451-A77C-A6BA26C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022-2F7C-444A-B95A-FEE2DD7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FC2-B95C-4E1C-B24B-1FC9EA9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D51-0E63-4DBB-8755-2072743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FBE-7DD2-449E-90FE-FC07000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9E93-6343-4F92-B7D5-0AE71467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hyperlink" Target="file:///Other%20Slides4.ppt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Other%20Slides4.ppt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/Other%20Slides4.ppt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s, Ch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18728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48436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378000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932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6156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745344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0160" y="4916520"/>
            <a:ext cx="9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8880" y="4916520"/>
            <a:ext cx="6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74520" y="4916520"/>
            <a:ext cx="84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55240" y="491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880" y="491652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m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2880" y="4916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e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28760" y="476280"/>
            <a:ext cx="399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the upper and l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 deal with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either side of the me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5040" y="2062080"/>
            <a:ext cx="461160" cy="44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13040" y="2062080"/>
            <a:ext cx="3512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numbers after med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numbers either side of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idway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9th and 20th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2781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276720" y="2276640"/>
            <a:ext cx="1582560" cy="2304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2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2700360" y="58071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4360" y="58071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5364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4" action="ppaction://hlinksldjump"/>
          </p:cNvPr>
          <p:cNvSpPr/>
          <p:nvPr/>
        </p:nvSpPr>
        <p:spPr>
          <a:xfrm>
            <a:off x="5364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11640" y="1197000"/>
            <a:ext cx="4032360" cy="1942920"/>
          </a:xfrm>
          <a:prstGeom prst="cloudCallout">
            <a:avLst>
              <a:gd name="adj1" fmla="val -37912"/>
              <a:gd name="adj2" fmla="val 7565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lowest &amp; highest values and draw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32360" y="1700280"/>
            <a:ext cx="3311640" cy="1657440"/>
          </a:xfrm>
          <a:prstGeom prst="cloudCallout">
            <a:avLst>
              <a:gd name="adj1" fmla="val -50768"/>
              <a:gd name="adj2" fmla="val 712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 dot for each piece of data and label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916280"/>
            <a:ext cx="4356000" cy="1655640"/>
          </a:xfrm>
          <a:prstGeom prst="cloudCallout">
            <a:avLst>
              <a:gd name="adj1" fmla="val -7106"/>
              <a:gd name="adj2" fmla="val 1383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ility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270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5364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4" action="ppaction://hlinksldjump"/>
          </p:cNvPr>
          <p:cNvSpPr/>
          <p:nvPr/>
        </p:nvSpPr>
        <p:spPr>
          <a:xfrm>
            <a:off x="5364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7840" y="5300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4005360"/>
            <a:ext cx="2592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ly clu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9080" y="4869000"/>
            <a:ext cx="676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543708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6084720" y="3284640"/>
            <a:ext cx="1008360" cy="431640"/>
          </a:xfrm>
          <a:custGeom>
            <a:avLst/>
            <a:gdLst>
              <a:gd name="textAreaLeft" fmla="*/ 27720 w 1008360"/>
              <a:gd name="textAreaRight" fmla="*/ 980640 w 100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54370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277164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351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3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stablish lowest &amp; highest values and draw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9120" y="249228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 this using a dot 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362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995640" y="105264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Lowest = 28 &amp; highest = 3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377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398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995640" y="4724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 dot for each piece of data and label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4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414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424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425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438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459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-3600" y="2682720"/>
            <a:ext cx="391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type of distribution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s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24360" y="5013360"/>
            <a:ext cx="4952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25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25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25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47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4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485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499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520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99564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34600" y="4653000"/>
            <a:ext cx="4740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bigger than 29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37480" y="522936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573408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W &gt; mod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-2160" y="2395440"/>
            <a:ext cx="36842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a bag is chosen at ran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is the probability it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 heavier than the m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ight?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981000"/>
            <a:ext cx="102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2276640"/>
            <a:ext cx="576360" cy="1728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40720" y="3500280"/>
            <a:ext cx="576360" cy="5781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3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39440" y="6272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25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7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25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546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547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560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581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991040" y="836640"/>
            <a:ext cx="3321000" cy="19494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4643280" y="3036960"/>
            <a:ext cx="4383360" cy="22636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4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5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598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599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612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633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4282920" cy="22636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5419800" y="3429000"/>
            <a:ext cx="3724200" cy="1905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4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rId5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650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651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664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685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11448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rId4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2700360" y="5950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360" y="59500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655640" y="1844640"/>
            <a:ext cx="2438640" cy="2286000"/>
            <a:chOff x="1655640" y="1844640"/>
            <a:chExt cx="2438640" cy="2286000"/>
          </a:xfrm>
        </p:grpSpPr>
        <p:sp>
          <p:nvSpPr>
            <p:cNvPr id="703" name=""/>
            <p:cNvSpPr/>
            <p:nvPr/>
          </p:nvSpPr>
          <p:spPr>
            <a:xfrm>
              <a:off x="3179880" y="2759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17760" y="2454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55640" y="275904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55640" y="3978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9880" y="3978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17760" y="3978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41640" y="3978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17760" y="3063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55640" y="30636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5640" y="367344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79880" y="3673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17760" y="3673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17760" y="2759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55640" y="336852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79880" y="3368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17760" y="3368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17760" y="21492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79880" y="3063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5640" y="245412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17760" y="18446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71280" y="1844640"/>
            <a:ext cx="1904760" cy="533160"/>
            <a:chOff x="-71280" y="1844640"/>
            <a:chExt cx="1904760" cy="533160"/>
          </a:xfrm>
        </p:grpSpPr>
        <p:sp>
          <p:nvSpPr>
            <p:cNvPr id="724" name=""/>
            <p:cNvSpPr/>
            <p:nvPr/>
          </p:nvSpPr>
          <p:spPr>
            <a:xfrm>
              <a:off x="-71280" y="1844640"/>
              <a:ext cx="15238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71280" y="19206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0" y="73836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8600" y="5192640"/>
            <a:ext cx="4740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bigger than 29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1840" y="570708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621180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W &gt; mod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90880" y="1197000"/>
            <a:ext cx="102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952720" y="2492280"/>
            <a:ext cx="576360" cy="1728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45080" y="3716280"/>
            <a:ext cx="576000" cy="5778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4319640"/>
            <a:ext cx="5111640" cy="932400"/>
            <a:chOff x="0" y="4319640"/>
            <a:chExt cx="5111640" cy="932400"/>
          </a:xfrm>
        </p:grpSpPr>
        <p:grpSp>
          <p:nvGrpSpPr>
            <p:cNvPr id="734" name=""/>
            <p:cNvGrpSpPr/>
            <p:nvPr/>
          </p:nvGrpSpPr>
          <p:grpSpPr>
            <a:xfrm>
              <a:off x="0" y="4319640"/>
              <a:ext cx="5111640" cy="304560"/>
              <a:chOff x="0" y="4319640"/>
              <a:chExt cx="5111640" cy="3045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471920"/>
                <a:ext cx="51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588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3580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4608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5564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6556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7584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68540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212760" y="4548240"/>
              <a:ext cx="42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32960" y="4548240"/>
              <a:ext cx="4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2800" y="4548240"/>
              <a:ext cx="4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74080" y="4548240"/>
              <a:ext cx="4240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8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78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8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2700360" y="5013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64360" y="5013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2700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4" action="ppaction://hlinksldjump"/>
          </p:cNvPr>
          <p:cNvSpPr/>
          <p:nvPr/>
        </p:nvSpPr>
        <p:spPr>
          <a:xfrm>
            <a:off x="55087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5" action="ppaction://hlinksldjump"/>
          </p:cNvPr>
          <p:cNvSpPr/>
          <p:nvPr/>
        </p:nvSpPr>
        <p:spPr>
          <a:xfrm>
            <a:off x="55087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11640" y="1197000"/>
            <a:ext cx="4032360" cy="1942920"/>
          </a:xfrm>
          <a:prstGeom prst="cloudCallout">
            <a:avLst>
              <a:gd name="adj1" fmla="val -37912"/>
              <a:gd name="adj2" fmla="val 7565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lowest &amp; highest values and dra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832360" y="1700280"/>
            <a:ext cx="3311640" cy="2016000"/>
          </a:xfrm>
          <a:prstGeom prst="cloudCallout">
            <a:avLst>
              <a:gd name="adj1" fmla="val -68023"/>
              <a:gd name="adj2" fmla="val 18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each row 1 step at a time, calculating running total as you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1916280"/>
            <a:ext cx="4356000" cy="1655640"/>
          </a:xfrm>
          <a:prstGeom prst="cloudCallout">
            <a:avLst>
              <a:gd name="adj1" fmla="val -67819"/>
              <a:gd name="adj2" fmla="val 988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ility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59280" y="1268280"/>
            <a:ext cx="3384720" cy="2376720"/>
          </a:xfrm>
          <a:prstGeom prst="cloudCallout">
            <a:avLst>
              <a:gd name="adj1" fmla="val -57365"/>
              <a:gd name="adj2" fmla="val 4552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= (n+1) / 2 to establish in which row median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rId2" action="ppaction://hlinksldjump"/>
          </p:cNvPr>
          <p:cNvSpPr/>
          <p:nvPr/>
        </p:nvSpPr>
        <p:spPr>
          <a:xfrm>
            <a:off x="262728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nextslide"/>
          </p:cNvPr>
          <p:cNvSpPr/>
          <p:nvPr/>
        </p:nvSpPr>
        <p:spPr>
          <a:xfrm>
            <a:off x="262728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rId3" action="ppaction://hlinksldjump"/>
          </p:cNvPr>
          <p:cNvSpPr/>
          <p:nvPr/>
        </p:nvSpPr>
        <p:spPr>
          <a:xfrm>
            <a:off x="550872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rId4" action="ppaction://hlinksldjump"/>
          </p:cNvPr>
          <p:cNvSpPr/>
          <p:nvPr/>
        </p:nvSpPr>
        <p:spPr>
          <a:xfrm>
            <a:off x="550872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53480" y="5229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7956720" y="2781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66920" y="3357720"/>
            <a:ext cx="1630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12720" y="4340160"/>
            <a:ext cx="534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rId2" action="ppaction://hlinksldjump"/>
          </p:cNvPr>
          <p:cNvSpPr/>
          <p:nvPr/>
        </p:nvSpPr>
        <p:spPr>
          <a:xfrm>
            <a:off x="262728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rId3" action="ppaction://hlinksldjump"/>
          </p:cNvPr>
          <p:cNvSpPr/>
          <p:nvPr/>
        </p:nvSpPr>
        <p:spPr>
          <a:xfrm>
            <a:off x="550872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4" action="ppaction://hlinksldjump"/>
          </p:cNvPr>
          <p:cNvSpPr/>
          <p:nvPr/>
        </p:nvSpPr>
        <p:spPr>
          <a:xfrm>
            <a:off x="550872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04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51280" y="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stablish lowest &amp; highest values and draw a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24360" y="7650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Lowest = 10 &amp; highest =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-347040" y="3116160"/>
            <a:ext cx="410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truct a cumul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quency table for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851280" y="1268280"/>
            <a:ext cx="5562360" cy="4267080"/>
            <a:chOff x="3851280" y="1268280"/>
            <a:chExt cx="5562360" cy="4267080"/>
          </a:xfrm>
        </p:grpSpPr>
        <p:grpSp>
          <p:nvGrpSpPr>
            <p:cNvPr id="816" name=""/>
            <p:cNvGrpSpPr/>
            <p:nvPr/>
          </p:nvGrpSpPr>
          <p:grpSpPr>
            <a:xfrm>
              <a:off x="3851280" y="1268280"/>
              <a:ext cx="5257800" cy="4267080"/>
              <a:chOff x="3851280" y="1268280"/>
              <a:chExt cx="5257800" cy="4267080"/>
            </a:xfrm>
          </p:grpSpPr>
          <p:sp>
            <p:nvSpPr>
              <p:cNvPr id="817" name=""/>
              <p:cNvSpPr/>
              <p:nvPr/>
            </p:nvSpPr>
            <p:spPr>
              <a:xfrm>
                <a:off x="3851280" y="126828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46920" y="126828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47120" y="126828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51280" y="187776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3927240" y="1344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4232160" y="195408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80080" y="195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680080" y="225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80080" y="263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80080" y="340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80080" y="3782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680080" y="4087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80080" y="446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80080" y="484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80080" y="302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51280" y="566100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omplete each row 1 step at a time, calculating running total as you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4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51280" y="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median = (n+1) / 2 to establish in which row median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851280" y="836640"/>
            <a:ext cx="5562360" cy="4267080"/>
            <a:chOff x="3851280" y="836640"/>
            <a:chExt cx="5562360" cy="4267080"/>
          </a:xfrm>
        </p:grpSpPr>
        <p:grpSp>
          <p:nvGrpSpPr>
            <p:cNvPr id="856" name=""/>
            <p:cNvGrpSpPr/>
            <p:nvPr/>
          </p:nvGrpSpPr>
          <p:grpSpPr>
            <a:xfrm>
              <a:off x="3851280" y="836640"/>
              <a:ext cx="5257800" cy="4267080"/>
              <a:chOff x="3851280" y="836640"/>
              <a:chExt cx="5257800" cy="4267080"/>
            </a:xfrm>
          </p:grpSpPr>
          <p:sp>
            <p:nvSpPr>
              <p:cNvPr id="857" name=""/>
              <p:cNvSpPr/>
              <p:nvPr/>
            </p:nvSpPr>
            <p:spPr>
              <a:xfrm>
                <a:off x="3851280" y="83664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69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7471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851280" y="144612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3927240" y="91296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4232160" y="152244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80080" y="1522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80080" y="1827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80080" y="2208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0080" y="2970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651640" y="3357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680080" y="36561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80080" y="403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80080" y="441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80080" y="2589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-3960" y="3187800"/>
            <a:ext cx="337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b) What is the median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18600" y="5157720"/>
            <a:ext cx="50421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0 values median is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5th &amp; 16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oth of which are in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ow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308720" y="2997360"/>
            <a:ext cx="863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33840" y="6021360"/>
            <a:ext cx="229464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Mark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995640" y="2997360"/>
            <a:ext cx="863640" cy="43164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825"/>
                            </p:stCondLst>
                            <p:childTnLst>
                              <p:par>
                                <p:cTn id="6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91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851280" y="836640"/>
            <a:ext cx="5562360" cy="4267080"/>
            <a:chOff x="3851280" y="836640"/>
            <a:chExt cx="5562360" cy="4267080"/>
          </a:xfrm>
        </p:grpSpPr>
        <p:grpSp>
          <p:nvGrpSpPr>
            <p:cNvPr id="900" name=""/>
            <p:cNvGrpSpPr/>
            <p:nvPr/>
          </p:nvGrpSpPr>
          <p:grpSpPr>
            <a:xfrm>
              <a:off x="3851280" y="836640"/>
              <a:ext cx="5257800" cy="4267080"/>
              <a:chOff x="3851280" y="836640"/>
              <a:chExt cx="5257800" cy="4267080"/>
            </a:xfrm>
          </p:grpSpPr>
          <p:sp>
            <p:nvSpPr>
              <p:cNvPr id="901" name=""/>
              <p:cNvSpPr/>
              <p:nvPr/>
            </p:nvSpPr>
            <p:spPr>
              <a:xfrm>
                <a:off x="3851280" y="83664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469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471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51280" y="144612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3927240" y="91296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4232160" y="152244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680080" y="1522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80080" y="1827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80080" y="2208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680080" y="2970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51640" y="3357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680080" y="36561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80080" y="403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680080" y="441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680080" y="2589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565360"/>
            <a:ext cx="863640" cy="432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308720" y="4437000"/>
            <a:ext cx="863640" cy="43200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2997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90960" y="5157720"/>
            <a:ext cx="420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14)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993120" y="55166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51280" y="587700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mark&lt;14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9564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1280" y="1413000"/>
            <a:ext cx="1224000" cy="1728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250"/>
                            </p:stCondLst>
                            <p:childTnLst>
                              <p:par>
                                <p:cTn id="6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75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25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8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8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60"/>
                            </p:stCondLst>
                            <p:childTnLst>
                              <p:par>
                                <p:cTn id="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-5760" y="5553000"/>
            <a:ext cx="50421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0 values median is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th &amp; 16th  both of which are in row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510560" y="6416640"/>
            <a:ext cx="16300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0" y="836640"/>
            <a:ext cx="4932360" cy="4267080"/>
            <a:chOff x="0" y="836640"/>
            <a:chExt cx="4932360" cy="4267080"/>
          </a:xfrm>
        </p:grpSpPr>
        <p:grpSp>
          <p:nvGrpSpPr>
            <p:cNvPr id="941" name=""/>
            <p:cNvGrpSpPr/>
            <p:nvPr/>
          </p:nvGrpSpPr>
          <p:grpSpPr>
            <a:xfrm>
              <a:off x="0" y="836640"/>
              <a:ext cx="4662000" cy="4267080"/>
              <a:chOff x="0" y="836640"/>
              <a:chExt cx="4662000" cy="426708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836640"/>
                <a:ext cx="46620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4876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675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446120"/>
                <a:ext cx="466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67320" y="912960"/>
              <a:ext cx="48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343080" y="1557360"/>
            <a:ext cx="53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440" y="2997360"/>
            <a:ext cx="863640" cy="43164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735200" y="1557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735200" y="186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35200" y="22431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735200" y="3005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735200" y="369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735200" y="40719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35200" y="4452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5200" y="2624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21080" y="3032280"/>
            <a:ext cx="863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739880" y="3357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939920" y="620640"/>
            <a:ext cx="309744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– 15 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-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77080" y="1125360"/>
            <a:ext cx="0" cy="6480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437440" y="3846600"/>
            <a:ext cx="3458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mark at whic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frequency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s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00720" y="3218040"/>
            <a:ext cx="1512720" cy="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36560" y="2997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60"/>
                            </p:stCondLst>
                            <p:childTnLst>
                              <p:par>
                                <p:cTn id="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12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0" y="836640"/>
            <a:ext cx="4932360" cy="4267080"/>
            <a:chOff x="0" y="836640"/>
            <a:chExt cx="4932360" cy="4267080"/>
          </a:xfrm>
        </p:grpSpPr>
        <p:grpSp>
          <p:nvGrpSpPr>
            <p:cNvPr id="974" name=""/>
            <p:cNvGrpSpPr/>
            <p:nvPr/>
          </p:nvGrpSpPr>
          <p:grpSpPr>
            <a:xfrm>
              <a:off x="0" y="836640"/>
              <a:ext cx="4662000" cy="4267080"/>
              <a:chOff x="0" y="836640"/>
              <a:chExt cx="4662000" cy="426708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836640"/>
                <a:ext cx="46620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4876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5675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446120"/>
                <a:ext cx="466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67320" y="912960"/>
              <a:ext cx="48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324000" y="1557360"/>
            <a:ext cx="53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92360" y="4437000"/>
            <a:ext cx="863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35200" y="1557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35200" y="186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735200" y="22431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735200" y="3005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35200" y="369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735200" y="40719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735200" y="4452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35200" y="2624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4000" y="2708280"/>
            <a:ext cx="863640" cy="43164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39880" y="3357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4600" y="5421240"/>
            <a:ext cx="420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14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6760" y="578016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920" y="6140520"/>
            <a:ext cx="453708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mark&lt;14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8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0"/>
                            </p:stCondLst>
                            <p:childTnLst>
                              <p:par>
                                <p:cTn id="7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280"/>
                            </p:stCondLst>
                            <p:childTnLst>
                              <p:par>
                                <p:cTn id="8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008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009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nextslide"/>
          </p:cNvPr>
          <p:cNvSpPr/>
          <p:nvPr/>
        </p:nvSpPr>
        <p:spPr>
          <a:xfrm>
            <a:off x="39528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59280" y="5661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2" action="ppaction://hlinksldjump"/>
          </p:cNvPr>
          <p:cNvSpPr/>
          <p:nvPr/>
        </p:nvSpPr>
        <p:spPr>
          <a:xfrm>
            <a:off x="277164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rId3" action="ppaction://hlinksldjump"/>
          </p:cNvPr>
          <p:cNvSpPr/>
          <p:nvPr/>
        </p:nvSpPr>
        <p:spPr>
          <a:xfrm>
            <a:off x="277164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rId4" action="ppaction://hlinksldjump"/>
          </p:cNvPr>
          <p:cNvSpPr/>
          <p:nvPr/>
        </p:nvSpPr>
        <p:spPr>
          <a:xfrm>
            <a:off x="5580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rId5" action="ppaction://hlinksldjump"/>
          </p:cNvPr>
          <p:cNvSpPr/>
          <p:nvPr/>
        </p:nvSpPr>
        <p:spPr>
          <a:xfrm>
            <a:off x="558000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270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1268280"/>
            <a:ext cx="3457440" cy="1727280"/>
          </a:xfrm>
          <a:prstGeom prst="cloudCallout">
            <a:avLst>
              <a:gd name="adj1" fmla="val -7805"/>
              <a:gd name="adj2" fmla="val 11902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1125360"/>
            <a:ext cx="3097080" cy="2953080"/>
          </a:xfrm>
          <a:prstGeom prst="cloudCallout">
            <a:avLst>
              <a:gd name="adj1" fmla="val -28833"/>
              <a:gd name="adj2" fmla="val 718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00" y="49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065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066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686560" y="1052640"/>
            <a:ext cx="3457440" cy="1726920"/>
          </a:xfrm>
          <a:prstGeom prst="cloudCallout">
            <a:avLst>
              <a:gd name="adj1" fmla="val -129569"/>
              <a:gd name="adj2" fmla="val 1048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759280" y="909720"/>
            <a:ext cx="3097440" cy="2952720"/>
          </a:xfrm>
          <a:prstGeom prst="cloudCallout">
            <a:avLst>
              <a:gd name="adj1" fmla="val -66250"/>
              <a:gd name="adj2" fmla="val 469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724360" y="1341360"/>
            <a:ext cx="2951280" cy="3167280"/>
          </a:xfrm>
          <a:prstGeom prst="cloudCallout">
            <a:avLst>
              <a:gd name="adj1" fmla="val -60379"/>
              <a:gd name="adj2" fmla="val 561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" action="ppaction://hlinkshowjump?jump=nextslide"/>
          </p:cNvPr>
          <p:cNvSpPr/>
          <p:nvPr/>
        </p:nvSpPr>
        <p:spPr>
          <a:xfrm>
            <a:off x="270036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177960" y="630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95240" y="6308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rId2" action="ppaction://hlinksldjump"/>
          </p:cNvPr>
          <p:cNvSpPr/>
          <p:nvPr/>
        </p:nvSpPr>
        <p:spPr>
          <a:xfrm>
            <a:off x="2700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rId3" action="ppaction://hlinksldjump"/>
          </p:cNvPr>
          <p:cNvSpPr/>
          <p:nvPr/>
        </p:nvSpPr>
        <p:spPr>
          <a:xfrm>
            <a:off x="543564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4" action="ppaction://hlinksldjump"/>
          </p:cNvPr>
          <p:cNvSpPr/>
          <p:nvPr/>
        </p:nvSpPr>
        <p:spPr>
          <a:xfrm>
            <a:off x="543564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624760" y="5300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124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125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141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112536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227640" y="155736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27640" y="206064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032120" y="5373720"/>
            <a:ext cx="7913520" cy="86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stributed more widely than (or not as clustered a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09440" y="638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306072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20320" y="630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665040" y="63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rId2" action="ppaction://hlinksldjump"/>
          </p:cNvPr>
          <p:cNvSpPr/>
          <p:nvPr/>
        </p:nvSpPr>
        <p:spPr>
          <a:xfrm>
            <a:off x="5435640" y="422100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rId3" action="ppaction://hlinksldjump"/>
          </p:cNvPr>
          <p:cNvSpPr/>
          <p:nvPr/>
        </p:nvSpPr>
        <p:spPr>
          <a:xfrm>
            <a:off x="133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rId4" action="ppaction://hlinksldjump"/>
          </p:cNvPr>
          <p:cNvSpPr/>
          <p:nvPr/>
        </p:nvSpPr>
        <p:spPr>
          <a:xfrm>
            <a:off x="601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182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4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190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207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-348840" y="2997360"/>
            <a:ext cx="427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d th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)  med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i)  lower qua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ii)  upper qua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211640" y="83664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788000" y="2349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246560" y="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246560" y="2852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246560" y="458136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356000" y="3716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788000" y="4149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489560" y="544500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788000" y="602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0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265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2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273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290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-345960" y="3141720"/>
            <a:ext cx="4416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b) Construct a boxplot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211640" y="189000"/>
            <a:ext cx="489744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657600" y="3357720"/>
            <a:ext cx="5486400" cy="627120"/>
            <a:chOff x="3657600" y="3357720"/>
            <a:chExt cx="5486400" cy="627120"/>
          </a:xfrm>
        </p:grpSpPr>
        <p:grpSp>
          <p:nvGrpSpPr>
            <p:cNvPr id="1328" name=""/>
            <p:cNvGrpSpPr/>
            <p:nvPr/>
          </p:nvGrpSpPr>
          <p:grpSpPr>
            <a:xfrm>
              <a:off x="3657600" y="3357720"/>
              <a:ext cx="5486400" cy="304560"/>
              <a:chOff x="3657600" y="3357720"/>
              <a:chExt cx="5486400" cy="304560"/>
            </a:xfrm>
          </p:grpSpPr>
          <p:sp>
            <p:nvSpPr>
              <p:cNvPr id="1329" name=""/>
              <p:cNvSpPr/>
              <p:nvPr/>
            </p:nvSpPr>
            <p:spPr>
              <a:xfrm>
                <a:off x="3657600" y="3509640"/>
                <a:ext cx="548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733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114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496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76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257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39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19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00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82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62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543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925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05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686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4267080" y="358596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140360" y="170028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48, Q1 = 49, Q2 = 5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52 &amp; Highest = 5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00720" y="2852640"/>
            <a:ext cx="3809880" cy="304920"/>
            <a:chOff x="4500720" y="2852640"/>
            <a:chExt cx="3809880" cy="304920"/>
          </a:xfrm>
        </p:grpSpPr>
        <p:sp>
          <p:nvSpPr>
            <p:cNvPr id="1347" name=""/>
            <p:cNvSpPr/>
            <p:nvPr/>
          </p:nvSpPr>
          <p:spPr>
            <a:xfrm>
              <a:off x="4881600" y="2852640"/>
              <a:ext cx="114264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4500720" y="300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0072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024600" y="3004920"/>
              <a:ext cx="228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1060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6248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366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3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8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374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391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11640" y="18900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alculate SIQR then compare 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-348120" y="2997360"/>
            <a:ext cx="4737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c) In a second sampl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mi-interquartile rang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2.5.  How does this comp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284720" y="1413000"/>
            <a:ext cx="48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bove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QR = (52 - 49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84720" y="2708280"/>
            <a:ext cx="4859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ample where the SIQ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ata is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stributed more widely than (or not as clustered a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28220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4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148428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76360" y="292428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4920" y="76500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920" y="33465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920" y="50133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44360" y="4149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6360" y="458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7920" y="580536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6360" y="6381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217480" y="11588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numbers in the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34560" y="211608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-  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13  - 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578640" y="20098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398640" y="28162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419440" y="3429000"/>
            <a:ext cx="340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numbers on either 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72560" y="542880"/>
            <a:ext cx="167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d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>
            <a:hlinkClick r:id="rId3" action="ppaction://hlinksldjump"/>
          </p:cNvPr>
          <p:cNvSpPr/>
          <p:nvPr/>
        </p:nvSpPr>
        <p:spPr>
          <a:xfrm>
            <a:off x="6372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40"/>
                            </p:stCondLst>
                            <p:childTnLst>
                              <p:par>
                                <p:cTn id="10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820"/>
                            </p:stCondLst>
                            <p:childTnLst>
                              <p:par>
                                <p:cTn id="10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320"/>
                            </p:stCondLst>
                            <p:childTnLst>
                              <p:par>
                                <p:cTn id="10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148428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6360" y="292428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920" y="76500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920" y="33465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4920" y="50133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44360" y="4149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76360" y="458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77920" y="580536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76360" y="6381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271480" y="542880"/>
            <a:ext cx="1806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quart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445360" y="150480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-  5    6      7    -  11 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516720" y="134136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249760" y="21207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336720" y="21351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421400" y="29242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459640" y="134136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41760" y="36320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06600" y="311616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 -  17   18    19   - 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365440" y="3103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70120" y="37162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29368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84400" y="4292640"/>
            <a:ext cx="46033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count through the list until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rId3" action="ppaction://hlinksldjump"/>
          </p:cNvPr>
          <p:cNvSpPr/>
          <p:nvPr/>
        </p:nvSpPr>
        <p:spPr>
          <a:xfrm>
            <a:off x="6372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981000"/>
            <a:ext cx="464328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alculate SIQR then compare 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080" y="2205000"/>
            <a:ext cx="460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bove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QR = (52 - 49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080" y="3500280"/>
            <a:ext cx="46069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ample where the SIQ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ata is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stributed more widely than or not as clustered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784040" y="595440"/>
            <a:ext cx="4095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emi-interquartile range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e of the rang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ddle”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5591880" y="1773360"/>
            <a:ext cx="2625480" cy="703800"/>
            <a:chOff x="5591880" y="1773360"/>
            <a:chExt cx="2625480" cy="703800"/>
          </a:xfrm>
        </p:grpSpPr>
        <p:sp>
          <p:nvSpPr>
            <p:cNvPr id="1504" name=""/>
            <p:cNvSpPr/>
            <p:nvPr/>
          </p:nvSpPr>
          <p:spPr>
            <a:xfrm>
              <a:off x="5591880" y="1892160"/>
              <a:ext cx="262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.I.R. 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(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6494400" y="1773360"/>
              <a:ext cx="431640" cy="703800"/>
              <a:chOff x="6494400" y="1773360"/>
              <a:chExt cx="431640" cy="703800"/>
            </a:xfrm>
          </p:grpSpPr>
          <p:sp>
            <p:nvSpPr>
              <p:cNvPr id="1506" name=""/>
              <p:cNvSpPr/>
              <p:nvPr/>
            </p:nvSpPr>
            <p:spPr>
              <a:xfrm>
                <a:off x="6537960" y="1773360"/>
                <a:ext cx="32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94400" y="21160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8" name=""/>
          <p:cNvSpPr/>
          <p:nvPr/>
        </p:nvSpPr>
        <p:spPr>
          <a:xfrm>
            <a:off x="5096160" y="4222800"/>
            <a:ext cx="3871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em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en as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data always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erage and sp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144040" y="2637000"/>
            <a:ext cx="3321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easure of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ead-out and so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” or “reliabl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520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521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524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8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529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6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095600" y="1844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nextslide"/>
          </p:cNvPr>
          <p:cNvSpPr/>
          <p:nvPr/>
        </p:nvSpPr>
        <p:spPr>
          <a:xfrm>
            <a:off x="6300720" y="119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949080" y="119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rId2" action="ppaction://hlinksldjump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rId3" action="ppaction://hlinksldjump"/>
          </p:cNvPr>
          <p:cNvSpPr/>
          <p:nvPr/>
        </p:nvSpPr>
        <p:spPr>
          <a:xfrm>
            <a:off x="6300720" y="2492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>
            <a:hlinkClick r:id="rId4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567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568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571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75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576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577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3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2843280" y="981000"/>
            <a:ext cx="3457440" cy="1727280"/>
          </a:xfrm>
          <a:prstGeom prst="cloudCallout">
            <a:avLst>
              <a:gd name="adj1" fmla="val -47337"/>
              <a:gd name="adj2" fmla="val 10900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916360" y="838080"/>
            <a:ext cx="3097080" cy="2952720"/>
          </a:xfrm>
          <a:prstGeom prst="cloudCallout">
            <a:avLst>
              <a:gd name="adj1" fmla="val 25550"/>
              <a:gd name="adj2" fmla="val 4935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881440" y="1270080"/>
            <a:ext cx="2950920" cy="3166920"/>
          </a:xfrm>
          <a:prstGeom prst="cloudCallout">
            <a:avLst>
              <a:gd name="adj1" fmla="val 35958"/>
              <a:gd name="adj2" fmla="val 583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omparing two data sets comment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 and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095600" y="1844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032600" y="11970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6300720" y="119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nextslide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rId3" action="ppaction://hlinksldjump"/>
          </p:cNvPr>
          <p:cNvSpPr/>
          <p:nvPr/>
        </p:nvSpPr>
        <p:spPr>
          <a:xfrm>
            <a:off x="6300720" y="2492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rId4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804000" y="26028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2" dur="5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3" dur="50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8160" y="6381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2560" y="4195800"/>
            <a:ext cx="20674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 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39640" y="4556160"/>
            <a:ext cx="1377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9640" y="4987800"/>
            <a:ext cx="1377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157720"/>
            <a:ext cx="10857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5851440"/>
            <a:ext cx="82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00" y="4653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2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2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12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618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622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26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627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628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4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3850920" y="1459080"/>
            <a:ext cx="17838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 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850560" y="1916280"/>
            <a:ext cx="109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50560" y="2421000"/>
            <a:ext cx="109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nextslide"/>
          </p:cNvPr>
          <p:cNvSpPr/>
          <p:nvPr/>
        </p:nvSpPr>
        <p:spPr>
          <a:xfrm>
            <a:off x="6300720" y="256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878520" y="1844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>
            <a:hlinkClick r:id="rId2" action="ppaction://hlinksldjump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>
            <a:hlinkClick r:id="rId3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>
            <a:hlinkClick r:id="rId4" action="ppaction://hlinksldjump"/>
          </p:cNvPr>
          <p:cNvSpPr/>
          <p:nvPr/>
        </p:nvSpPr>
        <p:spPr>
          <a:xfrm>
            <a:off x="5724360" y="4292640"/>
            <a:ext cx="936720" cy="431640"/>
          </a:xfrm>
          <a:custGeom>
            <a:avLst/>
            <a:gdLst>
              <a:gd name="textAreaLeft" fmla="*/ 27720 w 936720"/>
              <a:gd name="textAreaRight" fmla="*/ 909000 w 9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54" h="21600">
                <a:moveTo>
                  <a:pt x="0" y="0"/>
                </a:moveTo>
                <a:lnTo>
                  <a:pt x="46854" y="0"/>
                </a:lnTo>
                <a:lnTo>
                  <a:pt x="46854" y="21600"/>
                </a:lnTo>
                <a:lnTo>
                  <a:pt x="0" y="21600"/>
                </a:lnTo>
                <a:close/>
              </a:path>
              <a:path fill="lightenLess" w="46854" h="21600">
                <a:moveTo>
                  <a:pt x="0" y="0"/>
                </a:moveTo>
                <a:lnTo>
                  <a:pt x="46854" y="0"/>
                </a:lnTo>
                <a:lnTo>
                  <a:pt x="45454" y="1400"/>
                </a:lnTo>
                <a:lnTo>
                  <a:pt x="1400" y="1400"/>
                </a:lnTo>
                <a:close/>
              </a:path>
              <a:path fill="darken" w="46854" h="21600">
                <a:moveTo>
                  <a:pt x="46854" y="0"/>
                </a:moveTo>
                <a:lnTo>
                  <a:pt x="46854" y="21600"/>
                </a:lnTo>
                <a:lnTo>
                  <a:pt x="45454" y="20200"/>
                </a:lnTo>
                <a:lnTo>
                  <a:pt x="45454" y="1400"/>
                </a:lnTo>
                <a:close/>
              </a:path>
              <a:path fill="darkenLess" w="46854" h="21600">
                <a:moveTo>
                  <a:pt x="4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54" y="20200"/>
                </a:lnTo>
                <a:close/>
              </a:path>
              <a:path fill="lighten" w="4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>
            <a:hlinkClick r:id="rId5" action="ppaction://hlinksldjump"/>
          </p:cNvPr>
          <p:cNvSpPr/>
          <p:nvPr/>
        </p:nvSpPr>
        <p:spPr>
          <a:xfrm>
            <a:off x="7956720" y="5516640"/>
            <a:ext cx="936360" cy="433440"/>
          </a:xfrm>
          <a:custGeom>
            <a:avLst/>
            <a:gdLst>
              <a:gd name="textAreaLeft" fmla="*/ 28080 w 936360"/>
              <a:gd name="textAreaRight" fmla="*/ 908280 w 93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42" h="21600">
                <a:moveTo>
                  <a:pt x="0" y="0"/>
                </a:moveTo>
                <a:lnTo>
                  <a:pt x="46642" y="0"/>
                </a:lnTo>
                <a:lnTo>
                  <a:pt x="46642" y="21600"/>
                </a:lnTo>
                <a:lnTo>
                  <a:pt x="0" y="21600"/>
                </a:lnTo>
                <a:close/>
              </a:path>
              <a:path fill="lightenLess" w="46642" h="21600">
                <a:moveTo>
                  <a:pt x="0" y="0"/>
                </a:moveTo>
                <a:lnTo>
                  <a:pt x="46642" y="0"/>
                </a:lnTo>
                <a:lnTo>
                  <a:pt x="45242" y="1400"/>
                </a:lnTo>
                <a:lnTo>
                  <a:pt x="1400" y="1400"/>
                </a:lnTo>
                <a:close/>
              </a:path>
              <a:path fill="darken" w="46642" h="21600">
                <a:moveTo>
                  <a:pt x="46642" y="0"/>
                </a:moveTo>
                <a:lnTo>
                  <a:pt x="46642" y="21600"/>
                </a:lnTo>
                <a:lnTo>
                  <a:pt x="45242" y="20200"/>
                </a:lnTo>
                <a:lnTo>
                  <a:pt x="45242" y="1400"/>
                </a:lnTo>
                <a:close/>
              </a:path>
              <a:path fill="darkenLess" w="46642" h="21600">
                <a:moveTo>
                  <a:pt x="4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2" y="20200"/>
                </a:lnTo>
                <a:close/>
              </a:path>
              <a:path fill="lighten" w="4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66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995640" y="112536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6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00720" y="1916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435640" y="3284640"/>
            <a:ext cx="1504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995640" y="328464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7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067280" y="242100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3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is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67280" y="3860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3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is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724360" y="4941720"/>
            <a:ext cx="1505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356000" y="49417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179280" y="476280"/>
            <a:ext cx="3200400" cy="2533320"/>
            <a:chOff x="179280" y="476280"/>
            <a:chExt cx="3200400" cy="2533320"/>
          </a:xfrm>
        </p:grpSpPr>
        <p:sp>
          <p:nvSpPr>
            <p:cNvPr id="1684" name=""/>
            <p:cNvSpPr/>
            <p:nvPr/>
          </p:nvSpPr>
          <p:spPr>
            <a:xfrm>
              <a:off x="179280" y="476280"/>
              <a:ext cx="32004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   0  2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7    1  3  5  7  7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8    2  2  2  5  6  6  8  9          9    4  4  6  9  9                    10  5  7  7                            11                                        12  1  1  3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0160" y="5522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1908000" y="1989000"/>
            <a:ext cx="1981080" cy="398880"/>
            <a:chOff x="1908000" y="1989000"/>
            <a:chExt cx="1981080" cy="398880"/>
          </a:xfrm>
        </p:grpSpPr>
        <p:sp>
          <p:nvSpPr>
            <p:cNvPr id="1687" name=""/>
            <p:cNvSpPr/>
            <p:nvPr/>
          </p:nvSpPr>
          <p:spPr>
            <a:xfrm>
              <a:off x="1908000" y="1989000"/>
              <a:ext cx="1828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"/>
            <p:cNvGrpSpPr/>
            <p:nvPr/>
          </p:nvGrpSpPr>
          <p:grpSpPr>
            <a:xfrm>
              <a:off x="1984320" y="1989000"/>
              <a:ext cx="1904760" cy="398880"/>
              <a:chOff x="1984320" y="1989000"/>
              <a:chExt cx="1904760" cy="398880"/>
            </a:xfrm>
          </p:grpSpPr>
          <p:sp>
            <p:nvSpPr>
              <p:cNvPr id="1689" name=""/>
              <p:cNvSpPr/>
              <p:nvPr/>
            </p:nvSpPr>
            <p:spPr>
              <a:xfrm>
                <a:off x="1984320" y="1989000"/>
                <a:ext cx="190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  4  =  114k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65200" y="1989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1" name=""/>
          <p:cNvSpPr/>
          <p:nvPr/>
        </p:nvSpPr>
        <p:spPr>
          <a:xfrm>
            <a:off x="-347400" y="2997360"/>
            <a:ext cx="46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, lower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835280" y="1052640"/>
            <a:ext cx="504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258920" y="765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547640" y="1413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3708360" y="0"/>
            <a:ext cx="5687280" cy="6858000"/>
            <a:chOff x="3708360" y="0"/>
            <a:chExt cx="5687280" cy="6858000"/>
          </a:xfrm>
        </p:grpSpPr>
        <p:grpSp>
          <p:nvGrpSpPr>
            <p:cNvPr id="1708" name=""/>
            <p:cNvGrpSpPr/>
            <p:nvPr/>
          </p:nvGrpSpPr>
          <p:grpSpPr>
            <a:xfrm>
              <a:off x="3708360" y="0"/>
              <a:ext cx="5687280" cy="6858000"/>
              <a:chOff x="3708360" y="0"/>
              <a:chExt cx="5687280" cy="685800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8360" y="0"/>
                <a:ext cx="5687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0" name=""/>
              <p:cNvSpPr/>
              <p:nvPr/>
            </p:nvSpPr>
            <p:spPr>
              <a:xfrm>
                <a:off x="4115880" y="333360"/>
                <a:ext cx="127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767720" y="404640"/>
                <a:ext cx="635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>
              <a:off x="4751640" y="2565360"/>
              <a:ext cx="333504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179280" y="476280"/>
            <a:ext cx="3200400" cy="2533320"/>
            <a:chOff x="179280" y="476280"/>
            <a:chExt cx="3200400" cy="2533320"/>
          </a:xfrm>
        </p:grpSpPr>
        <p:sp>
          <p:nvSpPr>
            <p:cNvPr id="1716" name=""/>
            <p:cNvSpPr/>
            <p:nvPr/>
          </p:nvSpPr>
          <p:spPr>
            <a:xfrm>
              <a:off x="179280" y="476280"/>
              <a:ext cx="32004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   0  2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7    1  3  5  7  7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8    2  2  2  5  6  6  8  9          9    4  4  6  9  9                    10  5  7  7                            11                                        12  1  1  3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0160" y="5522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908000" y="1989000"/>
            <a:ext cx="1981080" cy="398880"/>
            <a:chOff x="1908000" y="1989000"/>
            <a:chExt cx="1981080" cy="398880"/>
          </a:xfrm>
        </p:grpSpPr>
        <p:sp>
          <p:nvSpPr>
            <p:cNvPr id="1719" name=""/>
            <p:cNvSpPr/>
            <p:nvPr/>
          </p:nvSpPr>
          <p:spPr>
            <a:xfrm>
              <a:off x="1908000" y="1989000"/>
              <a:ext cx="1828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1984320" y="1989000"/>
              <a:ext cx="1904760" cy="398880"/>
              <a:chOff x="1984320" y="1989000"/>
              <a:chExt cx="1904760" cy="398880"/>
            </a:xfrm>
          </p:grpSpPr>
          <p:sp>
            <p:nvSpPr>
              <p:cNvPr id="1721" name=""/>
              <p:cNvSpPr/>
              <p:nvPr/>
            </p:nvSpPr>
            <p:spPr>
              <a:xfrm>
                <a:off x="1984320" y="1989000"/>
                <a:ext cx="190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  4  =  114k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365200" y="1989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3" name=""/>
          <p:cNvSpPr/>
          <p:nvPr/>
        </p:nvSpPr>
        <p:spPr>
          <a:xfrm>
            <a:off x="1835280" y="1052640"/>
            <a:ext cx="504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258920" y="765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547640" y="1413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995640" y="0"/>
            <a:ext cx="489744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211640" y="1413000"/>
            <a:ext cx="49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60, Q1 = 77, Q2 = 8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99 &amp; Highest = 1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3924360" y="3213000"/>
            <a:ext cx="5074920" cy="573840"/>
            <a:chOff x="3924360" y="3213000"/>
            <a:chExt cx="5074920" cy="573840"/>
          </a:xfrm>
        </p:grpSpPr>
        <p:grpSp>
          <p:nvGrpSpPr>
            <p:cNvPr id="1729" name=""/>
            <p:cNvGrpSpPr/>
            <p:nvPr/>
          </p:nvGrpSpPr>
          <p:grpSpPr>
            <a:xfrm>
              <a:off x="4061520" y="3213000"/>
              <a:ext cx="4937760" cy="273960"/>
              <a:chOff x="4061520" y="3213000"/>
              <a:chExt cx="4937760" cy="273960"/>
            </a:xfrm>
          </p:grpSpPr>
          <p:sp>
            <p:nvSpPr>
              <p:cNvPr id="1730" name=""/>
              <p:cNvSpPr/>
              <p:nvPr/>
            </p:nvSpPr>
            <p:spPr>
              <a:xfrm>
                <a:off x="4061520" y="3349800"/>
                <a:ext cx="493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1299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730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1608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1588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5015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8446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1873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5304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87348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2162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5589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020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447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5878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3924360" y="3418560"/>
              <a:ext cx="48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        70        80        90       100       110    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152600" y="2755800"/>
            <a:ext cx="4321440" cy="274680"/>
            <a:chOff x="4152600" y="2755800"/>
            <a:chExt cx="4321440" cy="274680"/>
          </a:xfrm>
        </p:grpSpPr>
        <p:sp>
          <p:nvSpPr>
            <p:cNvPr id="1747" name=""/>
            <p:cNvSpPr/>
            <p:nvPr/>
          </p:nvSpPr>
          <p:spPr>
            <a:xfrm>
              <a:off x="5319000" y="2755800"/>
              <a:ext cx="1508400" cy="27468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4152600" y="289332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15296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27760" y="2893320"/>
              <a:ext cx="164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47404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0480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-348120" y="2971800"/>
            <a:ext cx="439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b) Use the data to constr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3708360" y="0"/>
            <a:ext cx="5687280" cy="6858000"/>
            <a:chOff x="3708360" y="0"/>
            <a:chExt cx="5687280" cy="6858000"/>
          </a:xfrm>
        </p:grpSpPr>
        <p:grpSp>
          <p:nvGrpSpPr>
            <p:cNvPr id="1767" name=""/>
            <p:cNvGrpSpPr/>
            <p:nvPr/>
          </p:nvGrpSpPr>
          <p:grpSpPr>
            <a:xfrm>
              <a:off x="3708360" y="0"/>
              <a:ext cx="5687280" cy="6858000"/>
              <a:chOff x="3708360" y="0"/>
              <a:chExt cx="5687280" cy="6858000"/>
            </a:xfrm>
          </p:grpSpPr>
          <p:pic>
            <p:nvPicPr>
              <p:cNvPr id="1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8360" y="0"/>
                <a:ext cx="5687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115880" y="333360"/>
                <a:ext cx="127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767720" y="404640"/>
                <a:ext cx="635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4751640" y="2565360"/>
              <a:ext cx="333504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omp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van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-347760" y="549360"/>
            <a:ext cx="4484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The boxplot below sh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weight distribution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people after sev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th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e the two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on the result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0" y="3213000"/>
            <a:ext cx="3995280" cy="1069200"/>
            <a:chOff x="0" y="3213000"/>
            <a:chExt cx="3995280" cy="1069200"/>
          </a:xfrm>
        </p:grpSpPr>
        <p:grpSp>
          <p:nvGrpSpPr>
            <p:cNvPr id="1777" name=""/>
            <p:cNvGrpSpPr/>
            <p:nvPr/>
          </p:nvGrpSpPr>
          <p:grpSpPr>
            <a:xfrm>
              <a:off x="0" y="3746520"/>
              <a:ext cx="3995280" cy="535680"/>
              <a:chOff x="0" y="3746520"/>
              <a:chExt cx="3995280" cy="5356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108000" y="3746520"/>
                <a:ext cx="3887280" cy="304560"/>
                <a:chOff x="108000" y="3746520"/>
                <a:chExt cx="3887280" cy="3045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108000" y="3898440"/>
                  <a:ext cx="38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16200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0200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97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24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51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178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05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32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59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86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13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40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67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4" name=""/>
              <p:cNvSpPr/>
              <p:nvPr/>
            </p:nvSpPr>
            <p:spPr>
              <a:xfrm>
                <a:off x="0" y="3975120"/>
                <a:ext cx="383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971640" y="3213000"/>
              <a:ext cx="80964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31640" y="3365640"/>
              <a:ext cx="5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781640" y="3365640"/>
              <a:ext cx="135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31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65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4067280" y="907920"/>
            <a:ext cx="5076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est has put on weigh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lowest now 6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iest 3 have lost weigh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highest now 1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edian s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ut over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pread of weights has decre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Q3-Q1 was 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s now only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425120" y="5013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3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765000"/>
            <a:ext cx="471636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16000" y="2178000"/>
            <a:ext cx="49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60, Q1 = 77, Q2 = 8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99 &amp; Highest = 1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-71280" y="3978360"/>
            <a:ext cx="5074560" cy="573840"/>
            <a:chOff x="-71280" y="3978360"/>
            <a:chExt cx="5074560" cy="573840"/>
          </a:xfrm>
        </p:grpSpPr>
        <p:grpSp>
          <p:nvGrpSpPr>
            <p:cNvPr id="1819" name=""/>
            <p:cNvGrpSpPr/>
            <p:nvPr/>
          </p:nvGrpSpPr>
          <p:grpSpPr>
            <a:xfrm>
              <a:off x="65880" y="3978360"/>
              <a:ext cx="4937400" cy="273960"/>
              <a:chOff x="65880" y="3978360"/>
              <a:chExt cx="4937400" cy="273960"/>
            </a:xfrm>
          </p:grpSpPr>
          <p:sp>
            <p:nvSpPr>
              <p:cNvPr id="1820" name=""/>
              <p:cNvSpPr/>
              <p:nvPr/>
            </p:nvSpPr>
            <p:spPr>
              <a:xfrm>
                <a:off x="65880" y="4115160"/>
                <a:ext cx="493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342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770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200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16316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058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84896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1916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5344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8774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2202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56292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9060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2490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5918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-71280" y="4183920"/>
              <a:ext cx="48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        70        80        90       100       110    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156960" y="3521160"/>
            <a:ext cx="4321440" cy="274680"/>
            <a:chOff x="156960" y="3521160"/>
            <a:chExt cx="4321440" cy="274680"/>
          </a:xfrm>
        </p:grpSpPr>
        <p:sp>
          <p:nvSpPr>
            <p:cNvPr id="1837" name=""/>
            <p:cNvSpPr/>
            <p:nvPr/>
          </p:nvSpPr>
          <p:spPr>
            <a:xfrm>
              <a:off x="1323360" y="3521160"/>
              <a:ext cx="1508400" cy="27468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156960" y="365868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732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832120" y="3658680"/>
              <a:ext cx="164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7840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00916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5076720" y="2205000"/>
            <a:ext cx="1368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 P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056200" y="304956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5056200" y="3136680"/>
            <a:ext cx="117144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227640" y="2820960"/>
            <a:ext cx="1584360" cy="64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812000" y="3122640"/>
            <a:ext cx="792360" cy="1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8604360" y="2997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7399440" y="283356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29400" y="3470400"/>
            <a:ext cx="1058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8028360" y="3470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1776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20036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60212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054760" y="542880"/>
            <a:ext cx="36144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ememb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draw a boxplot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“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five-figur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summar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722200" y="454500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ve-figur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 flipV="1">
            <a:off x="5724360" y="3933360"/>
            <a:ext cx="93528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 flipV="1">
            <a:off x="6300720" y="3933360"/>
            <a:ext cx="50328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6877080" y="3860640"/>
            <a:ext cx="43164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7020000" y="3860640"/>
            <a:ext cx="72072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7164360" y="3860640"/>
            <a:ext cx="11527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871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872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74520" y="6281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>
            <a:hlinkClick r:id="" action="ppaction://hlinkshowjump?jump=nextslide"/>
          </p:cNvPr>
          <p:cNvSpPr/>
          <p:nvPr/>
        </p:nvSpPr>
        <p:spPr>
          <a:xfrm>
            <a:off x="1979640" y="4724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843640" y="47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75112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>
            <a:hlinkClick r:id="rId2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>
            <a:hlinkClick r:id="rId3" action="ppaction://hlinksldjump"/>
          </p:cNvPr>
          <p:cNvSpPr/>
          <p:nvPr/>
        </p:nvSpPr>
        <p:spPr>
          <a:xfrm>
            <a:off x="197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rId4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rId5" action="ppaction://hlinksldjump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899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900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3132000" y="404640"/>
            <a:ext cx="3456000" cy="1727280"/>
            <a:chOff x="3132000" y="404640"/>
            <a:chExt cx="3456000" cy="1727280"/>
          </a:xfrm>
        </p:grpSpPr>
        <p:sp>
          <p:nvSpPr>
            <p:cNvPr id="1913" name=""/>
            <p:cNvSpPr/>
            <p:nvPr/>
          </p:nvSpPr>
          <p:spPr>
            <a:xfrm>
              <a:off x="3132000" y="404640"/>
              <a:ext cx="3456000" cy="1727280"/>
            </a:xfrm>
            <a:prstGeom prst="cloudCallout">
              <a:avLst>
                <a:gd name="adj1" fmla="val -45680"/>
                <a:gd name="adj2" fmla="val 10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3419280" y="836280"/>
              <a:ext cx="2743200" cy="840960"/>
              <a:chOff x="3419280" y="836280"/>
              <a:chExt cx="2743200" cy="84096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3419280" y="836280"/>
                <a:ext cx="2362320" cy="840960"/>
                <a:chOff x="3419280" y="836280"/>
                <a:chExt cx="2362320" cy="840960"/>
              </a:xfrm>
            </p:grpSpPr>
            <p:grpSp>
              <p:nvGrpSpPr>
                <p:cNvPr id="1916" name=""/>
                <p:cNvGrpSpPr/>
                <p:nvPr/>
              </p:nvGrpSpPr>
              <p:grpSpPr>
                <a:xfrm>
                  <a:off x="3419280" y="836280"/>
                  <a:ext cx="2362320" cy="840960"/>
                  <a:chOff x="3419280" y="836280"/>
                  <a:chExt cx="2362320" cy="840960"/>
                </a:xfrm>
              </p:grpSpPr>
              <p:sp>
                <p:nvSpPr>
                  <p:cNvPr id="1917" name=""/>
                  <p:cNvSpPr/>
                  <p:nvPr/>
                </p:nvSpPr>
                <p:spPr>
                  <a:xfrm>
                    <a:off x="3419280" y="836280"/>
                    <a:ext cx="2362320" cy="459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ff3300"/>
                        </a:solidFill>
                        <a:uFillTx/>
                        <a:latin typeface="Times New Roman"/>
                      </a:rPr>
                      <a:t>angl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3495600" y="1217520"/>
                    <a:ext cx="990360" cy="459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60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9" name=""/>
                <p:cNvSpPr/>
                <p:nvPr/>
              </p:nvSpPr>
              <p:spPr>
                <a:xfrm>
                  <a:off x="4410000" y="988920"/>
                  <a:ext cx="6858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0" name=""/>
              <p:cNvGrpSpPr/>
              <p:nvPr/>
            </p:nvGrpSpPr>
            <p:grpSpPr>
              <a:xfrm>
                <a:off x="4790880" y="836280"/>
                <a:ext cx="1371600" cy="840600"/>
                <a:chOff x="4790880" y="836280"/>
                <a:chExt cx="1371600" cy="84060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4790880" y="836280"/>
                  <a:ext cx="13716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mou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019480" y="1217160"/>
                  <a:ext cx="9144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3" name=""/>
          <p:cNvSpPr/>
          <p:nvPr/>
        </p:nvSpPr>
        <p:spPr>
          <a:xfrm>
            <a:off x="3492360" y="1268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932360" y="126828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774520" y="6281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70180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>
            <a:hlinkClick r:id="rId1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>
            <a:hlinkClick r:id="" action="ppaction://hlinkshowjump?jump=nextslide"/>
          </p:cNvPr>
          <p:cNvSpPr/>
          <p:nvPr/>
        </p:nvSpPr>
        <p:spPr>
          <a:xfrm>
            <a:off x="197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>
            <a:hlinkClick r:id="rId2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>
            <a:hlinkClick r:id="rId3" action="ppaction://hlinksldjump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905480" y="49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939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940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348000" y="2349360"/>
            <a:ext cx="1295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635280" y="4437000"/>
            <a:ext cx="1262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55744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rId1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rId2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977120" y="5013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1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196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19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250560" y="404640"/>
            <a:ext cx="3492360" cy="3022920"/>
            <a:chOff x="250560" y="404640"/>
            <a:chExt cx="3492360" cy="3022920"/>
          </a:xfrm>
        </p:grpSpPr>
        <p:grpSp>
          <p:nvGrpSpPr>
            <p:cNvPr id="1974" name=""/>
            <p:cNvGrpSpPr/>
            <p:nvPr/>
          </p:nvGrpSpPr>
          <p:grpSpPr>
            <a:xfrm>
              <a:off x="250560" y="404640"/>
              <a:ext cx="3022560" cy="3022920"/>
              <a:chOff x="250560" y="404640"/>
              <a:chExt cx="3022560" cy="3022920"/>
            </a:xfrm>
          </p:grpSpPr>
          <p:sp>
            <p:nvSpPr>
              <p:cNvPr id="1975" name=""/>
              <p:cNvSpPr/>
              <p:nvPr/>
            </p:nvSpPr>
            <p:spPr>
              <a:xfrm>
                <a:off x="250920" y="404640"/>
                <a:ext cx="3022200" cy="3022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250560" y="1815120"/>
                <a:ext cx="147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728000" y="1815120"/>
                <a:ext cx="1410120" cy="7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1728000" y="1613160"/>
                <a:ext cx="147744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1728000" y="471240"/>
                <a:ext cx="470160" cy="134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"/>
            <p:cNvSpPr/>
            <p:nvPr/>
          </p:nvSpPr>
          <p:spPr>
            <a:xfrm>
              <a:off x="1056600" y="2419920"/>
              <a:ext cx="9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5160" y="1882440"/>
              <a:ext cx="12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131200" y="17478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467080" y="1816560"/>
              <a:ext cx="12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64240" y="1076400"/>
              <a:ext cx="10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7880" y="10764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250920" y="3500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How many people w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100920" y="450864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851280" y="1197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The angle is 1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5146560" y="1654200"/>
            <a:ext cx="2743200" cy="840600"/>
            <a:chOff x="5146560" y="1654200"/>
            <a:chExt cx="2743200" cy="840600"/>
          </a:xfrm>
        </p:grpSpPr>
        <p:grpSp>
          <p:nvGrpSpPr>
            <p:cNvPr id="1991" name=""/>
            <p:cNvGrpSpPr/>
            <p:nvPr/>
          </p:nvGrpSpPr>
          <p:grpSpPr>
            <a:xfrm>
              <a:off x="5146560" y="1654200"/>
              <a:ext cx="2362320" cy="840600"/>
              <a:chOff x="5146560" y="1654200"/>
              <a:chExt cx="2362320" cy="84060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5146560" y="1654200"/>
                <a:ext cx="2362320" cy="840600"/>
                <a:chOff x="5146560" y="1654200"/>
                <a:chExt cx="2362320" cy="84060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5146560" y="165420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222880" y="203508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5" name=""/>
              <p:cNvSpPr/>
              <p:nvPr/>
            </p:nvSpPr>
            <p:spPr>
              <a:xfrm>
                <a:off x="6137280" y="1806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6518160" y="1654200"/>
              <a:ext cx="1371600" cy="840600"/>
              <a:chOff x="6518160" y="1654200"/>
              <a:chExt cx="1371600" cy="84060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18160" y="16542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746760" y="20350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9" name=""/>
          <p:cNvGrpSpPr/>
          <p:nvPr/>
        </p:nvGrpSpPr>
        <p:grpSpPr>
          <a:xfrm>
            <a:off x="5070600" y="2492280"/>
            <a:ext cx="2743200" cy="840960"/>
            <a:chOff x="5070600" y="2492280"/>
            <a:chExt cx="2743200" cy="840960"/>
          </a:xfrm>
        </p:grpSpPr>
        <p:grpSp>
          <p:nvGrpSpPr>
            <p:cNvPr id="2000" name=""/>
            <p:cNvGrpSpPr/>
            <p:nvPr/>
          </p:nvGrpSpPr>
          <p:grpSpPr>
            <a:xfrm>
              <a:off x="5070600" y="2492280"/>
              <a:ext cx="2362320" cy="840960"/>
              <a:chOff x="5070600" y="2492280"/>
              <a:chExt cx="2362320" cy="840960"/>
            </a:xfrm>
          </p:grpSpPr>
          <p:grpSp>
            <p:nvGrpSpPr>
              <p:cNvPr id="2001" name=""/>
              <p:cNvGrpSpPr/>
              <p:nvPr/>
            </p:nvGrpSpPr>
            <p:grpSpPr>
              <a:xfrm>
                <a:off x="5070600" y="2492280"/>
                <a:ext cx="2362320" cy="840960"/>
                <a:chOff x="5070600" y="2492280"/>
                <a:chExt cx="2362320" cy="84096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5070600" y="249228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144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146920" y="287352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4" name=""/>
              <p:cNvSpPr/>
              <p:nvPr/>
            </p:nvSpPr>
            <p:spPr>
              <a:xfrm>
                <a:off x="6061320" y="2644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6442200" y="2492280"/>
              <a:ext cx="1371600" cy="840600"/>
              <a:chOff x="6442200" y="2492280"/>
              <a:chExt cx="1371600" cy="840600"/>
            </a:xfrm>
          </p:grpSpPr>
          <p:sp>
            <p:nvSpPr>
              <p:cNvPr id="2006" name=""/>
              <p:cNvSpPr/>
              <p:nvPr/>
            </p:nvSpPr>
            <p:spPr>
              <a:xfrm>
                <a:off x="6442200" y="24922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670800" y="2873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8" name=""/>
          <p:cNvSpPr/>
          <p:nvPr/>
        </p:nvSpPr>
        <p:spPr>
          <a:xfrm>
            <a:off x="4613400" y="333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 x amount  =  144 x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613400" y="3863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unt  =  144 x 63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796000" y="450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5940360" y="2781360"/>
            <a:ext cx="5032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 flipV="1">
            <a:off x="5867280" y="278136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>
            <a:hlinkClick r:id="rId2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202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20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250560" y="404640"/>
            <a:ext cx="3492360" cy="3022920"/>
            <a:chOff x="250560" y="404640"/>
            <a:chExt cx="3492360" cy="3022920"/>
          </a:xfrm>
        </p:grpSpPr>
        <p:grpSp>
          <p:nvGrpSpPr>
            <p:cNvPr id="2034" name=""/>
            <p:cNvGrpSpPr/>
            <p:nvPr/>
          </p:nvGrpSpPr>
          <p:grpSpPr>
            <a:xfrm>
              <a:off x="250560" y="404640"/>
              <a:ext cx="3022560" cy="3022920"/>
              <a:chOff x="250560" y="404640"/>
              <a:chExt cx="3022560" cy="3022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250920" y="404640"/>
                <a:ext cx="3022200" cy="3022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250560" y="1815120"/>
                <a:ext cx="147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728000" y="1815120"/>
                <a:ext cx="1410120" cy="7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1728000" y="1613160"/>
                <a:ext cx="147744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1728000" y="471240"/>
                <a:ext cx="470160" cy="134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056600" y="2419920"/>
              <a:ext cx="9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25160" y="1882440"/>
              <a:ext cx="12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31200" y="17478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67080" y="1816560"/>
              <a:ext cx="12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64240" y="1076400"/>
              <a:ext cx="10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87880" y="10764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6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6084720" y="2637000"/>
            <a:ext cx="792360" cy="358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6084720" y="263700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924360" y="1125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he amount is 8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19640" y="1582560"/>
            <a:ext cx="2743200" cy="840960"/>
            <a:chOff x="5219640" y="1582560"/>
            <a:chExt cx="2743200" cy="840960"/>
          </a:xfrm>
        </p:grpSpPr>
        <p:grpSp>
          <p:nvGrpSpPr>
            <p:cNvPr id="2051" name=""/>
            <p:cNvGrpSpPr/>
            <p:nvPr/>
          </p:nvGrpSpPr>
          <p:grpSpPr>
            <a:xfrm>
              <a:off x="5219640" y="1582560"/>
              <a:ext cx="2362320" cy="840960"/>
              <a:chOff x="5219640" y="1582560"/>
              <a:chExt cx="2362320" cy="84096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5219640" y="1582560"/>
                <a:ext cx="2362320" cy="840960"/>
                <a:chOff x="5219640" y="1582560"/>
                <a:chExt cx="2362320" cy="84096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5219640" y="158256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5295960" y="19638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>
                <a:off x="6210360" y="1735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6591240" y="1582560"/>
              <a:ext cx="1371600" cy="840600"/>
              <a:chOff x="6591240" y="1582560"/>
              <a:chExt cx="1371600" cy="840600"/>
            </a:xfrm>
          </p:grpSpPr>
          <p:sp>
            <p:nvSpPr>
              <p:cNvPr id="2057" name=""/>
              <p:cNvSpPr/>
              <p:nvPr/>
            </p:nvSpPr>
            <p:spPr>
              <a:xfrm>
                <a:off x="6591240" y="15825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819840" y="19634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9" name=""/>
          <p:cNvGrpSpPr/>
          <p:nvPr/>
        </p:nvGrpSpPr>
        <p:grpSpPr>
          <a:xfrm>
            <a:off x="5219640" y="2349360"/>
            <a:ext cx="2743200" cy="840960"/>
            <a:chOff x="5219640" y="2349360"/>
            <a:chExt cx="2743200" cy="840960"/>
          </a:xfrm>
        </p:grpSpPr>
        <p:grpSp>
          <p:nvGrpSpPr>
            <p:cNvPr id="2060" name=""/>
            <p:cNvGrpSpPr/>
            <p:nvPr/>
          </p:nvGrpSpPr>
          <p:grpSpPr>
            <a:xfrm>
              <a:off x="5219640" y="2349360"/>
              <a:ext cx="2362320" cy="840960"/>
              <a:chOff x="5219640" y="2349360"/>
              <a:chExt cx="2362320" cy="840960"/>
            </a:xfrm>
          </p:grpSpPr>
          <p:grpSp>
            <p:nvGrpSpPr>
              <p:cNvPr id="2061" name=""/>
              <p:cNvGrpSpPr/>
              <p:nvPr/>
            </p:nvGrpSpPr>
            <p:grpSpPr>
              <a:xfrm>
                <a:off x="5219640" y="2349360"/>
                <a:ext cx="2362320" cy="840960"/>
                <a:chOff x="5219640" y="2349360"/>
                <a:chExt cx="2362320" cy="84096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5219640" y="234936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95960" y="27306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"/>
              <p:cNvSpPr/>
              <p:nvPr/>
            </p:nvSpPr>
            <p:spPr>
              <a:xfrm>
                <a:off x="6210360" y="2502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6591240" y="2349360"/>
              <a:ext cx="1371600" cy="840600"/>
              <a:chOff x="6591240" y="2349360"/>
              <a:chExt cx="1371600" cy="840600"/>
            </a:xfrm>
          </p:grpSpPr>
          <p:sp>
            <p:nvSpPr>
              <p:cNvPr id="2066" name=""/>
              <p:cNvSpPr/>
              <p:nvPr/>
            </p:nvSpPr>
            <p:spPr>
              <a:xfrm>
                <a:off x="6591240" y="23493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19840" y="2730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8" name=""/>
          <p:cNvSpPr/>
          <p:nvPr/>
        </p:nvSpPr>
        <p:spPr>
          <a:xfrm>
            <a:off x="4643280" y="3284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0 x 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4719600" y="3894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923080" y="454356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541840" y="4543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08000" y="3429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theatre then how big is x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rId2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70028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300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&amp; upper quar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1125360"/>
            <a:ext cx="51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916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3573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26880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42100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4076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+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2920" y="5300640"/>
            <a:ext cx="1504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94172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8200" y="59500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41680" y="1911240"/>
            <a:ext cx="13572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3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08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920" y="907920"/>
            <a:ext cx="4681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249640" y="515628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184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The angle is 1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1295280" y="2301840"/>
            <a:ext cx="2743200" cy="840600"/>
            <a:chOff x="1295280" y="2301840"/>
            <a:chExt cx="2743200" cy="840600"/>
          </a:xfrm>
        </p:grpSpPr>
        <p:grpSp>
          <p:nvGrpSpPr>
            <p:cNvPr id="2090" name=""/>
            <p:cNvGrpSpPr/>
            <p:nvPr/>
          </p:nvGrpSpPr>
          <p:grpSpPr>
            <a:xfrm>
              <a:off x="1295280" y="2301840"/>
              <a:ext cx="2362320" cy="840600"/>
              <a:chOff x="1295280" y="2301840"/>
              <a:chExt cx="2362320" cy="840600"/>
            </a:xfrm>
          </p:grpSpPr>
          <p:grpSp>
            <p:nvGrpSpPr>
              <p:cNvPr id="2091" name=""/>
              <p:cNvGrpSpPr/>
              <p:nvPr/>
            </p:nvGrpSpPr>
            <p:grpSpPr>
              <a:xfrm>
                <a:off x="1295280" y="2301840"/>
                <a:ext cx="2362320" cy="840600"/>
                <a:chOff x="1295280" y="2301840"/>
                <a:chExt cx="2362320" cy="84060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1295280" y="230184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371600" y="268272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"/>
              <p:cNvSpPr/>
              <p:nvPr/>
            </p:nvSpPr>
            <p:spPr>
              <a:xfrm>
                <a:off x="2286000" y="2454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2666880" y="2301840"/>
              <a:ext cx="1371600" cy="840600"/>
              <a:chOff x="2666880" y="2301840"/>
              <a:chExt cx="1371600" cy="840600"/>
            </a:xfrm>
          </p:grpSpPr>
          <p:sp>
            <p:nvSpPr>
              <p:cNvPr id="2096" name=""/>
              <p:cNvSpPr/>
              <p:nvPr/>
            </p:nvSpPr>
            <p:spPr>
              <a:xfrm>
                <a:off x="2666880" y="230184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895480" y="2682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8" name=""/>
          <p:cNvGrpSpPr/>
          <p:nvPr/>
        </p:nvGrpSpPr>
        <p:grpSpPr>
          <a:xfrm>
            <a:off x="1219320" y="3139920"/>
            <a:ext cx="2743200" cy="840960"/>
            <a:chOff x="1219320" y="3139920"/>
            <a:chExt cx="2743200" cy="840960"/>
          </a:xfrm>
        </p:grpSpPr>
        <p:grpSp>
          <p:nvGrpSpPr>
            <p:cNvPr id="2099" name=""/>
            <p:cNvGrpSpPr/>
            <p:nvPr/>
          </p:nvGrpSpPr>
          <p:grpSpPr>
            <a:xfrm>
              <a:off x="1219320" y="3139920"/>
              <a:ext cx="2362320" cy="840960"/>
              <a:chOff x="1219320" y="3139920"/>
              <a:chExt cx="2362320" cy="840960"/>
            </a:xfrm>
          </p:grpSpPr>
          <p:grpSp>
            <p:nvGrpSpPr>
              <p:cNvPr id="2100" name=""/>
              <p:cNvGrpSpPr/>
              <p:nvPr/>
            </p:nvGrpSpPr>
            <p:grpSpPr>
              <a:xfrm>
                <a:off x="1219320" y="3139920"/>
                <a:ext cx="2362320" cy="840960"/>
                <a:chOff x="1219320" y="3139920"/>
                <a:chExt cx="2362320" cy="84096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1219320" y="31399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144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295640" y="352116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3" name=""/>
              <p:cNvSpPr/>
              <p:nvPr/>
            </p:nvSpPr>
            <p:spPr>
              <a:xfrm>
                <a:off x="2210040" y="3292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2590920" y="3139920"/>
              <a:ext cx="1371600" cy="840600"/>
              <a:chOff x="2590920" y="3139920"/>
              <a:chExt cx="1371600" cy="840600"/>
            </a:xfrm>
          </p:grpSpPr>
          <p:sp>
            <p:nvSpPr>
              <p:cNvPr id="2105" name=""/>
              <p:cNvSpPr/>
              <p:nvPr/>
            </p:nvSpPr>
            <p:spPr>
              <a:xfrm>
                <a:off x="2590920" y="3139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19520" y="3520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7" name=""/>
          <p:cNvSpPr/>
          <p:nvPr/>
        </p:nvSpPr>
        <p:spPr>
          <a:xfrm>
            <a:off x="762120" y="39783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 x amount  =  144 x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762120" y="4511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unt  =  144 x 63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944720" y="515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2089080" y="3429000"/>
            <a:ext cx="5032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2016000" y="342900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154480" y="692280"/>
            <a:ext cx="38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be tackled by us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363280" y="2789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unt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x  6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6844680" y="2655720"/>
            <a:ext cx="605880" cy="703800"/>
            <a:chOff x="6844680" y="2655720"/>
            <a:chExt cx="605880" cy="703800"/>
          </a:xfrm>
        </p:grpSpPr>
        <p:sp>
          <p:nvSpPr>
            <p:cNvPr id="2115" name=""/>
            <p:cNvSpPr/>
            <p:nvPr/>
          </p:nvSpPr>
          <p:spPr>
            <a:xfrm>
              <a:off x="6844680" y="2655720"/>
              <a:ext cx="60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949800" y="29937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4788000" y="1700280"/>
            <a:ext cx="42829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8" name=""/>
          <p:cNvGraphicFramePr/>
          <p:nvPr/>
        </p:nvGraphicFramePr>
        <p:xfrm>
          <a:off x="4859280" y="1700280"/>
          <a:ext cx="421164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00280"/>
                    <a:ext cx="42116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rId4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2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400"/>
                            </p:stCondLst>
                            <p:childTnLst>
                              <p:par>
                                <p:cTn id="1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90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154480" y="692280"/>
            <a:ext cx="38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be tackled by us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4788000" y="1700280"/>
            <a:ext cx="42829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4859280" y="1700280"/>
          <a:ext cx="421164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00280"/>
                    <a:ext cx="42116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3" name=""/>
          <p:cNvSpPr/>
          <p:nvPr/>
        </p:nvSpPr>
        <p:spPr>
          <a:xfrm>
            <a:off x="34920" y="836640"/>
            <a:ext cx="4681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2160720" y="3212640"/>
            <a:ext cx="792000" cy="358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 flipV="1">
            <a:off x="2160360" y="3213000"/>
            <a:ext cx="6490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0" y="1701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he amount is 8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1295280" y="2158920"/>
            <a:ext cx="2743200" cy="840960"/>
            <a:chOff x="1295280" y="2158920"/>
            <a:chExt cx="2743200" cy="840960"/>
          </a:xfrm>
        </p:grpSpPr>
        <p:grpSp>
          <p:nvGrpSpPr>
            <p:cNvPr id="2138" name=""/>
            <p:cNvGrpSpPr/>
            <p:nvPr/>
          </p:nvGrpSpPr>
          <p:grpSpPr>
            <a:xfrm>
              <a:off x="1295280" y="2158920"/>
              <a:ext cx="2362320" cy="840960"/>
              <a:chOff x="1295280" y="2158920"/>
              <a:chExt cx="2362320" cy="840960"/>
            </a:xfrm>
          </p:grpSpPr>
          <p:grpSp>
            <p:nvGrpSpPr>
              <p:cNvPr id="2139" name=""/>
              <p:cNvGrpSpPr/>
              <p:nvPr/>
            </p:nvGrpSpPr>
            <p:grpSpPr>
              <a:xfrm>
                <a:off x="1295280" y="2158920"/>
                <a:ext cx="2362320" cy="840960"/>
                <a:chOff x="1295280" y="2158920"/>
                <a:chExt cx="2362320" cy="84096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1295280" y="21589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371600" y="254016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2" name=""/>
              <p:cNvSpPr/>
              <p:nvPr/>
            </p:nvSpPr>
            <p:spPr>
              <a:xfrm>
                <a:off x="2286000" y="2311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2666880" y="2158920"/>
              <a:ext cx="1371600" cy="840600"/>
              <a:chOff x="2666880" y="2158920"/>
              <a:chExt cx="1371600" cy="840600"/>
            </a:xfrm>
          </p:grpSpPr>
          <p:sp>
            <p:nvSpPr>
              <p:cNvPr id="2144" name=""/>
              <p:cNvSpPr/>
              <p:nvPr/>
            </p:nvSpPr>
            <p:spPr>
              <a:xfrm>
                <a:off x="2666880" y="2158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895480" y="2539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6" name=""/>
          <p:cNvGrpSpPr/>
          <p:nvPr/>
        </p:nvGrpSpPr>
        <p:grpSpPr>
          <a:xfrm>
            <a:off x="1295280" y="2925720"/>
            <a:ext cx="2743200" cy="840600"/>
            <a:chOff x="1295280" y="2925720"/>
            <a:chExt cx="2743200" cy="840600"/>
          </a:xfrm>
        </p:grpSpPr>
        <p:grpSp>
          <p:nvGrpSpPr>
            <p:cNvPr id="2147" name=""/>
            <p:cNvGrpSpPr/>
            <p:nvPr/>
          </p:nvGrpSpPr>
          <p:grpSpPr>
            <a:xfrm>
              <a:off x="1295280" y="2925720"/>
              <a:ext cx="2362320" cy="840600"/>
              <a:chOff x="1295280" y="2925720"/>
              <a:chExt cx="2362320" cy="840600"/>
            </a:xfrm>
          </p:grpSpPr>
          <p:grpSp>
            <p:nvGrpSpPr>
              <p:cNvPr id="2148" name=""/>
              <p:cNvGrpSpPr/>
              <p:nvPr/>
            </p:nvGrpSpPr>
            <p:grpSpPr>
              <a:xfrm>
                <a:off x="1295280" y="2925720"/>
                <a:ext cx="2362320" cy="840600"/>
                <a:chOff x="1295280" y="2925720"/>
                <a:chExt cx="2362320" cy="84060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1295280" y="29257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1371600" y="33066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1" name=""/>
              <p:cNvSpPr/>
              <p:nvPr/>
            </p:nvSpPr>
            <p:spPr>
              <a:xfrm>
                <a:off x="2286000" y="3078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2666880" y="2925720"/>
              <a:ext cx="1371600" cy="840600"/>
              <a:chOff x="2666880" y="2925720"/>
              <a:chExt cx="1371600" cy="840600"/>
            </a:xfrm>
          </p:grpSpPr>
          <p:sp>
            <p:nvSpPr>
              <p:cNvPr id="2153" name=""/>
              <p:cNvSpPr/>
              <p:nvPr/>
            </p:nvSpPr>
            <p:spPr>
              <a:xfrm>
                <a:off x="2666880" y="29257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95480" y="3306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5" name=""/>
          <p:cNvSpPr/>
          <p:nvPr/>
        </p:nvSpPr>
        <p:spPr>
          <a:xfrm>
            <a:off x="719280" y="3860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0 x 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95240" y="4470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998720" y="511956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617840" y="51195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5795280" y="2708280"/>
            <a:ext cx="2573280" cy="764640"/>
            <a:chOff x="5795280" y="2708280"/>
            <a:chExt cx="2573280" cy="764640"/>
          </a:xfrm>
        </p:grpSpPr>
        <p:sp>
          <p:nvSpPr>
            <p:cNvPr id="2160" name=""/>
            <p:cNvSpPr/>
            <p:nvPr/>
          </p:nvSpPr>
          <p:spPr>
            <a:xfrm>
              <a:off x="5795280" y="28893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 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x  63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6732360" y="2708280"/>
              <a:ext cx="605880" cy="764640"/>
              <a:chOff x="6732360" y="2708280"/>
              <a:chExt cx="605880" cy="764640"/>
            </a:xfrm>
          </p:grpSpPr>
          <p:sp>
            <p:nvSpPr>
              <p:cNvPr id="2162" name=""/>
              <p:cNvSpPr/>
              <p:nvPr/>
            </p:nvSpPr>
            <p:spPr>
              <a:xfrm>
                <a:off x="6732360" y="2708280"/>
                <a:ext cx="6058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837480" y="30938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4" name=""/>
          <p:cNvSpPr/>
          <p:nvPr/>
        </p:nvSpPr>
        <p:spPr>
          <a:xfrm>
            <a:off x="5722200" y="35733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84  x 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5" name=""/>
          <p:cNvGrpSpPr/>
          <p:nvPr/>
        </p:nvGrpSpPr>
        <p:grpSpPr>
          <a:xfrm>
            <a:off x="6228000" y="4200480"/>
            <a:ext cx="2098080" cy="743400"/>
            <a:chOff x="6228000" y="4200480"/>
            <a:chExt cx="2098080" cy="743400"/>
          </a:xfrm>
        </p:grpSpPr>
        <p:sp>
          <p:nvSpPr>
            <p:cNvPr id="2166" name=""/>
            <p:cNvSpPr/>
            <p:nvPr/>
          </p:nvSpPr>
          <p:spPr>
            <a:xfrm>
              <a:off x="6228000" y="429876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6753600" y="4240080"/>
              <a:ext cx="1572480" cy="703800"/>
              <a:chOff x="6753600" y="4240080"/>
              <a:chExt cx="1572480" cy="703800"/>
            </a:xfrm>
          </p:grpSpPr>
          <p:sp>
            <p:nvSpPr>
              <p:cNvPr id="2168" name=""/>
              <p:cNvSpPr/>
              <p:nvPr/>
            </p:nvSpPr>
            <p:spPr>
              <a:xfrm>
                <a:off x="6753600" y="4240080"/>
                <a:ext cx="1572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buClr>
                    <a:srgbClr val="000000"/>
                  </a:buClr>
                  <a:buFont typeface="Arial"/>
                  <a:buAutoNum type="arabicPlain" startAt="84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059240" y="4562280"/>
                <a:ext cx="9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7310160" y="4200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372360" y="6453360"/>
            <a:ext cx="430200" cy="387000"/>
          </a:xfrm>
          <a:custGeom>
            <a:avLst/>
            <a:gdLst>
              <a:gd name="textAreaLeft" fmla="*/ 24840 w 430200"/>
              <a:gd name="textAreaRight" fmla="*/ 405360 w 430200"/>
              <a:gd name="textAreaTop" fmla="*/ 24840 h 387000"/>
              <a:gd name="textAreaBottom" fmla="*/ 362160 h 387000"/>
            </a:gdLst>
            <a:ahLst/>
            <a:rect l="textAreaLeft" t="textAreaTop" r="textAreaRight" b="textAreaBottom"/>
            <a:pathLst>
              <a:path w="24009" h="21600">
                <a:moveTo>
                  <a:pt x="0" y="0"/>
                </a:moveTo>
                <a:lnTo>
                  <a:pt x="24009" y="0"/>
                </a:lnTo>
                <a:lnTo>
                  <a:pt x="24009" y="21600"/>
                </a:lnTo>
                <a:lnTo>
                  <a:pt x="0" y="21600"/>
                </a:lnTo>
                <a:close/>
              </a:path>
              <a:path fill="lightenLess" w="24009" h="21600">
                <a:moveTo>
                  <a:pt x="0" y="0"/>
                </a:moveTo>
                <a:lnTo>
                  <a:pt x="24009" y="0"/>
                </a:lnTo>
                <a:lnTo>
                  <a:pt x="22609" y="1400"/>
                </a:lnTo>
                <a:lnTo>
                  <a:pt x="1400" y="1400"/>
                </a:lnTo>
                <a:close/>
              </a:path>
              <a:path fill="darken" w="24009" h="21600">
                <a:moveTo>
                  <a:pt x="24009" y="0"/>
                </a:moveTo>
                <a:lnTo>
                  <a:pt x="24009" y="21600"/>
                </a:lnTo>
                <a:lnTo>
                  <a:pt x="22609" y="20200"/>
                </a:lnTo>
                <a:lnTo>
                  <a:pt x="22609" y="1400"/>
                </a:lnTo>
                <a:close/>
              </a:path>
              <a:path fill="darkenLess" w="24009" h="21600">
                <a:moveTo>
                  <a:pt x="24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9" y="20200"/>
                </a:lnTo>
                <a:close/>
              </a:path>
              <a:path fill="lighten" w="24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9" h="21600">
                <a:moveTo>
                  <a:pt x="12004" y="3837"/>
                </a:moveTo>
                <a:lnTo>
                  <a:pt x="14581" y="6448"/>
                </a:lnTo>
                <a:lnTo>
                  <a:pt x="14581" y="4707"/>
                </a:lnTo>
                <a:lnTo>
                  <a:pt x="16356" y="4707"/>
                </a:lnTo>
                <a:lnTo>
                  <a:pt x="16356" y="8224"/>
                </a:lnTo>
                <a:lnTo>
                  <a:pt x="18967" y="10800"/>
                </a:lnTo>
                <a:lnTo>
                  <a:pt x="17314" y="10800"/>
                </a:lnTo>
                <a:lnTo>
                  <a:pt x="17314" y="17989"/>
                </a:lnTo>
                <a:lnTo>
                  <a:pt x="6695" y="17989"/>
                </a:lnTo>
                <a:lnTo>
                  <a:pt x="6695" y="10800"/>
                </a:lnTo>
                <a:lnTo>
                  <a:pt x="5041" y="10800"/>
                </a:lnTo>
                <a:close/>
              </a:path>
              <a:path fill="darkenLess" w="24009" h="21600">
                <a:moveTo>
                  <a:pt x="14581" y="6448"/>
                </a:moveTo>
                <a:lnTo>
                  <a:pt x="14581" y="4707"/>
                </a:lnTo>
                <a:lnTo>
                  <a:pt x="16356" y="4707"/>
                </a:lnTo>
                <a:lnTo>
                  <a:pt x="16356" y="8224"/>
                </a:lnTo>
                <a:close/>
              </a:path>
              <a:path fill="darkenLess" w="24009" h="21600">
                <a:moveTo>
                  <a:pt x="11082" y="14299"/>
                </a:moveTo>
                <a:lnTo>
                  <a:pt x="12927" y="14299"/>
                </a:lnTo>
                <a:lnTo>
                  <a:pt x="12927" y="17989"/>
                </a:lnTo>
                <a:lnTo>
                  <a:pt x="17314" y="17989"/>
                </a:lnTo>
                <a:lnTo>
                  <a:pt x="17314" y="10800"/>
                </a:lnTo>
                <a:lnTo>
                  <a:pt x="6695" y="10800"/>
                </a:lnTo>
                <a:lnTo>
                  <a:pt x="6695" y="17989"/>
                </a:lnTo>
                <a:lnTo>
                  <a:pt x="1108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662080" y="4941720"/>
            <a:ext cx="3304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graphs, char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6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170028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1300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&amp; upper quar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7280" y="260280"/>
            <a:ext cx="489744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SIQR = ½ 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907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SIQR = ½(Q3 – Q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0960" y="128916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£195 - £171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1746360"/>
            <a:ext cx="1085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250920" y="5518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413000"/>
            <a:ext cx="50472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68640"/>
            <a:ext cx="40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one chosen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ns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ess than £1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34960" y="90792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£180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1413000"/>
            <a:ext cx="50508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50472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41300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413000"/>
            <a:ext cx="50508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141300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7640" y="1125360"/>
            <a:ext cx="505080" cy="36072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125360"/>
            <a:ext cx="504720" cy="360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125360"/>
            <a:ext cx="505080" cy="36072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1125360"/>
            <a:ext cx="505080" cy="360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37480" y="148428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2205000"/>
            <a:ext cx="122400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028000" y="1989000"/>
            <a:ext cx="64764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206064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b)  Prob(under £18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2560" y="523800"/>
            <a:ext cx="32727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number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numbers in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3480" y="2205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– 12    13    14 -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060640"/>
            <a:ext cx="0" cy="576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000" y="765000"/>
            <a:ext cx="2808360" cy="863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050920" y="2349000"/>
            <a:ext cx="2881440" cy="792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284640"/>
            <a:ext cx="4211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numbers on either sid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i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3th number in order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371628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6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8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28760" y="476280"/>
            <a:ext cx="399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the upper and l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 deal with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either side of the me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65040" y="2062080"/>
            <a:ext cx="461160" cy="44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13040" y="2062080"/>
            <a:ext cx="3512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numbers before med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numbers either side of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idway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6th and 7th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2781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76720" y="2276640"/>
            <a:ext cx="1582560" cy="647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6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22:44Z</dcterms:created>
  <dc:creator>Richardson</dc:creator>
  <dc:description/>
  <dc:language>en-US</dc:language>
  <cp:lastModifiedBy>Richardson</cp:lastModifiedBy>
  <dcterms:modified xsi:type="dcterms:W3CDTF">2006-01-08T16:05:16Z</dcterms:modified>
  <cp:revision>20</cp:revision>
  <dc:subject/>
  <dc:title>Slide 1</dc:title>
</cp:coreProperties>
</file>