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4.png" ContentType="image/png"/>
  <Override PartName="/ppt/media/image13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FE2-4139-4BAC-9C28-2C673AA9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43C-9409-4A32-A2AC-D3FF8D2E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758C-E0B4-4361-9EB7-B62E9670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C6E4-57FE-4981-90E1-225EBA4B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3CA-3624-41B6-8302-AB9A1E68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A51-E178-44CC-9FE9-B92343B0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669-4590-4D03-AB1D-9D9F0CC6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56A-194C-42C5-8D4E-73315A67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F9A-6580-4450-A85B-C9D91E2A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F42-7E32-4E1F-8C83-10CA19A0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2C5-4322-488F-9351-D3CEEAA4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2B8-B6B4-4711-9B88-788E5D2F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D6C5-D5BA-4BE2-8F32-EF4002CE9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Other%20Slides4.ppt" TargetMode="External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hyperlink" Target="file:///Other%20Slides4.ppt" TargetMode="External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image" Target="../media/image13.wmf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file:///Other%20Slides4.ppt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.wmf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620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MEDIATE 2 – ADDITIONAL QUESTION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1760" y="2073240"/>
            <a:ext cx="1374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UNIT 2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79840" y="5027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2060640"/>
            <a:ext cx="2808360" cy="900000"/>
          </a:xfrm>
          <a:custGeom>
            <a:avLst/>
            <a:gdLst>
              <a:gd name="textAreaLeft" fmla="*/ 58320 w 2808360"/>
              <a:gd name="textAreaRight" fmla="*/ 2750040 w 280836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67382" h="21600">
                <a:moveTo>
                  <a:pt x="0" y="0"/>
                </a:moveTo>
                <a:lnTo>
                  <a:pt x="67382" y="0"/>
                </a:lnTo>
                <a:lnTo>
                  <a:pt x="67382" y="21600"/>
                </a:lnTo>
                <a:lnTo>
                  <a:pt x="0" y="21600"/>
                </a:lnTo>
                <a:close/>
              </a:path>
              <a:path fill="lightenLess" w="67382" h="21600">
                <a:moveTo>
                  <a:pt x="0" y="0"/>
                </a:moveTo>
                <a:lnTo>
                  <a:pt x="67382" y="0"/>
                </a:lnTo>
                <a:lnTo>
                  <a:pt x="65982" y="1400"/>
                </a:lnTo>
                <a:lnTo>
                  <a:pt x="1400" y="1400"/>
                </a:lnTo>
                <a:close/>
              </a:path>
              <a:path fill="darken" w="67382" h="21600">
                <a:moveTo>
                  <a:pt x="67382" y="0"/>
                </a:moveTo>
                <a:lnTo>
                  <a:pt x="67382" y="21600"/>
                </a:lnTo>
                <a:lnTo>
                  <a:pt x="65982" y="20200"/>
                </a:lnTo>
                <a:lnTo>
                  <a:pt x="65982" y="1400"/>
                </a:lnTo>
                <a:close/>
              </a:path>
              <a:path fill="darkenLess" w="67382" h="21600">
                <a:moveTo>
                  <a:pt x="67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982" y="20200"/>
                </a:lnTo>
                <a:close/>
              </a:path>
              <a:path fill="lighten" w="67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920" y="134136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have chosen to stu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600" y="3502080"/>
            <a:ext cx="68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choose a question to attempt from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1619280" y="432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/>
          </p:cNvPr>
          <p:cNvSpPr/>
          <p:nvPr/>
        </p:nvSpPr>
        <p:spPr>
          <a:xfrm>
            <a:off x="3708360" y="6237360"/>
            <a:ext cx="1368360" cy="620640"/>
          </a:xfrm>
          <a:custGeom>
            <a:avLst/>
            <a:gdLst>
              <a:gd name="textAreaLeft" fmla="*/ 39960 w 1368360"/>
              <a:gd name="textAreaRight" fmla="*/ 1328400 w 1368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7608" h="21600">
                <a:moveTo>
                  <a:pt x="0" y="0"/>
                </a:moveTo>
                <a:lnTo>
                  <a:pt x="47608" y="0"/>
                </a:lnTo>
                <a:lnTo>
                  <a:pt x="47608" y="21600"/>
                </a:lnTo>
                <a:lnTo>
                  <a:pt x="0" y="21600"/>
                </a:lnTo>
                <a:close/>
              </a:path>
              <a:path fill="lightenLess" w="47608" h="21600">
                <a:moveTo>
                  <a:pt x="0" y="0"/>
                </a:moveTo>
                <a:lnTo>
                  <a:pt x="47608" y="0"/>
                </a:lnTo>
                <a:lnTo>
                  <a:pt x="46208" y="1400"/>
                </a:lnTo>
                <a:lnTo>
                  <a:pt x="1400" y="1400"/>
                </a:lnTo>
                <a:close/>
              </a:path>
              <a:path fill="darken" w="47608" h="21600">
                <a:moveTo>
                  <a:pt x="47608" y="0"/>
                </a:moveTo>
                <a:lnTo>
                  <a:pt x="47608" y="21600"/>
                </a:lnTo>
                <a:lnTo>
                  <a:pt x="46208" y="20200"/>
                </a:lnTo>
                <a:lnTo>
                  <a:pt x="46208" y="1400"/>
                </a:lnTo>
                <a:close/>
              </a:path>
              <a:path fill="darkenLess" w="47608" h="21600">
                <a:moveTo>
                  <a:pt x="47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08" y="20200"/>
                </a:lnTo>
                <a:close/>
              </a:path>
              <a:path fill="lighten" w="47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2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2627280" y="43657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3564000" y="43657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4572000" y="43657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5508720" y="43657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561636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2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9640" y="155736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42920" y="1413000"/>
            <a:ext cx="12708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41640" y="2230560"/>
            <a:ext cx="12564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92360" y="1844640"/>
            <a:ext cx="127080" cy="120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87640" y="2133720"/>
            <a:ext cx="12528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1916280"/>
            <a:ext cx="12564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47640" y="155736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84360" y="170028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932360" y="2205000"/>
            <a:ext cx="12528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27640" y="2060640"/>
            <a:ext cx="125280" cy="120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35640" y="2421000"/>
            <a:ext cx="12528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22360" y="4278240"/>
            <a:ext cx="25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s o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020600">
            <a:off x="-582120" y="1696320"/>
            <a:ext cx="15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1066680" y="2492280"/>
            <a:ext cx="938160" cy="14353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5013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V personality takes part in a 20 week training schedule to copy a 100m sprinter.  Her times are recorded every 2 weeks and plotted in the graph  then a line of best fit is drawn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2124000" y="616572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84560" y="615960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5616360" cy="38098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2" action="ppaction://hlinksldjump"/>
          </p:cNvPr>
          <p:cNvSpPr/>
          <p:nvPr/>
        </p:nvSpPr>
        <p:spPr>
          <a:xfrm>
            <a:off x="6046920" y="15289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3" action="ppaction://hlinksldjump"/>
          </p:cNvPr>
          <p:cNvSpPr/>
          <p:nvPr/>
        </p:nvSpPr>
        <p:spPr>
          <a:xfrm>
            <a:off x="6046920" y="23479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4" action="ppaction://hlinksldjump"/>
          </p:cNvPr>
          <p:cNvSpPr/>
          <p:nvPr/>
        </p:nvSpPr>
        <p:spPr>
          <a:xfrm>
            <a:off x="6084720" y="3068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5" action="ppaction://hlinksldjump"/>
          </p:cNvPr>
          <p:cNvSpPr/>
          <p:nvPr/>
        </p:nvSpPr>
        <p:spPr>
          <a:xfrm>
            <a:off x="6084720" y="37609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64040" y="23479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78160" y="3068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77440" y="37609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41080" y="1528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6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6046920" y="83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10920" y="8366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155736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1413000"/>
            <a:ext cx="12708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41640" y="2230560"/>
            <a:ext cx="12564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92360" y="1844640"/>
            <a:ext cx="127080" cy="120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87640" y="2133720"/>
            <a:ext cx="12528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0920" y="1916280"/>
            <a:ext cx="12564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47640" y="155736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84360" y="170028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932360" y="2205000"/>
            <a:ext cx="12528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27640" y="2060640"/>
            <a:ext cx="125280" cy="120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5640" y="2421000"/>
            <a:ext cx="12528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322360" y="4278240"/>
            <a:ext cx="25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s o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020600">
            <a:off x="-582120" y="1696320"/>
            <a:ext cx="15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1066680" y="2492280"/>
            <a:ext cx="938160" cy="14353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50920" y="472428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Find the equation of the line in terms of  T and 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Use answer (i)  to predict     (a) her time after 12 weeks of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the week when her time was 11.5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50920" y="472428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Find the equation of the line in terms of  T and 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Use answer (i)  to predict     (a) her time after 12 weeks of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the week when her time was 11.5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96000" y="0"/>
            <a:ext cx="3097080" cy="1557360"/>
          </a:xfrm>
          <a:prstGeom prst="cloudCallout">
            <a:avLst>
              <a:gd name="adj1" fmla="val -20476"/>
              <a:gd name="adj2" fmla="val 29332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your equation and substit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=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5616360" cy="38098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6046920" y="15289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6046920" y="23479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3" action="ppaction://hlinksldjump"/>
          </p:cNvPr>
          <p:cNvSpPr/>
          <p:nvPr/>
        </p:nvSpPr>
        <p:spPr>
          <a:xfrm>
            <a:off x="6084720" y="3068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4" action="ppaction://hlinksldjump"/>
          </p:cNvPr>
          <p:cNvSpPr/>
          <p:nvPr/>
        </p:nvSpPr>
        <p:spPr>
          <a:xfrm>
            <a:off x="6084720" y="37609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64040" y="23479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78160" y="3068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77440" y="37609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41080" y="1528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9640" y="155736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42920" y="1413000"/>
            <a:ext cx="12708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41640" y="2230560"/>
            <a:ext cx="12564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92360" y="1844640"/>
            <a:ext cx="127080" cy="120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87640" y="2133720"/>
            <a:ext cx="12528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50920" y="1916280"/>
            <a:ext cx="12564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47640" y="155736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484360" y="170028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32360" y="2205000"/>
            <a:ext cx="12528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27640" y="2060640"/>
            <a:ext cx="125280" cy="120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2421000"/>
            <a:ext cx="12528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322360" y="4278240"/>
            <a:ext cx="25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s o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020600">
            <a:off x="-582120" y="1696320"/>
            <a:ext cx="15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1066680" y="2492280"/>
            <a:ext cx="938160" cy="14353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5400720" y="0"/>
            <a:ext cx="3743280" cy="1413000"/>
          </a:xfrm>
          <a:prstGeom prst="cloudCallout">
            <a:avLst>
              <a:gd name="adj1" fmla="val -87787"/>
              <a:gd name="adj2" fmla="val 28460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gradient and note intercept of T 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0"/>
            <a:ext cx="2592720" cy="1557360"/>
          </a:xfrm>
          <a:prstGeom prst="cloudCallout">
            <a:avLst>
              <a:gd name="adj1" fmla="val 20421"/>
              <a:gd name="adj2" fmla="val 3294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your equation and substit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= 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02360" y="634536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5616360" cy="38098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6046920" y="23479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2" action="ppaction://hlinksldjump"/>
          </p:cNvPr>
          <p:cNvSpPr/>
          <p:nvPr/>
        </p:nvSpPr>
        <p:spPr>
          <a:xfrm>
            <a:off x="6084720" y="3068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64040" y="23479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78160" y="3068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77440" y="37609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9640" y="155736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12708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41640" y="2230560"/>
            <a:ext cx="12564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1844640"/>
            <a:ext cx="127080" cy="120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87640" y="2133720"/>
            <a:ext cx="12528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50920" y="1916280"/>
            <a:ext cx="12564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47640" y="155736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84360" y="170028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32360" y="2205000"/>
            <a:ext cx="12528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427640" y="2060640"/>
            <a:ext cx="125280" cy="120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35640" y="2421000"/>
            <a:ext cx="12528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322360" y="4278240"/>
            <a:ext cx="25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s o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6020600">
            <a:off x="-582120" y="1696320"/>
            <a:ext cx="15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1066680" y="2492280"/>
            <a:ext cx="938160" cy="14353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250920" y="472428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Find the equation of the line in terms of  T and 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Use answer (i)  to predict     (a) her time after 12 weeks of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the week when her time was 11.5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732720" y="4653000"/>
            <a:ext cx="2133360" cy="533520"/>
            <a:chOff x="6732720" y="4653000"/>
            <a:chExt cx="2133360" cy="533520"/>
          </a:xfrm>
        </p:grpSpPr>
        <p:sp>
          <p:nvSpPr>
            <p:cNvPr id="385" name=""/>
            <p:cNvSpPr/>
            <p:nvPr/>
          </p:nvSpPr>
          <p:spPr>
            <a:xfrm>
              <a:off x="6732720" y="4653000"/>
              <a:ext cx="2133360" cy="53352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35680" y="4724640"/>
              <a:ext cx="185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 =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¼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W + 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380360" y="5661000"/>
            <a:ext cx="11012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se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233840" y="6345360"/>
            <a:ext cx="12992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5" action="ppaction://hlinksldjump"/>
          </p:cNvPr>
          <p:cNvSpPr/>
          <p:nvPr/>
        </p:nvSpPr>
        <p:spPr>
          <a:xfrm>
            <a:off x="6084720" y="378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29840" y="26028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394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3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gradient and note intercept of T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-3960" y="765000"/>
            <a:ext cx="395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Find the equation of the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erms of  T and 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299736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 to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952880" y="901800"/>
            <a:ext cx="1905120" cy="745200"/>
            <a:chOff x="4952880" y="901800"/>
            <a:chExt cx="1905120" cy="745200"/>
          </a:xfrm>
        </p:grpSpPr>
        <p:sp>
          <p:nvSpPr>
            <p:cNvPr id="413" name=""/>
            <p:cNvSpPr/>
            <p:nvPr/>
          </p:nvSpPr>
          <p:spPr>
            <a:xfrm>
              <a:off x="4952880" y="901800"/>
              <a:ext cx="1706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 = (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–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0080" y="120636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– 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86400" y="128268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4343400" y="901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705720" y="901800"/>
            <a:ext cx="1828800" cy="703800"/>
            <a:chOff x="6705720" y="901800"/>
            <a:chExt cx="1828800" cy="703800"/>
          </a:xfrm>
        </p:grpSpPr>
        <p:sp>
          <p:nvSpPr>
            <p:cNvPr id="418" name=""/>
            <p:cNvSpPr/>
            <p:nvPr/>
          </p:nvSpPr>
          <p:spPr>
            <a:xfrm>
              <a:off x="6705720" y="9018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0 - 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05720" y="12067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 -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6400800" y="1054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76920" y="17398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cept at 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29400" y="2349360"/>
            <a:ext cx="2133720" cy="5335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76920" y="2349360"/>
            <a:ext cx="40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 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0120" y="981000"/>
            <a:ext cx="13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3" action="ppaction://hlinksldjump"/>
          </p:cNvPr>
          <p:cNvSpPr/>
          <p:nvPr/>
        </p:nvSpPr>
        <p:spPr>
          <a:xfrm>
            <a:off x="826920" y="1773360"/>
            <a:ext cx="1152720" cy="1079280"/>
          </a:xfrm>
          <a:custGeom>
            <a:avLst/>
            <a:gdLst>
              <a:gd name="textAreaLeft" fmla="*/ 69840 w 1152720"/>
              <a:gd name="textAreaRight" fmla="*/ 1082880 w 115272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1153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069" h="21600">
                <a:moveTo>
                  <a:pt x="1153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069" h="21600">
                <a:moveTo>
                  <a:pt x="8958" y="8224"/>
                </a:moveTo>
                <a:lnTo>
                  <a:pt x="12823" y="8224"/>
                </a:lnTo>
                <a:lnTo>
                  <a:pt x="12823" y="15221"/>
                </a:lnTo>
                <a:lnTo>
                  <a:pt x="14111" y="15221"/>
                </a:lnTo>
                <a:lnTo>
                  <a:pt x="14111" y="16144"/>
                </a:lnTo>
                <a:lnTo>
                  <a:pt x="8958" y="16144"/>
                </a:lnTo>
                <a:lnTo>
                  <a:pt x="8958" y="15221"/>
                </a:lnTo>
                <a:lnTo>
                  <a:pt x="10246" y="15221"/>
                </a:lnTo>
                <a:lnTo>
                  <a:pt x="10246" y="9129"/>
                </a:lnTo>
                <a:lnTo>
                  <a:pt x="8958" y="912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4" action="ppaction://hlinksldjump"/>
          </p:cNvPr>
          <p:cNvSpPr/>
          <p:nvPr/>
        </p:nvSpPr>
        <p:spPr>
          <a:xfrm>
            <a:off x="250920" y="5516640"/>
            <a:ext cx="433440" cy="28872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4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4" y="20200"/>
                </a:lnTo>
                <a:lnTo>
                  <a:pt x="31014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4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5" action="ppaction://hlinksldjump"/>
          </p:cNvPr>
          <p:cNvSpPr/>
          <p:nvPr/>
        </p:nvSpPr>
        <p:spPr>
          <a:xfrm>
            <a:off x="250920" y="5950080"/>
            <a:ext cx="433440" cy="28872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4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4" y="20200"/>
                </a:lnTo>
                <a:lnTo>
                  <a:pt x="31014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4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54936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Use answer (i)  to predict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her time after 12 weeks of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the week when her time was 11.5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432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4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067280" y="260280"/>
            <a:ext cx="4897440" cy="862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your equation and sub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= 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95640" y="134136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(i) If  w = 12 then   T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 + 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05480" y="179856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=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x 12)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662880" y="2179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-3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662880" y="25606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43280" y="2941560"/>
            <a:ext cx="3919680" cy="5335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88000" y="2997360"/>
            <a:ext cx="37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at 12 weeks is 12se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rId3" action="ppaction://hlinksldjump"/>
          </p:cNvPr>
          <p:cNvSpPr/>
          <p:nvPr/>
        </p:nvSpPr>
        <p:spPr>
          <a:xfrm>
            <a:off x="250920" y="5516640"/>
            <a:ext cx="433440" cy="28872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4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4" y="20200"/>
                </a:lnTo>
                <a:lnTo>
                  <a:pt x="31014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4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4" action="ppaction://hlinksldjump"/>
          </p:cNvPr>
          <p:cNvSpPr/>
          <p:nvPr/>
        </p:nvSpPr>
        <p:spPr>
          <a:xfrm>
            <a:off x="250920" y="5950080"/>
            <a:ext cx="433440" cy="28872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4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4" y="20200"/>
                </a:lnTo>
                <a:lnTo>
                  <a:pt x="31014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4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54936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Use answer (i)  to predict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her time after 12 weeks of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the week when her time was 11.5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460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4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95640" y="0"/>
            <a:ext cx="4897440" cy="862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Use your equation and sub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= 1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95640" y="1008000"/>
            <a:ext cx="51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(i) If  t = 11.5 then       T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 +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24360" y="148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 + 15  = 1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588000" y="177336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-15)    (-1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72360" y="20606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  =  -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028000" y="2060640"/>
            <a:ext cx="111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(–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70520" y="24922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 =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95640" y="3213000"/>
            <a:ext cx="5148360" cy="5335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67280" y="3284640"/>
            <a:ext cx="50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 a time of 11.5sec after 14 wee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53480" y="414972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0724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-36360" y="907920"/>
            <a:ext cx="46796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gradient and note intercept of T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76120" y="1735200"/>
            <a:ext cx="5257800" cy="745560"/>
            <a:chOff x="276120" y="1735200"/>
            <a:chExt cx="5257800" cy="745560"/>
          </a:xfrm>
        </p:grpSpPr>
        <p:grpSp>
          <p:nvGrpSpPr>
            <p:cNvPr id="497" name=""/>
            <p:cNvGrpSpPr/>
            <p:nvPr/>
          </p:nvGrpSpPr>
          <p:grpSpPr>
            <a:xfrm>
              <a:off x="276120" y="1735200"/>
              <a:ext cx="5257800" cy="745560"/>
              <a:chOff x="276120" y="1735200"/>
              <a:chExt cx="5257800" cy="74556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885960" y="1735200"/>
                <a:ext cx="4647960" cy="745560"/>
                <a:chOff x="885960" y="1735200"/>
                <a:chExt cx="4647960" cy="7455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885960" y="1735200"/>
                  <a:ext cx="4647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 = (y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– y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42800" y="2040120"/>
                  <a:ext cx="1447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(x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– x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419120" y="2116080"/>
                  <a:ext cx="83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276120" y="173520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2333520" y="1735200"/>
              <a:ext cx="2133720" cy="703800"/>
              <a:chOff x="2333520" y="1735200"/>
              <a:chExt cx="2133720" cy="70380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2638440" y="1735200"/>
                <a:ext cx="1828800" cy="703800"/>
                <a:chOff x="2638440" y="1735200"/>
                <a:chExt cx="1828800" cy="7038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2638440" y="1735200"/>
                  <a:ext cx="1828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10 - 1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638440" y="2040120"/>
                  <a:ext cx="12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0 - 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" name=""/>
              <p:cNvSpPr/>
              <p:nvPr/>
            </p:nvSpPr>
            <p:spPr>
              <a:xfrm>
                <a:off x="2333520" y="18878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>
            <a:off x="809640" y="2573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cept at 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62120" y="3182760"/>
            <a:ext cx="2133720" cy="5335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09640" y="318276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 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52840" y="1814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44760" y="666720"/>
            <a:ext cx="313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find the equation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e from the grap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st Learn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 = mx  +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444720" y="2664000"/>
            <a:ext cx="287640" cy="50292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524720" y="2565360"/>
            <a:ext cx="216000" cy="60156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869440" y="3141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08360" y="31417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699880" y="4076640"/>
            <a:ext cx="34466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you need to find thes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6587640" y="3499920"/>
            <a:ext cx="2890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667640" y="3428640"/>
            <a:ext cx="144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rId3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0724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-36360" y="907920"/>
            <a:ext cx="46796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gradient and note intercept of T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76120" y="1735200"/>
            <a:ext cx="5257800" cy="745560"/>
            <a:chOff x="276120" y="1735200"/>
            <a:chExt cx="5257800" cy="745560"/>
          </a:xfrm>
        </p:grpSpPr>
        <p:grpSp>
          <p:nvGrpSpPr>
            <p:cNvPr id="531" name=""/>
            <p:cNvGrpSpPr/>
            <p:nvPr/>
          </p:nvGrpSpPr>
          <p:grpSpPr>
            <a:xfrm>
              <a:off x="276120" y="1735200"/>
              <a:ext cx="5257800" cy="745560"/>
              <a:chOff x="276120" y="1735200"/>
              <a:chExt cx="5257800" cy="745560"/>
            </a:xfrm>
          </p:grpSpPr>
          <p:grpSp>
            <p:nvGrpSpPr>
              <p:cNvPr id="532" name=""/>
              <p:cNvGrpSpPr/>
              <p:nvPr/>
            </p:nvGrpSpPr>
            <p:grpSpPr>
              <a:xfrm>
                <a:off x="885960" y="1735200"/>
                <a:ext cx="4647960" cy="745560"/>
                <a:chOff x="885960" y="1735200"/>
                <a:chExt cx="4647960" cy="7455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885960" y="1735200"/>
                  <a:ext cx="4647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 = (y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– y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42800" y="2040120"/>
                  <a:ext cx="1447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(x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– x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419120" y="2116080"/>
                  <a:ext cx="83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76120" y="173520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2333520" y="1735200"/>
              <a:ext cx="2133720" cy="703800"/>
              <a:chOff x="2333520" y="1735200"/>
              <a:chExt cx="2133720" cy="70380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2638440" y="1735200"/>
                <a:ext cx="1828800" cy="703800"/>
                <a:chOff x="2638440" y="1735200"/>
                <a:chExt cx="1828800" cy="7038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2638440" y="1735200"/>
                  <a:ext cx="1828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10 - 1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638440" y="2040120"/>
                  <a:ext cx="12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0 - 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>
                <a:off x="2333520" y="18878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"/>
          <p:cNvSpPr/>
          <p:nvPr/>
        </p:nvSpPr>
        <p:spPr>
          <a:xfrm>
            <a:off x="809640" y="2573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cept at 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62120" y="3182760"/>
            <a:ext cx="2133720" cy="5335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09640" y="318276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 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52840" y="1814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01080" y="7840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 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6969240" y="620640"/>
            <a:ext cx="1396800" cy="703800"/>
            <a:chOff x="6969240" y="620640"/>
            <a:chExt cx="1396800" cy="703800"/>
          </a:xfrm>
        </p:grpSpPr>
        <p:sp>
          <p:nvSpPr>
            <p:cNvPr id="548" name=""/>
            <p:cNvSpPr/>
            <p:nvPr/>
          </p:nvSpPr>
          <p:spPr>
            <a:xfrm>
              <a:off x="6969240" y="620640"/>
              <a:ext cx="139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rtic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rizo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61400" y="9856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5143320" y="1819440"/>
            <a:ext cx="37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draw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al before the vertic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32360" y="3284640"/>
            <a:ext cx="3024360" cy="93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3357720"/>
            <a:ext cx="23767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596360" y="3357720"/>
            <a:ext cx="0" cy="7189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451640" y="3357720"/>
            <a:ext cx="142920" cy="14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506200" y="290052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rizontal (+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522200" y="349560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rtical (-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rId3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880"/>
                            </p:stCondLst>
                            <p:childTnLst>
                              <p:par>
                                <p:cTn id="4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880"/>
                            </p:stCondLst>
                            <p:childTnLst>
                              <p:par>
                                <p:cTn id="50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38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880"/>
                            </p:stCondLst>
                            <p:childTnLst>
                              <p:par>
                                <p:cTn id="51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380"/>
                            </p:stCondLst>
                            <p:childTnLst>
                              <p:par>
                                <p:cTn id="5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88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28600" y="4076640"/>
            <a:ext cx="8915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percentage liked Shrek but not the Simps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someone is picked at random what is the probability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they liked the Simpsons but not Shr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)  they liked neith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>
            <a:hlinkClick r:id="rId1" action="ppaction://hlinksldjump"/>
          </p:cNvPr>
          <p:cNvSpPr/>
          <p:nvPr/>
        </p:nvSpPr>
        <p:spPr>
          <a:xfrm>
            <a:off x="126036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>
            <a:hlinkClick r:id="rId2" action="ppaction://hlinksldjump"/>
          </p:cNvPr>
          <p:cNvSpPr/>
          <p:nvPr/>
        </p:nvSpPr>
        <p:spPr>
          <a:xfrm>
            <a:off x="370836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rId3" action="ppaction://hlinksldjump"/>
          </p:cNvPr>
          <p:cNvSpPr/>
          <p:nvPr/>
        </p:nvSpPr>
        <p:spPr>
          <a:xfrm>
            <a:off x="370692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rId4" action="ppaction://hlinksldjump"/>
          </p:cNvPr>
          <p:cNvSpPr/>
          <p:nvPr/>
        </p:nvSpPr>
        <p:spPr>
          <a:xfrm>
            <a:off x="637236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426560" y="5877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01440" y="64263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165800" y="5877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055240" y="6426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nextslide"/>
          </p:cNvPr>
          <p:cNvSpPr/>
          <p:nvPr/>
        </p:nvSpPr>
        <p:spPr>
          <a:xfrm>
            <a:off x="126036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124720" y="5877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620640"/>
            <a:ext cx="914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ample of 180 teenagers were asked their opinions on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V series the “Simpsons” &amp; the movie “Shrek” and their responses were displayed in the following table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6"/>
          <a:stretch/>
        </p:blipFill>
        <p:spPr>
          <a:xfrm>
            <a:off x="6781680" y="1447920"/>
            <a:ext cx="18748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574" name=""/>
          <p:cNvGrpSpPr/>
          <p:nvPr/>
        </p:nvGrpSpPr>
        <p:grpSpPr>
          <a:xfrm>
            <a:off x="3124080" y="1295280"/>
            <a:ext cx="3809880" cy="2743200"/>
            <a:chOff x="3124080" y="1295280"/>
            <a:chExt cx="3809880" cy="2743200"/>
          </a:xfrm>
        </p:grpSpPr>
        <p:grpSp>
          <p:nvGrpSpPr>
            <p:cNvPr id="575" name=""/>
            <p:cNvGrpSpPr/>
            <p:nvPr/>
          </p:nvGrpSpPr>
          <p:grpSpPr>
            <a:xfrm>
              <a:off x="3124080" y="1295280"/>
              <a:ext cx="3581280" cy="2743200"/>
              <a:chOff x="3124080" y="1295280"/>
              <a:chExt cx="3581280" cy="274320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3124080" y="1295280"/>
                <a:ext cx="3581280" cy="2743200"/>
                <a:chOff x="3124080" y="1295280"/>
                <a:chExt cx="3581280" cy="27432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124080" y="1295280"/>
                  <a:ext cx="3581280" cy="2743200"/>
                </a:xfrm>
                <a:prstGeom prst="rect">
                  <a:avLst/>
                </a:prstGeom>
                <a:solidFill>
                  <a:srgbClr val="cc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124080" y="198108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124080" y="306684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138560" y="1295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451840" y="1295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4190760" y="1371600"/>
                <a:ext cx="1295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200400" y="220968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86400" y="137160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124080" y="327636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4343400" y="22096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15000" y="3200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419360" y="32004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562360" y="2209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0" name="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27716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1836720" y="5273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183672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5508720" y="4581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5508720" y="5273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4200" y="6093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1800" y="4581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01080" y="527364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30880" y="52736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692280"/>
            <a:ext cx="85341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axi company was phoned each night of the week and the response time in minutes of their cars were noted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were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Find the mean and standard deviation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 A similar experiment was conducted with a seco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company.  The results for this wer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 = 12    and   standard deviation = 1.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second company compare to the firs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1836720" y="4581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720" y="45813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28600" y="4076640"/>
            <a:ext cx="8915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percentage liked Shrek but not the Simps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someone is picked at random what is the probability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they liked the Simpsons but not Shr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)  they liked neith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478944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>
            <a:hlinkClick r:id="rId1" action="ppaction://hlinksldjump"/>
          </p:cNvPr>
          <p:cNvSpPr/>
          <p:nvPr/>
        </p:nvSpPr>
        <p:spPr>
          <a:xfrm>
            <a:off x="212580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rId2" action="ppaction://hlinksldjump"/>
          </p:cNvPr>
          <p:cNvSpPr/>
          <p:nvPr/>
        </p:nvSpPr>
        <p:spPr>
          <a:xfrm>
            <a:off x="212400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>
            <a:hlinkClick r:id="rId3" action="ppaction://hlinksldjump"/>
          </p:cNvPr>
          <p:cNvSpPr/>
          <p:nvPr/>
        </p:nvSpPr>
        <p:spPr>
          <a:xfrm>
            <a:off x="478944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43640" y="5877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18520" y="64263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583240" y="5877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584320" y="6426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620640"/>
            <a:ext cx="914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ample of 180 teenagers were asked their opinions on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V series the “Simpsons” &amp; the movie “Shrek” and their responses were displayed in the following table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5"/>
          <a:stretch/>
        </p:blipFill>
        <p:spPr>
          <a:xfrm>
            <a:off x="6781680" y="1447920"/>
            <a:ext cx="18748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605" name=""/>
          <p:cNvGrpSpPr/>
          <p:nvPr/>
        </p:nvGrpSpPr>
        <p:grpSpPr>
          <a:xfrm>
            <a:off x="3124080" y="1295280"/>
            <a:ext cx="3809880" cy="2743200"/>
            <a:chOff x="3124080" y="1295280"/>
            <a:chExt cx="3809880" cy="2743200"/>
          </a:xfrm>
        </p:grpSpPr>
        <p:grpSp>
          <p:nvGrpSpPr>
            <p:cNvPr id="606" name=""/>
            <p:cNvGrpSpPr/>
            <p:nvPr/>
          </p:nvGrpSpPr>
          <p:grpSpPr>
            <a:xfrm>
              <a:off x="3124080" y="1295280"/>
              <a:ext cx="3581280" cy="2743200"/>
              <a:chOff x="3124080" y="1295280"/>
              <a:chExt cx="3581280" cy="274320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3124080" y="1295280"/>
                <a:ext cx="3581280" cy="2743200"/>
                <a:chOff x="3124080" y="1295280"/>
                <a:chExt cx="3581280" cy="274320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3124080" y="1295280"/>
                  <a:ext cx="3581280" cy="2743200"/>
                </a:xfrm>
                <a:prstGeom prst="rect">
                  <a:avLst/>
                </a:prstGeom>
                <a:solidFill>
                  <a:srgbClr val="cc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124080" y="198108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124080" y="306684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138560" y="1295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451840" y="1295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4190760" y="1371600"/>
                <a:ext cx="1295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200400" y="220968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486400" y="137160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124080" y="327636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4343400" y="22096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715000" y="3200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19360" y="32004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62360" y="2209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1" name="" descr=""/>
          <p:cNvPicPr/>
          <p:nvPr/>
        </p:nvPicPr>
        <p:blipFill>
          <a:blip r:embed="rId6"/>
          <a:stretch/>
        </p:blipFill>
        <p:spPr>
          <a:xfrm>
            <a:off x="228600" y="1752480"/>
            <a:ext cx="2771640" cy="172404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6551640" y="1413000"/>
            <a:ext cx="2592360" cy="2232000"/>
          </a:xfrm>
          <a:prstGeom prst="cloudCallout">
            <a:avLst>
              <a:gd name="adj1" fmla="val -41180"/>
              <a:gd name="adj2" fmla="val 7318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all entries in table must add to total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580000" y="1557360"/>
            <a:ext cx="3600360" cy="1942920"/>
          </a:xfrm>
          <a:prstGeom prst="cloudCallout">
            <a:avLst>
              <a:gd name="adj1" fmla="val -9745"/>
              <a:gd name="adj2" fmla="val 10522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ind probabilities u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no of favourable / no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095080" y="544500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28600" y="4076640"/>
            <a:ext cx="8915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percentage liked Shrek but not the Simps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someone is picked at random what is the probability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they liked the Simpsons but not Shr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)  they liked neith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>
            <a:hlinkClick r:id="" action="ppaction://hlinkshowjump?jump=nextslide"/>
          </p:cNvPr>
          <p:cNvSpPr/>
          <p:nvPr/>
        </p:nvSpPr>
        <p:spPr>
          <a:xfrm>
            <a:off x="248616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>
            <a:hlinkClick r:id="rId1" action="ppaction://hlinksldjump"/>
          </p:cNvPr>
          <p:cNvSpPr/>
          <p:nvPr/>
        </p:nvSpPr>
        <p:spPr>
          <a:xfrm>
            <a:off x="248436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>
            <a:hlinkClick r:id="rId2" action="ppaction://hlinksldjump"/>
          </p:cNvPr>
          <p:cNvSpPr/>
          <p:nvPr/>
        </p:nvSpPr>
        <p:spPr>
          <a:xfrm>
            <a:off x="514980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4000" y="5877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278880" y="64263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943600" y="5877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620640"/>
            <a:ext cx="914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ample of 180 teenagers were asked their opinions on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V series the “Simpsons” &amp; the movie “Shrek” and their responses were displayed in the following table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6781680" y="1447920"/>
            <a:ext cx="18748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637" name=""/>
          <p:cNvGrpSpPr/>
          <p:nvPr/>
        </p:nvGrpSpPr>
        <p:grpSpPr>
          <a:xfrm>
            <a:off x="3124080" y="1295280"/>
            <a:ext cx="3809880" cy="2743200"/>
            <a:chOff x="3124080" y="1295280"/>
            <a:chExt cx="3809880" cy="2743200"/>
          </a:xfrm>
        </p:grpSpPr>
        <p:grpSp>
          <p:nvGrpSpPr>
            <p:cNvPr id="638" name=""/>
            <p:cNvGrpSpPr/>
            <p:nvPr/>
          </p:nvGrpSpPr>
          <p:grpSpPr>
            <a:xfrm>
              <a:off x="3124080" y="1295280"/>
              <a:ext cx="3581280" cy="2743200"/>
              <a:chOff x="3124080" y="1295280"/>
              <a:chExt cx="3581280" cy="274320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3124080" y="1295280"/>
                <a:ext cx="3581280" cy="2743200"/>
                <a:chOff x="3124080" y="1295280"/>
                <a:chExt cx="3581280" cy="27432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3124080" y="1295280"/>
                  <a:ext cx="3581280" cy="2743200"/>
                </a:xfrm>
                <a:prstGeom prst="rect">
                  <a:avLst/>
                </a:prstGeom>
                <a:solidFill>
                  <a:srgbClr val="cc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124080" y="198108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124080" y="306684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38560" y="1295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451840" y="1295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4190760" y="1371600"/>
                <a:ext cx="1295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200400" y="220968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486400" y="137160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124080" y="327636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>
              <a:off x="4343400" y="22096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15000" y="3200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19360" y="32004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62360" y="2209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228600" y="1752480"/>
            <a:ext cx="2771640" cy="172404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7380360" y="4005360"/>
            <a:ext cx="936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616880" y="4941720"/>
            <a:ext cx="607680" cy="51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820120" y="5373720"/>
            <a:ext cx="531360" cy="51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292720" y="6453360"/>
            <a:ext cx="15386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661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6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95640" y="18900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4480" y="476280"/>
            <a:ext cx="3809880" cy="2743200"/>
            <a:chOff x="114480" y="476280"/>
            <a:chExt cx="3809880" cy="2743200"/>
          </a:xfrm>
        </p:grpSpPr>
        <p:grpSp>
          <p:nvGrpSpPr>
            <p:cNvPr id="680" name=""/>
            <p:cNvGrpSpPr/>
            <p:nvPr/>
          </p:nvGrpSpPr>
          <p:grpSpPr>
            <a:xfrm>
              <a:off x="114480" y="476280"/>
              <a:ext cx="3581280" cy="2743200"/>
              <a:chOff x="114480" y="476280"/>
              <a:chExt cx="3581280" cy="274320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114480" y="476280"/>
                <a:ext cx="3581280" cy="2743200"/>
                <a:chOff x="114480" y="476280"/>
                <a:chExt cx="3581280" cy="27432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114480" y="476280"/>
                  <a:ext cx="3581280" cy="2743200"/>
                </a:xfrm>
                <a:prstGeom prst="rect">
                  <a:avLst/>
                </a:prstGeom>
                <a:solidFill>
                  <a:srgbClr val="cc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14480" y="116208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14480" y="224784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128960" y="476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442240" y="476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>
                <a:off x="1181160" y="552600"/>
                <a:ext cx="1295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90800" y="139068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76800" y="55260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14480" y="245736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1333800" y="13906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05400" y="2381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09760" y="23814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52760" y="1390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-2880" y="3403440"/>
            <a:ext cx="40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What percentage liked Shr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but not the Simps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380360" y="2781360"/>
            <a:ext cx="914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067280" y="1341360"/>
            <a:ext cx="475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ke Shrek but not Simpso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 180 – 126 – 15 – 2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524480" y="24084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00440" y="286560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946920" y="2852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044240" y="831960"/>
            <a:ext cx="37040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: There are 180 in survey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705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7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7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995640" y="18900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14480" y="476280"/>
            <a:ext cx="3809880" cy="2743200"/>
            <a:chOff x="114480" y="476280"/>
            <a:chExt cx="3809880" cy="2743200"/>
          </a:xfrm>
        </p:grpSpPr>
        <p:grpSp>
          <p:nvGrpSpPr>
            <p:cNvPr id="724" name=""/>
            <p:cNvGrpSpPr/>
            <p:nvPr/>
          </p:nvGrpSpPr>
          <p:grpSpPr>
            <a:xfrm>
              <a:off x="114480" y="476280"/>
              <a:ext cx="3581280" cy="2743200"/>
              <a:chOff x="114480" y="476280"/>
              <a:chExt cx="3581280" cy="2743200"/>
            </a:xfrm>
          </p:grpSpPr>
          <p:grpSp>
            <p:nvGrpSpPr>
              <p:cNvPr id="725" name=""/>
              <p:cNvGrpSpPr/>
              <p:nvPr/>
            </p:nvGrpSpPr>
            <p:grpSpPr>
              <a:xfrm>
                <a:off x="114480" y="476280"/>
                <a:ext cx="3581280" cy="2743200"/>
                <a:chOff x="114480" y="476280"/>
                <a:chExt cx="3581280" cy="274320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114480" y="476280"/>
                  <a:ext cx="3581280" cy="2743200"/>
                </a:xfrm>
                <a:prstGeom prst="rect">
                  <a:avLst/>
                </a:prstGeom>
                <a:solidFill>
                  <a:srgbClr val="cc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14480" y="116208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14480" y="224784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128960" y="476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442240" y="476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"/>
              <p:cNvSpPr/>
              <p:nvPr/>
            </p:nvSpPr>
            <p:spPr>
              <a:xfrm>
                <a:off x="1181160" y="552600"/>
                <a:ext cx="1295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90800" y="139068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476800" y="55260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14480" y="245736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333800" y="13906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05400" y="2381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09760" y="23814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52760" y="1390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0" y="32846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what is the probability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ff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y liked the Simpsons 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ot Shr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467480" y="831960"/>
            <a:ext cx="914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267080" y="907920"/>
            <a:ext cx="448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b)(i)   Prob = 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8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30800" y="907920"/>
            <a:ext cx="11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746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7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rId3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95640" y="18900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14480" y="476280"/>
            <a:ext cx="3809880" cy="2743200"/>
            <a:chOff x="114480" y="476280"/>
            <a:chExt cx="3809880" cy="2743200"/>
          </a:xfrm>
        </p:grpSpPr>
        <p:grpSp>
          <p:nvGrpSpPr>
            <p:cNvPr id="765" name=""/>
            <p:cNvGrpSpPr/>
            <p:nvPr/>
          </p:nvGrpSpPr>
          <p:grpSpPr>
            <a:xfrm>
              <a:off x="114480" y="476280"/>
              <a:ext cx="3581280" cy="2743200"/>
              <a:chOff x="114480" y="476280"/>
              <a:chExt cx="3581280" cy="2743200"/>
            </a:xfrm>
          </p:grpSpPr>
          <p:grpSp>
            <p:nvGrpSpPr>
              <p:cNvPr id="766" name=""/>
              <p:cNvGrpSpPr/>
              <p:nvPr/>
            </p:nvGrpSpPr>
            <p:grpSpPr>
              <a:xfrm>
                <a:off x="114480" y="476280"/>
                <a:ext cx="3581280" cy="2743200"/>
                <a:chOff x="114480" y="476280"/>
                <a:chExt cx="3581280" cy="274320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114480" y="476280"/>
                  <a:ext cx="3581280" cy="2743200"/>
                </a:xfrm>
                <a:prstGeom prst="rect">
                  <a:avLst/>
                </a:prstGeom>
                <a:solidFill>
                  <a:srgbClr val="cc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14480" y="116208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14480" y="224784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128960" y="476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2442240" y="476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2" name=""/>
              <p:cNvSpPr/>
              <p:nvPr/>
            </p:nvSpPr>
            <p:spPr>
              <a:xfrm>
                <a:off x="1181160" y="552600"/>
                <a:ext cx="1295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90800" y="139068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476800" y="55260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14480" y="245736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1333800" y="13906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05400" y="2381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09760" y="23814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552760" y="1390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392400" y="34750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ii) they liked nei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419960" y="755640"/>
            <a:ext cx="914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067280" y="907920"/>
            <a:ext cx="487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b)(ii)   Prob = 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8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983280" y="831960"/>
            <a:ext cx="108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425120" y="314172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80724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83664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384720" y="3429000"/>
            <a:ext cx="914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1280" y="198900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ke Shrek but not Simpso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 180 – 126 – 15 –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28480" y="30560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04800" y="3513240"/>
            <a:ext cx="40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951280" y="3500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240" y="1479600"/>
            <a:ext cx="37040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: There are 180 in survey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175000" y="739800"/>
            <a:ext cx="377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o change a fractio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%  multiply by 10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28760" y="1531800"/>
            <a:ext cx="60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617880" y="1676520"/>
            <a:ext cx="23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            x  100%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000200" y="1584360"/>
            <a:ext cx="60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2842920" y="981000"/>
            <a:ext cx="2376360" cy="25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940360" y="1844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093080" y="1916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80724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90792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1550880"/>
            <a:ext cx="914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71440" y="162720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b)(i)   Prob = 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8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008160" y="1628640"/>
            <a:ext cx="11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3058920" y="981000"/>
            <a:ext cx="216036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292360" y="1303200"/>
            <a:ext cx="1713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y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719600" y="2174760"/>
            <a:ext cx="4518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favoura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ossi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788000" y="2606760"/>
            <a:ext cx="435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856040" y="549360"/>
            <a:ext cx="41932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lculate simple proba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78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280"/>
                            </p:stCondLst>
                            <p:childTnLst>
                              <p:par>
                                <p:cTn id="6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780"/>
                            </p:stCondLst>
                            <p:childTnLst>
                              <p:par>
                                <p:cTn id="6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468360" y="4394160"/>
            <a:ext cx="754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combination is selected at random what is the probability that it is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>
            <a:hlinkClick r:id="rId1" action="ppaction://hlinksldjump"/>
          </p:cNvPr>
          <p:cNvSpPr/>
          <p:nvPr/>
        </p:nvSpPr>
        <p:spPr>
          <a:xfrm>
            <a:off x="6948360" y="8082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rId2" action="ppaction://hlinksldjump"/>
          </p:cNvPr>
          <p:cNvSpPr/>
          <p:nvPr/>
        </p:nvSpPr>
        <p:spPr>
          <a:xfrm>
            <a:off x="6948360" y="14112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>
            <a:hlinkClick r:id="rId3" action="ppaction://hlinksldjump"/>
          </p:cNvPr>
          <p:cNvSpPr/>
          <p:nvPr/>
        </p:nvSpPr>
        <p:spPr>
          <a:xfrm>
            <a:off x="6948360" y="19875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>
            <a:hlinkClick r:id="rId4" action="ppaction://hlinksldjump"/>
          </p:cNvPr>
          <p:cNvSpPr/>
          <p:nvPr/>
        </p:nvSpPr>
        <p:spPr>
          <a:xfrm>
            <a:off x="6948360" y="26798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536240" y="14112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39840" y="19875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539120" y="26798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606800" y="83664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veal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" action="ppaction://hlinkshowjump?jump=nextslide"/>
          </p:cNvPr>
          <p:cNvSpPr/>
          <p:nvPr/>
        </p:nvSpPr>
        <p:spPr>
          <a:xfrm>
            <a:off x="6948360" y="26028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538040" y="2602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620640"/>
            <a:ext cx="8915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a college course you have to pick a language plu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sure activity from the following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95280" y="1555920"/>
            <a:ext cx="3124080" cy="1981080"/>
            <a:chOff x="395280" y="1555920"/>
            <a:chExt cx="3124080" cy="1981080"/>
          </a:xfrm>
        </p:grpSpPr>
        <p:grpSp>
          <p:nvGrpSpPr>
            <p:cNvPr id="842" name=""/>
            <p:cNvGrpSpPr/>
            <p:nvPr/>
          </p:nvGrpSpPr>
          <p:grpSpPr>
            <a:xfrm>
              <a:off x="395280" y="1555920"/>
              <a:ext cx="2057400" cy="1981080"/>
              <a:chOff x="395280" y="1555920"/>
              <a:chExt cx="2057400" cy="1981080"/>
            </a:xfrm>
          </p:grpSpPr>
          <p:sp>
            <p:nvSpPr>
              <p:cNvPr id="843" name=""/>
              <p:cNvSpPr/>
              <p:nvPr/>
            </p:nvSpPr>
            <p:spPr>
              <a:xfrm>
                <a:off x="395280" y="1555920"/>
                <a:ext cx="2057400" cy="19810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95280" y="18954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547560" y="15559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9840" y="193680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EN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9840" y="23940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ERM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99840" y="2851200"/>
              <a:ext cx="28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AN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3924360" y="1484280"/>
            <a:ext cx="2819160" cy="2362320"/>
            <a:chOff x="3924360" y="1484280"/>
            <a:chExt cx="2819160" cy="2362320"/>
          </a:xfrm>
        </p:grpSpPr>
        <p:grpSp>
          <p:nvGrpSpPr>
            <p:cNvPr id="850" name=""/>
            <p:cNvGrpSpPr/>
            <p:nvPr/>
          </p:nvGrpSpPr>
          <p:grpSpPr>
            <a:xfrm>
              <a:off x="3924360" y="1484280"/>
              <a:ext cx="2361960" cy="2362320"/>
              <a:chOff x="3924360" y="1484280"/>
              <a:chExt cx="2361960" cy="2362320"/>
            </a:xfrm>
          </p:grpSpPr>
          <p:sp>
            <p:nvSpPr>
              <p:cNvPr id="851" name=""/>
              <p:cNvSpPr/>
              <p:nvPr/>
            </p:nvSpPr>
            <p:spPr>
              <a:xfrm>
                <a:off x="3924360" y="1484280"/>
                <a:ext cx="2361960" cy="236232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924360" y="1888920"/>
                <a:ext cx="236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4305240" y="148428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IS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228920" y="1941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S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28920" y="232236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DEO 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28920" y="30081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KETB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228920" y="338940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WIMM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468360" y="3860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Make a list of all possible combinations of cour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990800" y="5211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   Includes Spa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004840" y="569736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 Includes swim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004840" y="623088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i)  Doesn’t include French but includes mus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468360" y="4394160"/>
            <a:ext cx="754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combination is selected at random what is the probability that it is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>
            <a:hlinkClick r:id="" action="ppaction://hlinkshowjump?jump=nextslide"/>
          </p:cNvPr>
          <p:cNvSpPr/>
          <p:nvPr/>
        </p:nvSpPr>
        <p:spPr>
          <a:xfrm>
            <a:off x="6948360" y="8082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>
            <a:hlinkClick r:id="rId1" action="ppaction://hlinksldjump"/>
          </p:cNvPr>
          <p:cNvSpPr/>
          <p:nvPr/>
        </p:nvSpPr>
        <p:spPr>
          <a:xfrm>
            <a:off x="6948360" y="14112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rId2" action="ppaction://hlinksldjump"/>
          </p:cNvPr>
          <p:cNvSpPr/>
          <p:nvPr/>
        </p:nvSpPr>
        <p:spPr>
          <a:xfrm>
            <a:off x="6948360" y="19875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>
            <a:hlinkClick r:id="rId3" action="ppaction://hlinksldjump"/>
          </p:cNvPr>
          <p:cNvSpPr/>
          <p:nvPr/>
        </p:nvSpPr>
        <p:spPr>
          <a:xfrm>
            <a:off x="6948360" y="26798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536240" y="14112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539840" y="19875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539120" y="26798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606800" y="83664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veal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620640"/>
            <a:ext cx="8915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a college course you have to pick a language plu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sure activity from the following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95280" y="1555920"/>
            <a:ext cx="3124080" cy="1981080"/>
            <a:chOff x="395280" y="1555920"/>
            <a:chExt cx="3124080" cy="1981080"/>
          </a:xfrm>
        </p:grpSpPr>
        <p:grpSp>
          <p:nvGrpSpPr>
            <p:cNvPr id="876" name=""/>
            <p:cNvGrpSpPr/>
            <p:nvPr/>
          </p:nvGrpSpPr>
          <p:grpSpPr>
            <a:xfrm>
              <a:off x="395280" y="1555920"/>
              <a:ext cx="2057400" cy="1981080"/>
              <a:chOff x="395280" y="1555920"/>
              <a:chExt cx="2057400" cy="1981080"/>
            </a:xfrm>
          </p:grpSpPr>
          <p:sp>
            <p:nvSpPr>
              <p:cNvPr id="877" name=""/>
              <p:cNvSpPr/>
              <p:nvPr/>
            </p:nvSpPr>
            <p:spPr>
              <a:xfrm>
                <a:off x="395280" y="1555920"/>
                <a:ext cx="2057400" cy="19810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5280" y="18954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547560" y="15559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9840" y="193680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EN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840" y="23940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ERM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9840" y="2851200"/>
              <a:ext cx="28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AN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924360" y="1484280"/>
            <a:ext cx="2819160" cy="2362320"/>
            <a:chOff x="3924360" y="1484280"/>
            <a:chExt cx="2819160" cy="2362320"/>
          </a:xfrm>
        </p:grpSpPr>
        <p:grpSp>
          <p:nvGrpSpPr>
            <p:cNvPr id="884" name=""/>
            <p:cNvGrpSpPr/>
            <p:nvPr/>
          </p:nvGrpSpPr>
          <p:grpSpPr>
            <a:xfrm>
              <a:off x="3924360" y="1484280"/>
              <a:ext cx="2361960" cy="2362320"/>
              <a:chOff x="3924360" y="1484280"/>
              <a:chExt cx="2361960" cy="2362320"/>
            </a:xfrm>
          </p:grpSpPr>
          <p:sp>
            <p:nvSpPr>
              <p:cNvPr id="885" name=""/>
              <p:cNvSpPr/>
              <p:nvPr/>
            </p:nvSpPr>
            <p:spPr>
              <a:xfrm>
                <a:off x="3924360" y="1484280"/>
                <a:ext cx="2361960" cy="236232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24360" y="1888920"/>
                <a:ext cx="236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4305240" y="148428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IS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28920" y="1941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S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28920" y="232236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DEO 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228920" y="30081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KETB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228920" y="338940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WIMM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68360" y="3860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Make a list of all possible combinations of cour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90800" y="5211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   Includes Spa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004840" y="569736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 Includes swim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004840" y="623088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i)  Doesn’t include French but includes mus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767640" y="3500280"/>
            <a:ext cx="2376360" cy="1943280"/>
          </a:xfrm>
          <a:prstGeom prst="cloudCallout">
            <a:avLst>
              <a:gd name="adj1" fmla="val -77319"/>
              <a:gd name="adj2" fmla="val -1151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a tree diagram &amp; “branch out” with each langu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364000" y="4724280"/>
            <a:ext cx="3602160" cy="1511280"/>
          </a:xfrm>
          <a:prstGeom prst="cloudCallout">
            <a:avLst>
              <a:gd name="adj1" fmla="val -31444"/>
              <a:gd name="adj2" fmla="val -7815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each language “branch out” with each leisure activ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659640" y="4221000"/>
            <a:ext cx="2160360" cy="1729080"/>
          </a:xfrm>
          <a:prstGeom prst="cloudCallout">
            <a:avLst>
              <a:gd name="adj1" fmla="val -86444"/>
              <a:gd name="adj2" fmla="val -519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list the pairs of sub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896000" y="4653000"/>
            <a:ext cx="4248000" cy="1728720"/>
          </a:xfrm>
          <a:prstGeom prst="cloudCallout">
            <a:avLst>
              <a:gd name="adj1" fmla="val -68981"/>
              <a:gd name="adj2" fmla="val -116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your list of possible combinations to find prob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856760" y="18900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5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468360" y="4394160"/>
            <a:ext cx="754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combination is selected at random what is the probability that it is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>
            <a:hlinkClick r:id="" action="ppaction://hlinkshowjump?jump=nextslide"/>
          </p:cNvPr>
          <p:cNvSpPr/>
          <p:nvPr/>
        </p:nvSpPr>
        <p:spPr>
          <a:xfrm>
            <a:off x="6948360" y="14112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>
            <a:hlinkClick r:id="rId1" action="ppaction://hlinksldjump"/>
          </p:cNvPr>
          <p:cNvSpPr/>
          <p:nvPr/>
        </p:nvSpPr>
        <p:spPr>
          <a:xfrm>
            <a:off x="6948360" y="19875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>
            <a:hlinkClick r:id="rId2" action="ppaction://hlinksldjump"/>
          </p:cNvPr>
          <p:cNvSpPr/>
          <p:nvPr/>
        </p:nvSpPr>
        <p:spPr>
          <a:xfrm>
            <a:off x="6948360" y="26798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536240" y="14112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539840" y="19875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539120" y="26798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620640"/>
            <a:ext cx="8915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a college course you have to pick a language plu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sure activity from the following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95280" y="1555920"/>
            <a:ext cx="3124080" cy="1981080"/>
            <a:chOff x="395280" y="1555920"/>
            <a:chExt cx="3124080" cy="1981080"/>
          </a:xfrm>
        </p:grpSpPr>
        <p:grpSp>
          <p:nvGrpSpPr>
            <p:cNvPr id="913" name=""/>
            <p:cNvGrpSpPr/>
            <p:nvPr/>
          </p:nvGrpSpPr>
          <p:grpSpPr>
            <a:xfrm>
              <a:off x="395280" y="1555920"/>
              <a:ext cx="2057400" cy="1981080"/>
              <a:chOff x="395280" y="1555920"/>
              <a:chExt cx="2057400" cy="1981080"/>
            </a:xfrm>
          </p:grpSpPr>
          <p:sp>
            <p:nvSpPr>
              <p:cNvPr id="914" name=""/>
              <p:cNvSpPr/>
              <p:nvPr/>
            </p:nvSpPr>
            <p:spPr>
              <a:xfrm>
                <a:off x="395280" y="1555920"/>
                <a:ext cx="2057400" cy="19810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95280" y="18954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>
              <a:off x="547560" y="15559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99840" y="193680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EN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99840" y="23940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ERM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99840" y="2851200"/>
              <a:ext cx="28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AN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3924360" y="1484280"/>
            <a:ext cx="2819160" cy="2362320"/>
            <a:chOff x="3924360" y="1484280"/>
            <a:chExt cx="2819160" cy="2362320"/>
          </a:xfrm>
        </p:grpSpPr>
        <p:grpSp>
          <p:nvGrpSpPr>
            <p:cNvPr id="921" name=""/>
            <p:cNvGrpSpPr/>
            <p:nvPr/>
          </p:nvGrpSpPr>
          <p:grpSpPr>
            <a:xfrm>
              <a:off x="3924360" y="1484280"/>
              <a:ext cx="2361960" cy="2362320"/>
              <a:chOff x="3924360" y="1484280"/>
              <a:chExt cx="2361960" cy="2362320"/>
            </a:xfrm>
          </p:grpSpPr>
          <p:sp>
            <p:nvSpPr>
              <p:cNvPr id="922" name=""/>
              <p:cNvSpPr/>
              <p:nvPr/>
            </p:nvSpPr>
            <p:spPr>
              <a:xfrm>
                <a:off x="3924360" y="1484280"/>
                <a:ext cx="2361960" cy="236232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924360" y="1888920"/>
                <a:ext cx="236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4305240" y="148428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IS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228920" y="1941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S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28920" y="232236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DEO 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28920" y="30081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KETB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28920" y="338940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WIMM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468360" y="3860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Make a list of all possible combinations of cour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990800" y="5211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   Includes Spa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004840" y="569736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 Includes swim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004840" y="6230880"/>
            <a:ext cx="65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i)  Doesn’t include French but includes mus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80000" y="5132520"/>
            <a:ext cx="720720" cy="51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580000" y="5734080"/>
            <a:ext cx="720720" cy="51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740720" y="5805360"/>
            <a:ext cx="720720" cy="51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>
            <a:hlinkClick r:id="" action="ppaction://hlinkshowjump?jump=nextslide"/>
          </p:cNvPr>
          <p:cNvSpPr/>
          <p:nvPr/>
        </p:nvSpPr>
        <p:spPr>
          <a:xfrm>
            <a:off x="7451640" y="386064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1908000" y="5157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1908000" y="5805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5724360" y="5084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5724360" y="5732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98560" y="58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7800" y="5084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17080" y="573264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2520" y="51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692280"/>
            <a:ext cx="85341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axi company was phoned each night of the week and the response time in minutes of their cars were noted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were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Find the mean and standard deviation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 A similar experiment was conducted with a seco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company.  The results for this wer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 = 12    and   standard deviation = 1.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second company compare to the firs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040360" y="1341360"/>
            <a:ext cx="4103640" cy="1944720"/>
            <a:chOff x="5040360" y="1341360"/>
            <a:chExt cx="4103640" cy="1944720"/>
          </a:xfrm>
        </p:grpSpPr>
        <p:sp>
          <p:nvSpPr>
            <p:cNvPr id="82" name=""/>
            <p:cNvSpPr/>
            <p:nvPr/>
          </p:nvSpPr>
          <p:spPr>
            <a:xfrm>
              <a:off x="5040360" y="1341360"/>
              <a:ext cx="4103640" cy="1944720"/>
            </a:xfrm>
            <a:prstGeom prst="cloudCallout">
              <a:avLst>
                <a:gd name="adj1" fmla="val -43731"/>
                <a:gd name="adj2" fmla="val 11881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5903640" y="1701720"/>
            <a:ext cx="2016000" cy="1069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03640" y="1701720"/>
                      <a:ext cx="2016000" cy="10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" name=""/>
          <p:cNvSpPr/>
          <p:nvPr/>
        </p:nvSpPr>
        <p:spPr>
          <a:xfrm>
            <a:off x="2411280" y="1125360"/>
            <a:ext cx="3240360" cy="2592720"/>
          </a:xfrm>
          <a:prstGeom prst="cloudCallout">
            <a:avLst>
              <a:gd name="adj1" fmla="val -12615"/>
              <a:gd name="adj2" fmla="val 10333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a table comparing data to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square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1268280"/>
            <a:ext cx="3960720" cy="2592360"/>
            <a:chOff x="0" y="1268280"/>
            <a:chExt cx="3960720" cy="2592360"/>
          </a:xfrm>
        </p:grpSpPr>
        <p:sp>
          <p:nvSpPr>
            <p:cNvPr id="87" name=""/>
            <p:cNvSpPr/>
            <p:nvPr/>
          </p:nvSpPr>
          <p:spPr>
            <a:xfrm>
              <a:off x="0" y="1268280"/>
              <a:ext cx="3960720" cy="2592360"/>
            </a:xfrm>
            <a:prstGeom prst="cloudCallout">
              <a:avLst>
                <a:gd name="adj1" fmla="val -18777"/>
                <a:gd name="adj2" fmla="val 107194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502920" y="1915920"/>
            <a:ext cx="2663640" cy="1446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2920" y="1915920"/>
                      <a:ext cx="2663640" cy="14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4716360" y="2349360"/>
            <a:ext cx="4248360" cy="2881440"/>
          </a:xfrm>
          <a:prstGeom prst="cloudCallout">
            <a:avLst>
              <a:gd name="adj1" fmla="val -114388"/>
              <a:gd name="adj2" fmla="val 3799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comparing data sets always make comment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avera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which is bigger etc.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rea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97840" y="623736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0" y="0"/>
            <a:ext cx="6248520" cy="632448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04920" y="3124080"/>
            <a:ext cx="228600" cy="2286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533520" y="2895480"/>
            <a:ext cx="2514240" cy="380880"/>
            <a:chOff x="533520" y="2895480"/>
            <a:chExt cx="2514240" cy="380880"/>
          </a:xfrm>
        </p:grpSpPr>
        <p:sp>
          <p:nvSpPr>
            <p:cNvPr id="940" name=""/>
            <p:cNvSpPr/>
            <p:nvPr/>
          </p:nvSpPr>
          <p:spPr>
            <a:xfrm>
              <a:off x="533520" y="3276360"/>
              <a:ext cx="214200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12880" y="2895480"/>
              <a:ext cx="22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ff"/>
                  </a:solidFill>
                  <a:latin typeface="Times New Roman"/>
                </a:rPr>
                <a:t>GER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455760" y="678240"/>
            <a:ext cx="2593440" cy="2445480"/>
            <a:chOff x="455760" y="678240"/>
            <a:chExt cx="2593440" cy="2445480"/>
          </a:xfrm>
        </p:grpSpPr>
        <p:grpSp>
          <p:nvGrpSpPr>
            <p:cNvPr id="943" name=""/>
            <p:cNvGrpSpPr/>
            <p:nvPr/>
          </p:nvGrpSpPr>
          <p:grpSpPr>
            <a:xfrm>
              <a:off x="455760" y="678240"/>
              <a:ext cx="2593440" cy="500760"/>
              <a:chOff x="455760" y="678240"/>
              <a:chExt cx="2593440" cy="500760"/>
            </a:xfrm>
          </p:grpSpPr>
          <p:sp>
            <p:nvSpPr>
              <p:cNvPr id="944" name=""/>
              <p:cNvSpPr/>
              <p:nvPr/>
            </p:nvSpPr>
            <p:spPr>
              <a:xfrm>
                <a:off x="455760" y="1166040"/>
                <a:ext cx="2207160" cy="12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20400">
                <a:off x="744840" y="684720"/>
                <a:ext cx="230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ff"/>
                    </a:solidFill>
                    <a:latin typeface="Times New Roman"/>
                  </a:rPr>
                  <a:t>FRENC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458640" y="1180440"/>
              <a:ext cx="0" cy="194328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57200" y="3352320"/>
            <a:ext cx="2511000" cy="1981080"/>
            <a:chOff x="457200" y="3352320"/>
            <a:chExt cx="2511000" cy="1981080"/>
          </a:xfrm>
        </p:grpSpPr>
        <p:grpSp>
          <p:nvGrpSpPr>
            <p:cNvPr id="948" name=""/>
            <p:cNvGrpSpPr/>
            <p:nvPr/>
          </p:nvGrpSpPr>
          <p:grpSpPr>
            <a:xfrm>
              <a:off x="457200" y="4855680"/>
              <a:ext cx="2511000" cy="475920"/>
              <a:chOff x="457200" y="4855680"/>
              <a:chExt cx="2511000" cy="475920"/>
            </a:xfrm>
          </p:grpSpPr>
          <p:sp>
            <p:nvSpPr>
              <p:cNvPr id="949" name=""/>
              <p:cNvSpPr/>
              <p:nvPr/>
            </p:nvSpPr>
            <p:spPr>
              <a:xfrm flipV="1">
                <a:off x="457200" y="5330880"/>
                <a:ext cx="2142360" cy="72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21598800">
                <a:off x="732960" y="4855680"/>
                <a:ext cx="22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ff"/>
                    </a:solidFill>
                    <a:latin typeface="Times New Roman"/>
                  </a:rPr>
                  <a:t>SPANIS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 flipV="1">
              <a:off x="459000" y="3352320"/>
              <a:ext cx="0" cy="198108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2590920" y="146880"/>
            <a:ext cx="1980720" cy="1769040"/>
            <a:chOff x="2590920" y="146880"/>
            <a:chExt cx="1980720" cy="1769040"/>
          </a:xfrm>
        </p:grpSpPr>
        <p:grpSp>
          <p:nvGrpSpPr>
            <p:cNvPr id="953" name=""/>
            <p:cNvGrpSpPr/>
            <p:nvPr/>
          </p:nvGrpSpPr>
          <p:grpSpPr>
            <a:xfrm>
              <a:off x="2739960" y="1071000"/>
              <a:ext cx="1831680" cy="308160"/>
              <a:chOff x="2739960" y="1071000"/>
              <a:chExt cx="1831680" cy="308160"/>
            </a:xfrm>
          </p:grpSpPr>
          <p:sp>
            <p:nvSpPr>
              <p:cNvPr id="954" name=""/>
              <p:cNvSpPr/>
              <p:nvPr/>
            </p:nvSpPr>
            <p:spPr>
              <a:xfrm flipV="1">
                <a:off x="2739960" y="1377720"/>
                <a:ext cx="1627920" cy="10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21597600">
                <a:off x="2943000" y="1071360"/>
                <a:ext cx="162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BASKETBA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2734560" y="534600"/>
              <a:ext cx="1835640" cy="315360"/>
              <a:chOff x="2734560" y="534600"/>
              <a:chExt cx="1835640" cy="315360"/>
            </a:xfrm>
          </p:grpSpPr>
          <p:sp>
            <p:nvSpPr>
              <p:cNvPr id="957" name=""/>
              <p:cNvSpPr/>
              <p:nvPr/>
            </p:nvSpPr>
            <p:spPr>
              <a:xfrm>
                <a:off x="2734560" y="840960"/>
                <a:ext cx="1631520" cy="82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7400">
                <a:off x="2938680" y="538560"/>
                <a:ext cx="163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VIDE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2741040" y="146880"/>
              <a:ext cx="1829520" cy="321840"/>
              <a:chOff x="2741040" y="146880"/>
              <a:chExt cx="1829520" cy="321840"/>
            </a:xfrm>
          </p:grpSpPr>
          <p:sp>
            <p:nvSpPr>
              <p:cNvPr id="960" name=""/>
              <p:cNvSpPr/>
              <p:nvPr/>
            </p:nvSpPr>
            <p:spPr>
              <a:xfrm flipV="1">
                <a:off x="2741040" y="459360"/>
                <a:ext cx="1626120" cy="936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1580200">
                <a:off x="2943000" y="151200"/>
                <a:ext cx="162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MUS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2743560" y="1606680"/>
              <a:ext cx="1827720" cy="309240"/>
              <a:chOff x="2743560" y="1606680"/>
              <a:chExt cx="1827720" cy="309240"/>
            </a:xfrm>
          </p:grpSpPr>
          <p:sp>
            <p:nvSpPr>
              <p:cNvPr id="963" name=""/>
              <p:cNvSpPr/>
              <p:nvPr/>
            </p:nvSpPr>
            <p:spPr>
              <a:xfrm flipV="1">
                <a:off x="2743560" y="1912320"/>
                <a:ext cx="1625040" cy="18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1595800">
                <a:off x="2945520" y="1607760"/>
                <a:ext cx="162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SWIMM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2590920" y="465120"/>
              <a:ext cx="228240" cy="1447920"/>
              <a:chOff x="2590920" y="465120"/>
              <a:chExt cx="228240" cy="1447920"/>
            </a:xfrm>
          </p:grpSpPr>
          <p:sp>
            <p:nvSpPr>
              <p:cNvPr id="966" name=""/>
              <p:cNvSpPr/>
              <p:nvPr/>
            </p:nvSpPr>
            <p:spPr>
              <a:xfrm>
                <a:off x="2590920" y="1074600"/>
                <a:ext cx="228240" cy="22860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743200" y="465120"/>
                <a:ext cx="0" cy="144792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"/>
          <p:cNvGrpSpPr/>
          <p:nvPr/>
        </p:nvGrpSpPr>
        <p:grpSpPr>
          <a:xfrm>
            <a:off x="2666880" y="2204280"/>
            <a:ext cx="1981800" cy="1769040"/>
            <a:chOff x="2666880" y="2204280"/>
            <a:chExt cx="1981800" cy="1769040"/>
          </a:xfrm>
        </p:grpSpPr>
        <p:grpSp>
          <p:nvGrpSpPr>
            <p:cNvPr id="969" name=""/>
            <p:cNvGrpSpPr/>
            <p:nvPr/>
          </p:nvGrpSpPr>
          <p:grpSpPr>
            <a:xfrm>
              <a:off x="2816280" y="3128400"/>
              <a:ext cx="1832400" cy="308160"/>
              <a:chOff x="2816280" y="3128400"/>
              <a:chExt cx="1832400" cy="308160"/>
            </a:xfrm>
          </p:grpSpPr>
          <p:sp>
            <p:nvSpPr>
              <p:cNvPr id="970" name=""/>
              <p:cNvSpPr/>
              <p:nvPr/>
            </p:nvSpPr>
            <p:spPr>
              <a:xfrm flipV="1">
                <a:off x="2816280" y="3435120"/>
                <a:ext cx="1628280" cy="10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1597600">
                <a:off x="3019680" y="312876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BASKETBA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2810880" y="2592000"/>
              <a:ext cx="1836000" cy="315360"/>
              <a:chOff x="2810880" y="2592000"/>
              <a:chExt cx="1836000" cy="315360"/>
            </a:xfrm>
          </p:grpSpPr>
          <p:sp>
            <p:nvSpPr>
              <p:cNvPr id="973" name=""/>
              <p:cNvSpPr/>
              <p:nvPr/>
            </p:nvSpPr>
            <p:spPr>
              <a:xfrm>
                <a:off x="2810880" y="2898360"/>
                <a:ext cx="1631880" cy="82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7400">
                <a:off x="3015000" y="2595960"/>
                <a:ext cx="163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VIDE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2817360" y="2204280"/>
              <a:ext cx="1829880" cy="321840"/>
              <a:chOff x="2817360" y="2204280"/>
              <a:chExt cx="1829880" cy="321840"/>
            </a:xfrm>
          </p:grpSpPr>
          <p:sp>
            <p:nvSpPr>
              <p:cNvPr id="976" name=""/>
              <p:cNvSpPr/>
              <p:nvPr/>
            </p:nvSpPr>
            <p:spPr>
              <a:xfrm flipV="1">
                <a:off x="2817360" y="2516760"/>
                <a:ext cx="1626480" cy="936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21580200">
                <a:off x="3019320" y="2208600"/>
                <a:ext cx="162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MUS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2819880" y="3664080"/>
              <a:ext cx="1828440" cy="309240"/>
              <a:chOff x="2819880" y="3664080"/>
              <a:chExt cx="1828440" cy="309240"/>
            </a:xfrm>
          </p:grpSpPr>
          <p:sp>
            <p:nvSpPr>
              <p:cNvPr id="979" name=""/>
              <p:cNvSpPr/>
              <p:nvPr/>
            </p:nvSpPr>
            <p:spPr>
              <a:xfrm flipV="1">
                <a:off x="2819880" y="3969720"/>
                <a:ext cx="1625400" cy="18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21595800">
                <a:off x="3022200" y="3665160"/>
                <a:ext cx="162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SWIMM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2666880" y="2522520"/>
              <a:ext cx="228600" cy="1447920"/>
              <a:chOff x="2666880" y="2522520"/>
              <a:chExt cx="228600" cy="1447920"/>
            </a:xfrm>
          </p:grpSpPr>
          <p:sp>
            <p:nvSpPr>
              <p:cNvPr id="982" name=""/>
              <p:cNvSpPr/>
              <p:nvPr/>
            </p:nvSpPr>
            <p:spPr>
              <a:xfrm>
                <a:off x="2666880" y="3132000"/>
                <a:ext cx="228600" cy="22860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819520" y="2522520"/>
                <a:ext cx="0" cy="144792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4" name=""/>
          <p:cNvGrpSpPr/>
          <p:nvPr/>
        </p:nvGrpSpPr>
        <p:grpSpPr>
          <a:xfrm>
            <a:off x="2590920" y="4261680"/>
            <a:ext cx="1980720" cy="1769040"/>
            <a:chOff x="2590920" y="4261680"/>
            <a:chExt cx="1980720" cy="1769040"/>
          </a:xfrm>
        </p:grpSpPr>
        <p:grpSp>
          <p:nvGrpSpPr>
            <p:cNvPr id="985" name=""/>
            <p:cNvGrpSpPr/>
            <p:nvPr/>
          </p:nvGrpSpPr>
          <p:grpSpPr>
            <a:xfrm>
              <a:off x="2739960" y="5185800"/>
              <a:ext cx="1831680" cy="308160"/>
              <a:chOff x="2739960" y="5185800"/>
              <a:chExt cx="1831680" cy="308160"/>
            </a:xfrm>
          </p:grpSpPr>
          <p:sp>
            <p:nvSpPr>
              <p:cNvPr id="986" name=""/>
              <p:cNvSpPr/>
              <p:nvPr/>
            </p:nvSpPr>
            <p:spPr>
              <a:xfrm flipV="1">
                <a:off x="2739960" y="5492520"/>
                <a:ext cx="1627920" cy="10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21597600">
                <a:off x="2943000" y="5186160"/>
                <a:ext cx="162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BASKETBA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2734560" y="4649400"/>
              <a:ext cx="1835640" cy="315360"/>
              <a:chOff x="2734560" y="4649400"/>
              <a:chExt cx="1835640" cy="315360"/>
            </a:xfrm>
          </p:grpSpPr>
          <p:sp>
            <p:nvSpPr>
              <p:cNvPr id="989" name=""/>
              <p:cNvSpPr/>
              <p:nvPr/>
            </p:nvSpPr>
            <p:spPr>
              <a:xfrm>
                <a:off x="2734560" y="4955760"/>
                <a:ext cx="1631520" cy="82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7400">
                <a:off x="2938680" y="4653360"/>
                <a:ext cx="163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VIDE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2741040" y="4261680"/>
              <a:ext cx="1829520" cy="321840"/>
              <a:chOff x="2741040" y="4261680"/>
              <a:chExt cx="1829520" cy="321840"/>
            </a:xfrm>
          </p:grpSpPr>
          <p:sp>
            <p:nvSpPr>
              <p:cNvPr id="992" name=""/>
              <p:cNvSpPr/>
              <p:nvPr/>
            </p:nvSpPr>
            <p:spPr>
              <a:xfrm flipV="1">
                <a:off x="2741040" y="4574160"/>
                <a:ext cx="1626120" cy="936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21580200">
                <a:off x="2943000" y="4266000"/>
                <a:ext cx="162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MUS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2743560" y="5721480"/>
              <a:ext cx="1827720" cy="309240"/>
              <a:chOff x="2743560" y="5721480"/>
              <a:chExt cx="1827720" cy="309240"/>
            </a:xfrm>
          </p:grpSpPr>
          <p:sp>
            <p:nvSpPr>
              <p:cNvPr id="995" name=""/>
              <p:cNvSpPr/>
              <p:nvPr/>
            </p:nvSpPr>
            <p:spPr>
              <a:xfrm flipV="1">
                <a:off x="2743560" y="6027120"/>
                <a:ext cx="1625040" cy="18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21595800">
                <a:off x="2945520" y="5722560"/>
                <a:ext cx="162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SWIMM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2590920" y="4579920"/>
              <a:ext cx="228240" cy="1447920"/>
              <a:chOff x="2590920" y="4579920"/>
              <a:chExt cx="228240" cy="1447920"/>
            </a:xfrm>
          </p:grpSpPr>
          <p:sp>
            <p:nvSpPr>
              <p:cNvPr id="998" name=""/>
              <p:cNvSpPr/>
              <p:nvPr/>
            </p:nvSpPr>
            <p:spPr>
              <a:xfrm>
                <a:off x="2590920" y="5189400"/>
                <a:ext cx="228240" cy="22860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743200" y="4579920"/>
                <a:ext cx="0" cy="144792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0" name=""/>
          <p:cNvSpPr/>
          <p:nvPr/>
        </p:nvSpPr>
        <p:spPr>
          <a:xfrm>
            <a:off x="0" y="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105520" y="31240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343400" y="228600"/>
            <a:ext cx="1752480" cy="380880"/>
            <a:chOff x="4343400" y="228600"/>
            <a:chExt cx="1752480" cy="380880"/>
          </a:xfrm>
        </p:grpSpPr>
        <p:sp>
          <p:nvSpPr>
            <p:cNvPr id="1003" name=""/>
            <p:cNvSpPr/>
            <p:nvPr/>
          </p:nvSpPr>
          <p:spPr>
            <a:xfrm>
              <a:off x="4343400" y="2286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343400" y="2286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rench/Mu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4343400" y="685800"/>
            <a:ext cx="1752480" cy="380880"/>
            <a:chOff x="4343400" y="685800"/>
            <a:chExt cx="1752480" cy="380880"/>
          </a:xfrm>
        </p:grpSpPr>
        <p:sp>
          <p:nvSpPr>
            <p:cNvPr id="1006" name=""/>
            <p:cNvSpPr/>
            <p:nvPr/>
          </p:nvSpPr>
          <p:spPr>
            <a:xfrm>
              <a:off x="4343400" y="6858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343400" y="6858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rench/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4343400" y="1143000"/>
            <a:ext cx="1752480" cy="380880"/>
            <a:chOff x="4343400" y="1143000"/>
            <a:chExt cx="1752480" cy="380880"/>
          </a:xfrm>
        </p:grpSpPr>
        <p:sp>
          <p:nvSpPr>
            <p:cNvPr id="1009" name=""/>
            <p:cNvSpPr/>
            <p:nvPr/>
          </p:nvSpPr>
          <p:spPr>
            <a:xfrm>
              <a:off x="4343400" y="11430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343400" y="11430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French/Bsktb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4343400" y="1676520"/>
            <a:ext cx="1752480" cy="380880"/>
            <a:chOff x="4343400" y="1676520"/>
            <a:chExt cx="1752480" cy="380880"/>
          </a:xfrm>
        </p:grpSpPr>
        <p:sp>
          <p:nvSpPr>
            <p:cNvPr id="1012" name=""/>
            <p:cNvSpPr/>
            <p:nvPr/>
          </p:nvSpPr>
          <p:spPr>
            <a:xfrm>
              <a:off x="4343400" y="167652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343400" y="167652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rench/Sw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4419720" y="2286000"/>
            <a:ext cx="1752480" cy="380880"/>
            <a:chOff x="4419720" y="2286000"/>
            <a:chExt cx="1752480" cy="380880"/>
          </a:xfrm>
        </p:grpSpPr>
        <p:sp>
          <p:nvSpPr>
            <p:cNvPr id="1015" name=""/>
            <p:cNvSpPr/>
            <p:nvPr/>
          </p:nvSpPr>
          <p:spPr>
            <a:xfrm>
              <a:off x="4419720" y="22860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19720" y="22860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rman/Mu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4419720" y="2743200"/>
            <a:ext cx="1752480" cy="380880"/>
            <a:chOff x="4419720" y="2743200"/>
            <a:chExt cx="1752480" cy="380880"/>
          </a:xfrm>
        </p:grpSpPr>
        <p:sp>
          <p:nvSpPr>
            <p:cNvPr id="1018" name=""/>
            <p:cNvSpPr/>
            <p:nvPr/>
          </p:nvSpPr>
          <p:spPr>
            <a:xfrm>
              <a:off x="4419720" y="27432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419720" y="27432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rman/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4419720" y="3200400"/>
            <a:ext cx="1752480" cy="380880"/>
            <a:chOff x="4419720" y="3200400"/>
            <a:chExt cx="1752480" cy="380880"/>
          </a:xfrm>
        </p:grpSpPr>
        <p:sp>
          <p:nvSpPr>
            <p:cNvPr id="1021" name=""/>
            <p:cNvSpPr/>
            <p:nvPr/>
          </p:nvSpPr>
          <p:spPr>
            <a:xfrm>
              <a:off x="4419720" y="32004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19720" y="32004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German/Bsktb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4419720" y="3733920"/>
            <a:ext cx="1752480" cy="380880"/>
            <a:chOff x="4419720" y="3733920"/>
            <a:chExt cx="1752480" cy="380880"/>
          </a:xfrm>
        </p:grpSpPr>
        <p:sp>
          <p:nvSpPr>
            <p:cNvPr id="1024" name=""/>
            <p:cNvSpPr/>
            <p:nvPr/>
          </p:nvSpPr>
          <p:spPr>
            <a:xfrm>
              <a:off x="4419720" y="373392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419720" y="373392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rman/Sw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4343400" y="4343400"/>
            <a:ext cx="1752480" cy="380880"/>
            <a:chOff x="4343400" y="4343400"/>
            <a:chExt cx="1752480" cy="380880"/>
          </a:xfrm>
        </p:grpSpPr>
        <p:sp>
          <p:nvSpPr>
            <p:cNvPr id="1027" name=""/>
            <p:cNvSpPr/>
            <p:nvPr/>
          </p:nvSpPr>
          <p:spPr>
            <a:xfrm>
              <a:off x="4343400" y="43434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43400" y="43434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anish/Mu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4343400" y="4800600"/>
            <a:ext cx="1752480" cy="380880"/>
            <a:chOff x="4343400" y="4800600"/>
            <a:chExt cx="1752480" cy="380880"/>
          </a:xfrm>
        </p:grpSpPr>
        <p:sp>
          <p:nvSpPr>
            <p:cNvPr id="1030" name=""/>
            <p:cNvSpPr/>
            <p:nvPr/>
          </p:nvSpPr>
          <p:spPr>
            <a:xfrm>
              <a:off x="4343400" y="48006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343400" y="48006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anish/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343400" y="5257800"/>
            <a:ext cx="1752480" cy="380880"/>
            <a:chOff x="4343400" y="5257800"/>
            <a:chExt cx="1752480" cy="380880"/>
          </a:xfrm>
        </p:grpSpPr>
        <p:sp>
          <p:nvSpPr>
            <p:cNvPr id="1033" name=""/>
            <p:cNvSpPr/>
            <p:nvPr/>
          </p:nvSpPr>
          <p:spPr>
            <a:xfrm>
              <a:off x="4343400" y="52578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343400" y="52578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panish/Bsktb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4343400" y="5791320"/>
            <a:ext cx="1752480" cy="380880"/>
            <a:chOff x="4343400" y="5791320"/>
            <a:chExt cx="1752480" cy="380880"/>
          </a:xfrm>
        </p:grpSpPr>
        <p:sp>
          <p:nvSpPr>
            <p:cNvPr id="1036" name=""/>
            <p:cNvSpPr/>
            <p:nvPr/>
          </p:nvSpPr>
          <p:spPr>
            <a:xfrm>
              <a:off x="4343400" y="579132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343400" y="579132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anish/Sw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477120" y="0"/>
            <a:ext cx="2666880" cy="3428640"/>
            <a:chOff x="6477120" y="0"/>
            <a:chExt cx="2666880" cy="3428640"/>
          </a:xfrm>
        </p:grpSpPr>
        <p:sp>
          <p:nvSpPr>
            <p:cNvPr id="1039" name=""/>
            <p:cNvSpPr/>
            <p:nvPr/>
          </p:nvSpPr>
          <p:spPr>
            <a:xfrm>
              <a:off x="6477120" y="0"/>
              <a:ext cx="2666880" cy="3428640"/>
            </a:xfrm>
            <a:prstGeom prst="rect">
              <a:avLst/>
            </a:prstGeom>
            <a:solidFill>
              <a:srgbClr val="fbdf5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477120" y="0"/>
              <a:ext cx="82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6477120" y="45720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a tree diagram &amp; “branch out” with each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629400" y="16002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each language “branch out” with each leisur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629400" y="26668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list the pairs of subje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0"/>
            <a:ext cx="5638680" cy="632448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724280" y="914400"/>
            <a:ext cx="685800" cy="53352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105520" y="31240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5943600" y="0"/>
            <a:ext cx="3200040" cy="1828800"/>
            <a:chOff x="5943600" y="0"/>
            <a:chExt cx="3200040" cy="1828800"/>
          </a:xfrm>
        </p:grpSpPr>
        <p:sp>
          <p:nvSpPr>
            <p:cNvPr id="1048" name=""/>
            <p:cNvSpPr/>
            <p:nvPr/>
          </p:nvSpPr>
          <p:spPr>
            <a:xfrm>
              <a:off x="5943600" y="0"/>
              <a:ext cx="3200040" cy="1828800"/>
            </a:xfrm>
            <a:prstGeom prst="rect">
              <a:avLst/>
            </a:prstGeom>
            <a:solidFill>
              <a:srgbClr val="fbdf5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943600" y="0"/>
              <a:ext cx="98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6019920" y="4572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list of combinations han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095880" y="12193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member to simplif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152280" y="228600"/>
            <a:ext cx="1828800" cy="5943600"/>
            <a:chOff x="152280" y="228600"/>
            <a:chExt cx="1828800" cy="5943600"/>
          </a:xfrm>
        </p:grpSpPr>
        <p:grpSp>
          <p:nvGrpSpPr>
            <p:cNvPr id="1053" name=""/>
            <p:cNvGrpSpPr/>
            <p:nvPr/>
          </p:nvGrpSpPr>
          <p:grpSpPr>
            <a:xfrm>
              <a:off x="152280" y="228600"/>
              <a:ext cx="1752480" cy="380880"/>
              <a:chOff x="152280" y="228600"/>
              <a:chExt cx="1752480" cy="380880"/>
            </a:xfrm>
          </p:grpSpPr>
          <p:sp>
            <p:nvSpPr>
              <p:cNvPr id="1054" name=""/>
              <p:cNvSpPr/>
              <p:nvPr/>
            </p:nvSpPr>
            <p:spPr>
              <a:xfrm>
                <a:off x="152280" y="2286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52280" y="2286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rench/Musi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152280" y="685800"/>
              <a:ext cx="1752480" cy="380880"/>
              <a:chOff x="152280" y="685800"/>
              <a:chExt cx="1752480" cy="380880"/>
            </a:xfrm>
          </p:grpSpPr>
          <p:sp>
            <p:nvSpPr>
              <p:cNvPr id="1057" name=""/>
              <p:cNvSpPr/>
              <p:nvPr/>
            </p:nvSpPr>
            <p:spPr>
              <a:xfrm>
                <a:off x="152280" y="6858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52280" y="6858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rench/Vide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152280" y="1143000"/>
              <a:ext cx="1752480" cy="380880"/>
              <a:chOff x="152280" y="1143000"/>
              <a:chExt cx="1752480" cy="380880"/>
            </a:xfrm>
          </p:grpSpPr>
          <p:sp>
            <p:nvSpPr>
              <p:cNvPr id="1060" name=""/>
              <p:cNvSpPr/>
              <p:nvPr/>
            </p:nvSpPr>
            <p:spPr>
              <a:xfrm>
                <a:off x="152280" y="11430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52280" y="11430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French/Bsktb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152280" y="1676520"/>
              <a:ext cx="1752480" cy="380880"/>
              <a:chOff x="152280" y="1676520"/>
              <a:chExt cx="1752480" cy="380880"/>
            </a:xfrm>
          </p:grpSpPr>
          <p:sp>
            <p:nvSpPr>
              <p:cNvPr id="1063" name=""/>
              <p:cNvSpPr/>
              <p:nvPr/>
            </p:nvSpPr>
            <p:spPr>
              <a:xfrm>
                <a:off x="152280" y="167652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52280" y="167652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rench/Swi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228600" y="2286000"/>
              <a:ext cx="1752480" cy="380880"/>
              <a:chOff x="228600" y="2286000"/>
              <a:chExt cx="1752480" cy="380880"/>
            </a:xfrm>
          </p:grpSpPr>
          <p:sp>
            <p:nvSpPr>
              <p:cNvPr id="1066" name=""/>
              <p:cNvSpPr/>
              <p:nvPr/>
            </p:nvSpPr>
            <p:spPr>
              <a:xfrm>
                <a:off x="228600" y="22860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28600" y="22860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German/Musi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228600" y="2743200"/>
              <a:ext cx="1752480" cy="380880"/>
              <a:chOff x="228600" y="2743200"/>
              <a:chExt cx="1752480" cy="380880"/>
            </a:xfrm>
          </p:grpSpPr>
          <p:sp>
            <p:nvSpPr>
              <p:cNvPr id="1069" name=""/>
              <p:cNvSpPr/>
              <p:nvPr/>
            </p:nvSpPr>
            <p:spPr>
              <a:xfrm>
                <a:off x="228600" y="27432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28600" y="27432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German/Vide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228600" y="3200400"/>
              <a:ext cx="1752480" cy="380880"/>
              <a:chOff x="228600" y="3200400"/>
              <a:chExt cx="1752480" cy="380880"/>
            </a:xfrm>
          </p:grpSpPr>
          <p:sp>
            <p:nvSpPr>
              <p:cNvPr id="1072" name=""/>
              <p:cNvSpPr/>
              <p:nvPr/>
            </p:nvSpPr>
            <p:spPr>
              <a:xfrm>
                <a:off x="228600" y="32004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28600" y="32004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German/Bsktb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228600" y="3733920"/>
              <a:ext cx="1752480" cy="380880"/>
              <a:chOff x="228600" y="3733920"/>
              <a:chExt cx="1752480" cy="380880"/>
            </a:xfrm>
          </p:grpSpPr>
          <p:sp>
            <p:nvSpPr>
              <p:cNvPr id="1075" name=""/>
              <p:cNvSpPr/>
              <p:nvPr/>
            </p:nvSpPr>
            <p:spPr>
              <a:xfrm>
                <a:off x="228600" y="373392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28600" y="373392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German/Swi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152280" y="4343400"/>
              <a:ext cx="1752480" cy="380880"/>
              <a:chOff x="152280" y="4343400"/>
              <a:chExt cx="1752480" cy="380880"/>
            </a:xfrm>
          </p:grpSpPr>
          <p:sp>
            <p:nvSpPr>
              <p:cNvPr id="1078" name=""/>
              <p:cNvSpPr/>
              <p:nvPr/>
            </p:nvSpPr>
            <p:spPr>
              <a:xfrm>
                <a:off x="152280" y="43434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52280" y="43434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panish/Musi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152280" y="4800600"/>
              <a:ext cx="1752480" cy="380880"/>
              <a:chOff x="152280" y="4800600"/>
              <a:chExt cx="1752480" cy="380880"/>
            </a:xfrm>
          </p:grpSpPr>
          <p:sp>
            <p:nvSpPr>
              <p:cNvPr id="1081" name=""/>
              <p:cNvSpPr/>
              <p:nvPr/>
            </p:nvSpPr>
            <p:spPr>
              <a:xfrm>
                <a:off x="152280" y="48006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52280" y="48006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panish/Vide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152280" y="5257800"/>
              <a:ext cx="1752480" cy="380880"/>
              <a:chOff x="152280" y="5257800"/>
              <a:chExt cx="1752480" cy="380880"/>
            </a:xfrm>
          </p:grpSpPr>
          <p:sp>
            <p:nvSpPr>
              <p:cNvPr id="1084" name=""/>
              <p:cNvSpPr/>
              <p:nvPr/>
            </p:nvSpPr>
            <p:spPr>
              <a:xfrm>
                <a:off x="152280" y="52578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52280" y="52578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Spanish/Bsktb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152280" y="5791320"/>
              <a:ext cx="1752480" cy="380880"/>
              <a:chOff x="152280" y="5791320"/>
              <a:chExt cx="1752480" cy="380880"/>
            </a:xfrm>
          </p:grpSpPr>
          <p:sp>
            <p:nvSpPr>
              <p:cNvPr id="1087" name=""/>
              <p:cNvSpPr/>
              <p:nvPr/>
            </p:nvSpPr>
            <p:spPr>
              <a:xfrm>
                <a:off x="152280" y="579132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52280" y="579132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panish/Swi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914400"/>
            <a:ext cx="20574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876920" y="2743200"/>
            <a:ext cx="685800" cy="53352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495680" y="2743200"/>
            <a:ext cx="20574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876920" y="4876920"/>
            <a:ext cx="685800" cy="53316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2057400" y="838080"/>
            <a:ext cx="3962520" cy="536040"/>
            <a:chOff x="2057400" y="838080"/>
            <a:chExt cx="3962520" cy="536040"/>
          </a:xfrm>
        </p:grpSpPr>
        <p:sp>
          <p:nvSpPr>
            <p:cNvPr id="1094" name=""/>
            <p:cNvSpPr/>
            <p:nvPr/>
          </p:nvSpPr>
          <p:spPr>
            <a:xfrm>
              <a:off x="2057400" y="91440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(b)(i)   Pr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276720" y="838080"/>
              <a:ext cx="152280" cy="15264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1752480" y="4419720"/>
            <a:ext cx="152640" cy="1676160"/>
            <a:chOff x="1752480" y="4419720"/>
            <a:chExt cx="152640" cy="1676160"/>
          </a:xfrm>
        </p:grpSpPr>
        <p:sp>
          <p:nvSpPr>
            <p:cNvPr id="1097" name=""/>
            <p:cNvSpPr/>
            <p:nvPr/>
          </p:nvSpPr>
          <p:spPr>
            <a:xfrm>
              <a:off x="1752480" y="4419720"/>
              <a:ext cx="152640" cy="15228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52480" y="4952880"/>
              <a:ext cx="152640" cy="15264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52480" y="5410080"/>
              <a:ext cx="152640" cy="15264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752480" y="5943600"/>
              <a:ext cx="152640" cy="15228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2057400" y="2743200"/>
            <a:ext cx="3962520" cy="459720"/>
            <a:chOff x="2057400" y="2743200"/>
            <a:chExt cx="3962520" cy="459720"/>
          </a:xfrm>
        </p:grpSpPr>
        <p:sp>
          <p:nvSpPr>
            <p:cNvPr id="1102" name=""/>
            <p:cNvSpPr/>
            <p:nvPr/>
          </p:nvSpPr>
          <p:spPr>
            <a:xfrm>
              <a:off x="2057400" y="274320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(b)(ii)  Pr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76720" y="2743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1828800" y="1752480"/>
            <a:ext cx="380880" cy="4267440"/>
            <a:chOff x="1828800" y="1752480"/>
            <a:chExt cx="380880" cy="4267440"/>
          </a:xfrm>
        </p:grpSpPr>
        <p:sp>
          <p:nvSpPr>
            <p:cNvPr id="1105" name=""/>
            <p:cNvSpPr/>
            <p:nvPr/>
          </p:nvSpPr>
          <p:spPr>
            <a:xfrm>
              <a:off x="1828800" y="17524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28800" y="3809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057400" y="5867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3657600" y="9144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733920" y="274320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2057400" y="4800600"/>
            <a:ext cx="3962520" cy="536040"/>
            <a:chOff x="2057400" y="4800600"/>
            <a:chExt cx="3962520" cy="536040"/>
          </a:xfrm>
        </p:grpSpPr>
        <p:sp>
          <p:nvSpPr>
            <p:cNvPr id="1111" name=""/>
            <p:cNvSpPr/>
            <p:nvPr/>
          </p:nvSpPr>
          <p:spPr>
            <a:xfrm>
              <a:off x="2057400" y="48769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(b)(iii)  Pr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352680" y="4800600"/>
              <a:ext cx="152640" cy="152280"/>
            </a:xfrm>
            <a:prstGeom prst="ellipse">
              <a:avLst/>
            </a:prstGeom>
            <a:solidFill>
              <a:srgbClr val="99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1828800" y="2438280"/>
            <a:ext cx="304920" cy="2133720"/>
            <a:chOff x="1828800" y="2438280"/>
            <a:chExt cx="304920" cy="2133720"/>
          </a:xfrm>
        </p:grpSpPr>
        <p:sp>
          <p:nvSpPr>
            <p:cNvPr id="1114" name=""/>
            <p:cNvSpPr/>
            <p:nvPr/>
          </p:nvSpPr>
          <p:spPr>
            <a:xfrm>
              <a:off x="1828800" y="2438280"/>
              <a:ext cx="152280" cy="152640"/>
            </a:xfrm>
            <a:prstGeom prst="ellipse">
              <a:avLst/>
            </a:prstGeom>
            <a:solidFill>
              <a:srgbClr val="99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solidFill>
              <a:srgbClr val="99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3809880" y="48769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572000" y="48769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>
            <a:hlinkClick r:id="" action="ppaction://hlinkshowjump?jump=nextslide"/>
          </p:cNvPr>
          <p:cNvSpPr/>
          <p:nvPr/>
        </p:nvSpPr>
        <p:spPr>
          <a:xfrm>
            <a:off x="6948360" y="24494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>
            <a:hlinkClick r:id="rId1" action="ppaction://hlinksldjump"/>
          </p:cNvPr>
          <p:cNvSpPr/>
          <p:nvPr/>
        </p:nvSpPr>
        <p:spPr>
          <a:xfrm>
            <a:off x="6948360" y="3141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7539840" y="24494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539120" y="31417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020000" y="1916280"/>
            <a:ext cx="15386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651640" y="40766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   Includes Spa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665680" y="456264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 Includes swim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665680" y="5095800"/>
            <a:ext cx="347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250"/>
              </a:spcBef>
              <a:buClr>
                <a:srgbClr val="000000"/>
              </a:buClr>
              <a:buFont typeface="Arial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n’t include Fr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includes mus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01680" y="363996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probabilit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80724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0" y="0"/>
            <a:ext cx="6227640" cy="630864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04920" y="3124080"/>
            <a:ext cx="228600" cy="2286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2895480"/>
            <a:ext cx="2506320" cy="379440"/>
            <a:chOff x="533520" y="2895480"/>
            <a:chExt cx="2506320" cy="379440"/>
          </a:xfrm>
        </p:grpSpPr>
        <p:sp>
          <p:nvSpPr>
            <p:cNvPr id="1139" name=""/>
            <p:cNvSpPr/>
            <p:nvPr/>
          </p:nvSpPr>
          <p:spPr>
            <a:xfrm>
              <a:off x="533520" y="3274920"/>
              <a:ext cx="213552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11800" y="2895480"/>
              <a:ext cx="222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ff"/>
                  </a:solidFill>
                  <a:latin typeface="Times New Roman"/>
                </a:rPr>
                <a:t>GER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455760" y="678240"/>
            <a:ext cx="2585520" cy="2439360"/>
            <a:chOff x="455760" y="678240"/>
            <a:chExt cx="2585520" cy="2439360"/>
          </a:xfrm>
        </p:grpSpPr>
        <p:grpSp>
          <p:nvGrpSpPr>
            <p:cNvPr id="1142" name=""/>
            <p:cNvGrpSpPr/>
            <p:nvPr/>
          </p:nvGrpSpPr>
          <p:grpSpPr>
            <a:xfrm>
              <a:off x="455760" y="678240"/>
              <a:ext cx="2585520" cy="499680"/>
              <a:chOff x="455760" y="678240"/>
              <a:chExt cx="2585520" cy="499680"/>
            </a:xfrm>
          </p:grpSpPr>
          <p:sp>
            <p:nvSpPr>
              <p:cNvPr id="1143" name=""/>
              <p:cNvSpPr/>
              <p:nvPr/>
            </p:nvSpPr>
            <p:spPr>
              <a:xfrm>
                <a:off x="455760" y="1164960"/>
                <a:ext cx="2200320" cy="12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20400">
                <a:off x="744120" y="684720"/>
                <a:ext cx="229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ff"/>
                    </a:solidFill>
                    <a:latin typeface="Times New Roman"/>
                  </a:rPr>
                  <a:t>FRENC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458280" y="1179360"/>
              <a:ext cx="0" cy="193824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457200" y="3352320"/>
            <a:ext cx="2502720" cy="1976040"/>
            <a:chOff x="457200" y="3352320"/>
            <a:chExt cx="2502720" cy="1976040"/>
          </a:xfrm>
        </p:grpSpPr>
        <p:grpSp>
          <p:nvGrpSpPr>
            <p:cNvPr id="1147" name=""/>
            <p:cNvGrpSpPr/>
            <p:nvPr/>
          </p:nvGrpSpPr>
          <p:grpSpPr>
            <a:xfrm>
              <a:off x="457200" y="4851720"/>
              <a:ext cx="2502720" cy="474480"/>
              <a:chOff x="457200" y="4851720"/>
              <a:chExt cx="2502720" cy="474480"/>
            </a:xfrm>
          </p:grpSpPr>
          <p:sp>
            <p:nvSpPr>
              <p:cNvPr id="1148" name=""/>
              <p:cNvSpPr/>
              <p:nvPr/>
            </p:nvSpPr>
            <p:spPr>
              <a:xfrm flipV="1">
                <a:off x="457200" y="5325480"/>
                <a:ext cx="2135520" cy="72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21598800">
                <a:off x="731880" y="4851720"/>
                <a:ext cx="22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ff"/>
                    </a:solidFill>
                    <a:latin typeface="Times New Roman"/>
                  </a:rPr>
                  <a:t>SPANIS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 flipV="1">
              <a:off x="458640" y="3352320"/>
              <a:ext cx="0" cy="197604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2590920" y="146880"/>
            <a:ext cx="1974600" cy="1763280"/>
            <a:chOff x="2590920" y="146880"/>
            <a:chExt cx="1974600" cy="1763280"/>
          </a:xfrm>
        </p:grpSpPr>
        <p:grpSp>
          <p:nvGrpSpPr>
            <p:cNvPr id="1152" name=""/>
            <p:cNvGrpSpPr/>
            <p:nvPr/>
          </p:nvGrpSpPr>
          <p:grpSpPr>
            <a:xfrm>
              <a:off x="2739600" y="1068120"/>
              <a:ext cx="1825920" cy="308160"/>
              <a:chOff x="2739600" y="1068120"/>
              <a:chExt cx="1825920" cy="308160"/>
            </a:xfrm>
          </p:grpSpPr>
          <p:sp>
            <p:nvSpPr>
              <p:cNvPr id="1153" name=""/>
              <p:cNvSpPr/>
              <p:nvPr/>
            </p:nvSpPr>
            <p:spPr>
              <a:xfrm flipV="1">
                <a:off x="2739600" y="1373760"/>
                <a:ext cx="1622520" cy="10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21597600">
                <a:off x="2942280" y="1068480"/>
                <a:ext cx="162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BASKETBA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2734200" y="533160"/>
              <a:ext cx="1829520" cy="315360"/>
              <a:chOff x="2734200" y="533160"/>
              <a:chExt cx="1829520" cy="315360"/>
            </a:xfrm>
          </p:grpSpPr>
          <p:sp>
            <p:nvSpPr>
              <p:cNvPr id="1156" name=""/>
              <p:cNvSpPr/>
              <p:nvPr/>
            </p:nvSpPr>
            <p:spPr>
              <a:xfrm>
                <a:off x="2734200" y="838440"/>
                <a:ext cx="1626120" cy="82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17400">
                <a:off x="2937600" y="537120"/>
                <a:ext cx="162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VIDE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2740680" y="146880"/>
              <a:ext cx="1823400" cy="320760"/>
              <a:chOff x="2740680" y="146880"/>
              <a:chExt cx="1823400" cy="320760"/>
            </a:xfrm>
          </p:grpSpPr>
          <p:sp>
            <p:nvSpPr>
              <p:cNvPr id="1159" name=""/>
              <p:cNvSpPr/>
              <p:nvPr/>
            </p:nvSpPr>
            <p:spPr>
              <a:xfrm flipV="1">
                <a:off x="2740680" y="458280"/>
                <a:ext cx="1620720" cy="936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21580200">
                <a:off x="2941920" y="151560"/>
                <a:ext cx="162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MUS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2743200" y="1601280"/>
              <a:ext cx="1819800" cy="308880"/>
              <a:chOff x="2743200" y="1601280"/>
              <a:chExt cx="1819800" cy="308880"/>
            </a:xfrm>
          </p:grpSpPr>
          <p:sp>
            <p:nvSpPr>
              <p:cNvPr id="1162" name=""/>
              <p:cNvSpPr/>
              <p:nvPr/>
            </p:nvSpPr>
            <p:spPr>
              <a:xfrm flipV="1">
                <a:off x="2743200" y="1906920"/>
                <a:ext cx="1620000" cy="18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21595800">
                <a:off x="2943720" y="1602000"/>
                <a:ext cx="161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SWIMM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2590920" y="464040"/>
              <a:ext cx="227520" cy="1443600"/>
              <a:chOff x="2590920" y="464040"/>
              <a:chExt cx="227520" cy="1443600"/>
            </a:xfrm>
          </p:grpSpPr>
          <p:sp>
            <p:nvSpPr>
              <p:cNvPr id="1165" name=""/>
              <p:cNvSpPr/>
              <p:nvPr/>
            </p:nvSpPr>
            <p:spPr>
              <a:xfrm>
                <a:off x="2590920" y="1071360"/>
                <a:ext cx="227520" cy="22788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742840" y="464040"/>
                <a:ext cx="0" cy="14436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7" name=""/>
          <p:cNvGrpSpPr/>
          <p:nvPr/>
        </p:nvGrpSpPr>
        <p:grpSpPr>
          <a:xfrm>
            <a:off x="2666880" y="2204280"/>
            <a:ext cx="1974960" cy="1763280"/>
            <a:chOff x="2666880" y="2204280"/>
            <a:chExt cx="1974960" cy="1763280"/>
          </a:xfrm>
        </p:grpSpPr>
        <p:grpSp>
          <p:nvGrpSpPr>
            <p:cNvPr id="1168" name=""/>
            <p:cNvGrpSpPr/>
            <p:nvPr/>
          </p:nvGrpSpPr>
          <p:grpSpPr>
            <a:xfrm>
              <a:off x="2815560" y="3125520"/>
              <a:ext cx="1826280" cy="308160"/>
              <a:chOff x="2815560" y="3125520"/>
              <a:chExt cx="1826280" cy="308160"/>
            </a:xfrm>
          </p:grpSpPr>
          <p:sp>
            <p:nvSpPr>
              <p:cNvPr id="1169" name=""/>
              <p:cNvSpPr/>
              <p:nvPr/>
            </p:nvSpPr>
            <p:spPr>
              <a:xfrm flipV="1">
                <a:off x="2815560" y="3431160"/>
                <a:ext cx="1622880" cy="10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21597600">
                <a:off x="3018240" y="3125880"/>
                <a:ext cx="162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BASKETBA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2810160" y="2590560"/>
              <a:ext cx="1830240" cy="315360"/>
              <a:chOff x="2810160" y="2590560"/>
              <a:chExt cx="1830240" cy="315360"/>
            </a:xfrm>
          </p:grpSpPr>
          <p:sp>
            <p:nvSpPr>
              <p:cNvPr id="1172" name=""/>
              <p:cNvSpPr/>
              <p:nvPr/>
            </p:nvSpPr>
            <p:spPr>
              <a:xfrm>
                <a:off x="2810160" y="2895840"/>
                <a:ext cx="1626480" cy="82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17400">
                <a:off x="3013920" y="2594520"/>
                <a:ext cx="162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VIDE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2816640" y="2204280"/>
              <a:ext cx="1823760" cy="320760"/>
              <a:chOff x="2816640" y="2204280"/>
              <a:chExt cx="1823760" cy="320760"/>
            </a:xfrm>
          </p:grpSpPr>
          <p:sp>
            <p:nvSpPr>
              <p:cNvPr id="1175" name=""/>
              <p:cNvSpPr/>
              <p:nvPr/>
            </p:nvSpPr>
            <p:spPr>
              <a:xfrm flipV="1">
                <a:off x="2816640" y="2515680"/>
                <a:ext cx="1621080" cy="936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21580200">
                <a:off x="3017880" y="2208960"/>
                <a:ext cx="162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MUS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2819160" y="3658680"/>
              <a:ext cx="1820160" cy="308880"/>
              <a:chOff x="2819160" y="3658680"/>
              <a:chExt cx="1820160" cy="308880"/>
            </a:xfrm>
          </p:grpSpPr>
          <p:sp>
            <p:nvSpPr>
              <p:cNvPr id="1178" name=""/>
              <p:cNvSpPr/>
              <p:nvPr/>
            </p:nvSpPr>
            <p:spPr>
              <a:xfrm flipV="1">
                <a:off x="2819160" y="3964320"/>
                <a:ext cx="1620360" cy="18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21595800">
                <a:off x="3019680" y="3659400"/>
                <a:ext cx="16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SWIMM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2666880" y="2521440"/>
              <a:ext cx="227520" cy="1443600"/>
              <a:chOff x="2666880" y="2521440"/>
              <a:chExt cx="227520" cy="1443600"/>
            </a:xfrm>
          </p:grpSpPr>
          <p:sp>
            <p:nvSpPr>
              <p:cNvPr id="1181" name=""/>
              <p:cNvSpPr/>
              <p:nvPr/>
            </p:nvSpPr>
            <p:spPr>
              <a:xfrm>
                <a:off x="2666880" y="3128760"/>
                <a:ext cx="227520" cy="22788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818800" y="2521440"/>
                <a:ext cx="0" cy="14436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3" name=""/>
          <p:cNvGrpSpPr/>
          <p:nvPr/>
        </p:nvGrpSpPr>
        <p:grpSpPr>
          <a:xfrm>
            <a:off x="2590920" y="4261680"/>
            <a:ext cx="1974600" cy="1763280"/>
            <a:chOff x="2590920" y="4261680"/>
            <a:chExt cx="1974600" cy="1763280"/>
          </a:xfrm>
        </p:grpSpPr>
        <p:grpSp>
          <p:nvGrpSpPr>
            <p:cNvPr id="1184" name=""/>
            <p:cNvGrpSpPr/>
            <p:nvPr/>
          </p:nvGrpSpPr>
          <p:grpSpPr>
            <a:xfrm>
              <a:off x="2739600" y="5182920"/>
              <a:ext cx="1825920" cy="308160"/>
              <a:chOff x="2739600" y="5182920"/>
              <a:chExt cx="1825920" cy="308160"/>
            </a:xfrm>
          </p:grpSpPr>
          <p:sp>
            <p:nvSpPr>
              <p:cNvPr id="1185" name=""/>
              <p:cNvSpPr/>
              <p:nvPr/>
            </p:nvSpPr>
            <p:spPr>
              <a:xfrm flipV="1">
                <a:off x="2739600" y="5488560"/>
                <a:ext cx="1622520" cy="10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21597600">
                <a:off x="2942280" y="5183280"/>
                <a:ext cx="162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BASKETBA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2734200" y="4647960"/>
              <a:ext cx="1829520" cy="315360"/>
              <a:chOff x="2734200" y="4647960"/>
              <a:chExt cx="1829520" cy="315360"/>
            </a:xfrm>
          </p:grpSpPr>
          <p:sp>
            <p:nvSpPr>
              <p:cNvPr id="1188" name=""/>
              <p:cNvSpPr/>
              <p:nvPr/>
            </p:nvSpPr>
            <p:spPr>
              <a:xfrm>
                <a:off x="2734200" y="4953240"/>
                <a:ext cx="1626120" cy="82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rot="17400">
                <a:off x="2937600" y="4651920"/>
                <a:ext cx="162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VIDE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2740680" y="4261680"/>
              <a:ext cx="1823400" cy="320760"/>
              <a:chOff x="2740680" y="4261680"/>
              <a:chExt cx="1823400" cy="320760"/>
            </a:xfrm>
          </p:grpSpPr>
          <p:sp>
            <p:nvSpPr>
              <p:cNvPr id="1191" name=""/>
              <p:cNvSpPr/>
              <p:nvPr/>
            </p:nvSpPr>
            <p:spPr>
              <a:xfrm flipV="1">
                <a:off x="2740680" y="4573080"/>
                <a:ext cx="1620720" cy="936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21580200">
                <a:off x="2941920" y="4266360"/>
                <a:ext cx="162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MUS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2743200" y="5716080"/>
              <a:ext cx="1819800" cy="308880"/>
              <a:chOff x="2743200" y="5716080"/>
              <a:chExt cx="1819800" cy="308880"/>
            </a:xfrm>
          </p:grpSpPr>
          <p:sp>
            <p:nvSpPr>
              <p:cNvPr id="1194" name=""/>
              <p:cNvSpPr/>
              <p:nvPr/>
            </p:nvSpPr>
            <p:spPr>
              <a:xfrm flipV="1">
                <a:off x="2743200" y="6021720"/>
                <a:ext cx="1620000" cy="18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21595800">
                <a:off x="2943720" y="5716800"/>
                <a:ext cx="161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SWIMM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2590920" y="4578840"/>
              <a:ext cx="227520" cy="1443600"/>
              <a:chOff x="2590920" y="4578840"/>
              <a:chExt cx="227520" cy="1443600"/>
            </a:xfrm>
          </p:grpSpPr>
          <p:sp>
            <p:nvSpPr>
              <p:cNvPr id="1197" name=""/>
              <p:cNvSpPr/>
              <p:nvPr/>
            </p:nvSpPr>
            <p:spPr>
              <a:xfrm>
                <a:off x="2590920" y="5186160"/>
                <a:ext cx="227520" cy="22788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742840" y="4578840"/>
                <a:ext cx="0" cy="14436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9" name=""/>
          <p:cNvSpPr/>
          <p:nvPr/>
        </p:nvSpPr>
        <p:spPr>
          <a:xfrm>
            <a:off x="0" y="0"/>
            <a:ext cx="7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105520" y="3124080"/>
            <a:ext cx="1671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4343400" y="228600"/>
            <a:ext cx="1746360" cy="379440"/>
            <a:chOff x="4343400" y="228600"/>
            <a:chExt cx="1746360" cy="379440"/>
          </a:xfrm>
        </p:grpSpPr>
        <p:sp>
          <p:nvSpPr>
            <p:cNvPr id="1202" name=""/>
            <p:cNvSpPr/>
            <p:nvPr/>
          </p:nvSpPr>
          <p:spPr>
            <a:xfrm>
              <a:off x="4343400" y="228600"/>
              <a:ext cx="15944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343400" y="228600"/>
              <a:ext cx="17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rench/Mu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343400" y="685800"/>
            <a:ext cx="1746360" cy="379440"/>
            <a:chOff x="4343400" y="685800"/>
            <a:chExt cx="1746360" cy="379440"/>
          </a:xfrm>
        </p:grpSpPr>
        <p:sp>
          <p:nvSpPr>
            <p:cNvPr id="1205" name=""/>
            <p:cNvSpPr/>
            <p:nvPr/>
          </p:nvSpPr>
          <p:spPr>
            <a:xfrm>
              <a:off x="4343400" y="685800"/>
              <a:ext cx="15944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343400" y="685800"/>
              <a:ext cx="17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rench/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4343400" y="1143000"/>
            <a:ext cx="1746360" cy="379440"/>
            <a:chOff x="4343400" y="1143000"/>
            <a:chExt cx="1746360" cy="379440"/>
          </a:xfrm>
        </p:grpSpPr>
        <p:sp>
          <p:nvSpPr>
            <p:cNvPr id="1208" name=""/>
            <p:cNvSpPr/>
            <p:nvPr/>
          </p:nvSpPr>
          <p:spPr>
            <a:xfrm>
              <a:off x="4343400" y="1143000"/>
              <a:ext cx="15944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343400" y="1143000"/>
              <a:ext cx="17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French/Bsktb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4343400" y="1676520"/>
            <a:ext cx="1746360" cy="379440"/>
            <a:chOff x="4343400" y="1676520"/>
            <a:chExt cx="1746360" cy="379440"/>
          </a:xfrm>
        </p:grpSpPr>
        <p:sp>
          <p:nvSpPr>
            <p:cNvPr id="1211" name=""/>
            <p:cNvSpPr/>
            <p:nvPr/>
          </p:nvSpPr>
          <p:spPr>
            <a:xfrm>
              <a:off x="4343400" y="1676520"/>
              <a:ext cx="15944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343400" y="1676520"/>
              <a:ext cx="17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rench/Sw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4419720" y="2286000"/>
            <a:ext cx="1746000" cy="379440"/>
            <a:chOff x="4419720" y="2286000"/>
            <a:chExt cx="1746000" cy="379440"/>
          </a:xfrm>
        </p:grpSpPr>
        <p:sp>
          <p:nvSpPr>
            <p:cNvPr id="1214" name=""/>
            <p:cNvSpPr/>
            <p:nvPr/>
          </p:nvSpPr>
          <p:spPr>
            <a:xfrm>
              <a:off x="4419720" y="2286000"/>
              <a:ext cx="159408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419720" y="228600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rman/Mu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419720" y="2743200"/>
            <a:ext cx="1746000" cy="379440"/>
            <a:chOff x="4419720" y="2743200"/>
            <a:chExt cx="1746000" cy="379440"/>
          </a:xfrm>
        </p:grpSpPr>
        <p:sp>
          <p:nvSpPr>
            <p:cNvPr id="1217" name=""/>
            <p:cNvSpPr/>
            <p:nvPr/>
          </p:nvSpPr>
          <p:spPr>
            <a:xfrm>
              <a:off x="4419720" y="2743200"/>
              <a:ext cx="159408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419720" y="274320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rman/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4419720" y="3200400"/>
            <a:ext cx="1746000" cy="379440"/>
            <a:chOff x="4419720" y="3200400"/>
            <a:chExt cx="1746000" cy="379440"/>
          </a:xfrm>
        </p:grpSpPr>
        <p:sp>
          <p:nvSpPr>
            <p:cNvPr id="1220" name=""/>
            <p:cNvSpPr/>
            <p:nvPr/>
          </p:nvSpPr>
          <p:spPr>
            <a:xfrm>
              <a:off x="4419720" y="3200400"/>
              <a:ext cx="159408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419720" y="320040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German/Bsktb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4419720" y="3733920"/>
            <a:ext cx="1746000" cy="379440"/>
            <a:chOff x="4419720" y="3733920"/>
            <a:chExt cx="1746000" cy="379440"/>
          </a:xfrm>
        </p:grpSpPr>
        <p:sp>
          <p:nvSpPr>
            <p:cNvPr id="1223" name=""/>
            <p:cNvSpPr/>
            <p:nvPr/>
          </p:nvSpPr>
          <p:spPr>
            <a:xfrm>
              <a:off x="4419720" y="3733920"/>
              <a:ext cx="159408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419720" y="373392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rman/Sw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4343400" y="4343400"/>
            <a:ext cx="1746360" cy="379440"/>
            <a:chOff x="4343400" y="4343400"/>
            <a:chExt cx="1746360" cy="379440"/>
          </a:xfrm>
        </p:grpSpPr>
        <p:sp>
          <p:nvSpPr>
            <p:cNvPr id="1226" name=""/>
            <p:cNvSpPr/>
            <p:nvPr/>
          </p:nvSpPr>
          <p:spPr>
            <a:xfrm>
              <a:off x="4343400" y="4343400"/>
              <a:ext cx="15944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343400" y="4343400"/>
              <a:ext cx="17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anish/Mu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343400" y="4800600"/>
            <a:ext cx="1746360" cy="379440"/>
            <a:chOff x="4343400" y="4800600"/>
            <a:chExt cx="1746360" cy="379440"/>
          </a:xfrm>
        </p:grpSpPr>
        <p:sp>
          <p:nvSpPr>
            <p:cNvPr id="1229" name=""/>
            <p:cNvSpPr/>
            <p:nvPr/>
          </p:nvSpPr>
          <p:spPr>
            <a:xfrm>
              <a:off x="4343400" y="4800600"/>
              <a:ext cx="15944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343400" y="4800600"/>
              <a:ext cx="17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anish/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4343400" y="5257800"/>
            <a:ext cx="1746360" cy="379440"/>
            <a:chOff x="4343400" y="5257800"/>
            <a:chExt cx="1746360" cy="379440"/>
          </a:xfrm>
        </p:grpSpPr>
        <p:sp>
          <p:nvSpPr>
            <p:cNvPr id="1232" name=""/>
            <p:cNvSpPr/>
            <p:nvPr/>
          </p:nvSpPr>
          <p:spPr>
            <a:xfrm>
              <a:off x="4343400" y="5257800"/>
              <a:ext cx="15944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343400" y="5257800"/>
              <a:ext cx="17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panish/Bsktb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4343400" y="5791320"/>
            <a:ext cx="1746360" cy="379440"/>
            <a:chOff x="4343400" y="5791320"/>
            <a:chExt cx="1746360" cy="379440"/>
          </a:xfrm>
        </p:grpSpPr>
        <p:sp>
          <p:nvSpPr>
            <p:cNvPr id="1235" name=""/>
            <p:cNvSpPr/>
            <p:nvPr/>
          </p:nvSpPr>
          <p:spPr>
            <a:xfrm>
              <a:off x="4343400" y="5791320"/>
              <a:ext cx="15944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343400" y="5791320"/>
              <a:ext cx="17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anish/Sw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6372360" y="523800"/>
            <a:ext cx="207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 of po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660720" y="2743200"/>
            <a:ext cx="1713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y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087960" y="3614760"/>
            <a:ext cx="31114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favo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156360" y="4046400"/>
            <a:ext cx="298764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226920" y="1989000"/>
            <a:ext cx="2526120" cy="70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lculate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755640" y="620640"/>
            <a:ext cx="1224000" cy="5763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55640" y="4724280"/>
            <a:ext cx="1224000" cy="5763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26920" y="2781360"/>
            <a:ext cx="1224000" cy="5763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916360" y="1484280"/>
            <a:ext cx="1224000" cy="576360"/>
          </a:xfrm>
          <a:prstGeom prst="ellipse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987640" y="907920"/>
            <a:ext cx="1224000" cy="576360"/>
          </a:xfrm>
          <a:prstGeom prst="ellipse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771640" y="404640"/>
            <a:ext cx="1224000" cy="576360"/>
          </a:xfrm>
          <a:prstGeom prst="ellipse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700360" y="0"/>
            <a:ext cx="1224000" cy="576360"/>
          </a:xfrm>
          <a:prstGeom prst="ellipse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6" dur="80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7" dur="80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80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3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1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8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80"/>
                            </p:stCondLst>
                            <p:childTnLst>
                              <p:par>
                                <p:cTn id="10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780"/>
                            </p:stCondLst>
                            <p:childTnLst>
                              <p:par>
                                <p:cTn id="10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2280"/>
                            </p:stCondLst>
                            <p:childTnLst>
                              <p:par>
                                <p:cTn id="10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0" y="352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elivery times for a fast food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shown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mul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equency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1042920" y="1495440"/>
            <a:ext cx="6477120" cy="2898000"/>
            <a:chOff x="1042920" y="1495440"/>
            <a:chExt cx="6477120" cy="2898000"/>
          </a:xfrm>
        </p:grpSpPr>
        <p:grpSp>
          <p:nvGrpSpPr>
            <p:cNvPr id="1251" name=""/>
            <p:cNvGrpSpPr/>
            <p:nvPr/>
          </p:nvGrpSpPr>
          <p:grpSpPr>
            <a:xfrm>
              <a:off x="1042920" y="1495440"/>
              <a:ext cx="4952880" cy="2895480"/>
              <a:chOff x="1042920" y="1495440"/>
              <a:chExt cx="4952880" cy="2895480"/>
            </a:xfrm>
          </p:grpSpPr>
          <p:sp>
            <p:nvSpPr>
              <p:cNvPr id="1252" name=""/>
              <p:cNvSpPr/>
              <p:nvPr/>
            </p:nvSpPr>
            <p:spPr>
              <a:xfrm>
                <a:off x="1042920" y="1495440"/>
                <a:ext cx="4952880" cy="28954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557520" y="149544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042920" y="21049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042920" y="25621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42920" y="30193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042920" y="34765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042920" y="39337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"/>
            <p:cNvSpPr/>
            <p:nvPr/>
          </p:nvSpPr>
          <p:spPr>
            <a:xfrm>
              <a:off x="1728720" y="157140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No. Deliveri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347840" y="21049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 4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 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347840" y="25621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 8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1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347840" y="30193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12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3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347840" y="34765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16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5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347840" y="39337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20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60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304920" y="54579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 data to construct a cumulative frequency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304920" y="59911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c)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se the graph to find the median and semi-interquartil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ange for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04920" y="4848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ow many deliveries took longer than 16 m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>
            <a:hlinkClick r:id="rId1" action="ppaction://hlinksldjump"/>
          </p:cNvPr>
          <p:cNvSpPr/>
          <p:nvPr/>
        </p:nvSpPr>
        <p:spPr>
          <a:xfrm>
            <a:off x="6948360" y="206208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>
            <a:hlinkClick r:id="rId2" action="ppaction://hlinksldjump"/>
          </p:cNvPr>
          <p:cNvSpPr/>
          <p:nvPr/>
        </p:nvSpPr>
        <p:spPr>
          <a:xfrm>
            <a:off x="6948360" y="26654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948360" y="32418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948360" y="3933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536240" y="266544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539840" y="32418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39120" y="39337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606800" y="20908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veal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>
            <a:hlinkClick r:id="" action="ppaction://hlinkshowjump?jump=nextslide"/>
          </p:cNvPr>
          <p:cNvSpPr/>
          <p:nvPr/>
        </p:nvSpPr>
        <p:spPr>
          <a:xfrm>
            <a:off x="6948360" y="15145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538040" y="15145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>
            <a:off x="0" y="352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elivery times for a fast food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shown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mul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equency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1042920" y="1495440"/>
            <a:ext cx="6477120" cy="2898000"/>
            <a:chOff x="1042920" y="1495440"/>
            <a:chExt cx="6477120" cy="2898000"/>
          </a:xfrm>
        </p:grpSpPr>
        <p:grpSp>
          <p:nvGrpSpPr>
            <p:cNvPr id="1281" name=""/>
            <p:cNvGrpSpPr/>
            <p:nvPr/>
          </p:nvGrpSpPr>
          <p:grpSpPr>
            <a:xfrm>
              <a:off x="1042920" y="1495440"/>
              <a:ext cx="4952880" cy="2895480"/>
              <a:chOff x="1042920" y="1495440"/>
              <a:chExt cx="4952880" cy="2895480"/>
            </a:xfrm>
          </p:grpSpPr>
          <p:sp>
            <p:nvSpPr>
              <p:cNvPr id="1282" name=""/>
              <p:cNvSpPr/>
              <p:nvPr/>
            </p:nvSpPr>
            <p:spPr>
              <a:xfrm>
                <a:off x="1042920" y="1495440"/>
                <a:ext cx="4952880" cy="28954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557520" y="149544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042920" y="21049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042920" y="25621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042920" y="30193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042920" y="34765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042920" y="39337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"/>
            <p:cNvSpPr/>
            <p:nvPr/>
          </p:nvSpPr>
          <p:spPr>
            <a:xfrm>
              <a:off x="1728720" y="157140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No. Deliveri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47840" y="21049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 4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 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47840" y="25621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 8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1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347840" y="30193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12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3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47840" y="34765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16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5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347840" y="39337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20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60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304920" y="54579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 data to construct a cumulative frequency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04920" y="59911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c)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se the graph to find the median and semi-interquartil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ange for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04920" y="4848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ow many deliveries took longer than 16 m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>
            <a:hlinkClick r:id="" action="ppaction://hlinkshowjump?jump=nextslide"/>
          </p:cNvPr>
          <p:cNvSpPr/>
          <p:nvPr/>
        </p:nvSpPr>
        <p:spPr>
          <a:xfrm>
            <a:off x="6948360" y="206208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948360" y="26654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948360" y="32418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948360" y="3933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7536240" y="266544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539840" y="32418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7539120" y="39337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7606800" y="20908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veal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179280" y="981000"/>
            <a:ext cx="2952720" cy="2952720"/>
          </a:xfrm>
          <a:prstGeom prst="cloudCallout">
            <a:avLst>
              <a:gd name="adj1" fmla="val 151236"/>
              <a:gd name="adj2" fmla="val 84569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how many greater  than 16 find difference between end value of values up to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11280" y="1484280"/>
            <a:ext cx="2736720" cy="2808360"/>
          </a:xfrm>
          <a:prstGeom prst="cloudCallout">
            <a:avLst>
              <a:gd name="adj1" fmla="val 106263"/>
              <a:gd name="adj2" fmla="val 11268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is middle value- so we want halfway-point on frequency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2565360"/>
            <a:ext cx="4680000" cy="1511280"/>
          </a:xfrm>
          <a:prstGeom prst="cloudCallout">
            <a:avLst>
              <a:gd name="adj1" fmla="val 99865"/>
              <a:gd name="adj2" fmla="val 17762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QR = ½(Q3 – Q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 – 25% point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3 – 75%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095080" y="1052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5" dur="500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6" dur="50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7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/>
          <p:nvPr/>
        </p:nvSpPr>
        <p:spPr>
          <a:xfrm>
            <a:off x="0" y="352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elivery times for a fast food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shown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mul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equency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1042920" y="1495440"/>
            <a:ext cx="6477120" cy="2898000"/>
            <a:chOff x="1042920" y="1495440"/>
            <a:chExt cx="6477120" cy="2898000"/>
          </a:xfrm>
        </p:grpSpPr>
        <p:grpSp>
          <p:nvGrpSpPr>
            <p:cNvPr id="1313" name=""/>
            <p:cNvGrpSpPr/>
            <p:nvPr/>
          </p:nvGrpSpPr>
          <p:grpSpPr>
            <a:xfrm>
              <a:off x="1042920" y="1495440"/>
              <a:ext cx="4952880" cy="2895480"/>
              <a:chOff x="1042920" y="1495440"/>
              <a:chExt cx="4952880" cy="2895480"/>
            </a:xfrm>
          </p:grpSpPr>
          <p:sp>
            <p:nvSpPr>
              <p:cNvPr id="1314" name=""/>
              <p:cNvSpPr/>
              <p:nvPr/>
            </p:nvSpPr>
            <p:spPr>
              <a:xfrm>
                <a:off x="1042920" y="1495440"/>
                <a:ext cx="4952880" cy="28954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557520" y="149544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042920" y="21049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042920" y="25621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042920" y="30193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42920" y="34765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42920" y="39337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1" name=""/>
            <p:cNvSpPr/>
            <p:nvPr/>
          </p:nvSpPr>
          <p:spPr>
            <a:xfrm>
              <a:off x="1728720" y="157140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No. Deliveri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347840" y="21049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 4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 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347840" y="25621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 8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1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347840" y="30193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12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3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347840" y="34765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16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5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347840" y="39337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20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60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304920" y="54579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 data to construct a cumulative frequency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04920" y="59911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c)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se the graph to find the median and semi-interquartil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ange for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04920" y="4848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ow many deliveries took longer than 16 m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>
            <a:hlinkClick r:id="" action="ppaction://hlinkshowjump?jump=nextslide"/>
          </p:cNvPr>
          <p:cNvSpPr/>
          <p:nvPr/>
        </p:nvSpPr>
        <p:spPr>
          <a:xfrm>
            <a:off x="6948360" y="26654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948360" y="32418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948360" y="3933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7536240" y="266544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7539840" y="32418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539120" y="39337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7793280" y="4863960"/>
            <a:ext cx="54180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047120" y="6416640"/>
            <a:ext cx="22928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an = 11 m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586920" y="6416640"/>
            <a:ext cx="22503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QR = 2.75 m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>
            <a:hlinkClick r:id="" action="ppaction://hlinkshowjump?jump=nextslide"/>
          </p:cNvPr>
          <p:cNvSpPr/>
          <p:nvPr/>
        </p:nvSpPr>
        <p:spPr>
          <a:xfrm>
            <a:off x="8675640" y="544680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8675640" y="566244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3200400" y="6324480"/>
            <a:ext cx="5943600" cy="38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57200" y="6324480"/>
            <a:ext cx="2590920" cy="38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304920" y="609480"/>
            <a:ext cx="8407440" cy="5564880"/>
            <a:chOff x="304920" y="609480"/>
            <a:chExt cx="8407440" cy="5564880"/>
          </a:xfrm>
        </p:grpSpPr>
        <p:pic>
          <p:nvPicPr>
            <p:cNvPr id="1345" name="" descr=""/>
            <p:cNvPicPr/>
            <p:nvPr/>
          </p:nvPicPr>
          <p:blipFill>
            <a:blip r:embed="rId1"/>
            <a:srcRect l="1507" t="4741" r="11303" b="2032"/>
            <a:stretch/>
          </p:blipFill>
          <p:spPr>
            <a:xfrm>
              <a:off x="380880" y="762120"/>
              <a:ext cx="83314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6" name=""/>
            <p:cNvSpPr/>
            <p:nvPr/>
          </p:nvSpPr>
          <p:spPr>
            <a:xfrm>
              <a:off x="6705720" y="586728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elivery time(min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04920" y="6094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um fr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8" name=""/>
          <p:cNvSpPr/>
          <p:nvPr/>
        </p:nvSpPr>
        <p:spPr>
          <a:xfrm>
            <a:off x="2133720" y="5334120"/>
            <a:ext cx="75960" cy="7596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657600" y="4648320"/>
            <a:ext cx="76320" cy="7596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5181480" y="2666880"/>
            <a:ext cx="76320" cy="763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629400" y="1371600"/>
            <a:ext cx="76320" cy="763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8229600" y="838080"/>
            <a:ext cx="76320" cy="763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09480" y="5715000"/>
            <a:ext cx="76320" cy="763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09480" y="5409720"/>
            <a:ext cx="1524240" cy="38124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2209680" y="4723920"/>
            <a:ext cx="1447920" cy="68580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3657600" y="2742840"/>
            <a:ext cx="1523880" cy="19810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257800" y="1371600"/>
            <a:ext cx="1447920" cy="12952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6705720" y="838080"/>
            <a:ext cx="1600200" cy="5335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3352680"/>
            <a:ext cx="4114800" cy="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800600" y="3352680"/>
            <a:ext cx="0" cy="243864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4495680"/>
            <a:ext cx="3124080" cy="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4495680"/>
            <a:ext cx="0" cy="129564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685800" y="2057400"/>
            <a:ext cx="5257800" cy="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943600" y="2057400"/>
            <a:ext cx="0" cy="37339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2860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6483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286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657600" y="5791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286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7913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762120" y="28954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½ of 60 =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762120" y="41148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¼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of 60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762120" y="16002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¾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of 60 =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63244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)  Median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1mi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200400" y="630864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)  SIQR = ½(Q3 – Q1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172200" y="63086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4 – 8.5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7620120" y="63086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75m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80880" y="0"/>
            <a:ext cx="6477120" cy="380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80880" y="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a)  Deliveries taking longer than 16 mins = 60 – 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0958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>
            <a:hlinkClick r:id="" action="ppaction://hlinkshowjump?jump=nextslide"/>
          </p:cNvPr>
          <p:cNvSpPr/>
          <p:nvPr/>
        </p:nvSpPr>
        <p:spPr>
          <a:xfrm>
            <a:off x="6732720" y="2565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732720" y="3257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7323840" y="25653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7323120" y="32576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5" name=""/>
          <p:cNvGraphicFramePr/>
          <p:nvPr/>
        </p:nvGraphicFramePr>
        <p:xfrm>
          <a:off x="900000" y="476280"/>
          <a:ext cx="2808360" cy="4064040"/>
        </p:xfrm>
        <a:graphic>
          <a:graphicData uri="http://schemas.openxmlformats.org/drawingml/2006/table">
            <a:tbl>
              <a:tblPr/>
              <a:tblGrid>
                <a:gridCol w="1008000"/>
                <a:gridCol w="18003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1386" name=""/>
          <p:cNvSpPr/>
          <p:nvPr/>
        </p:nvSpPr>
        <p:spPr>
          <a:xfrm>
            <a:off x="5095080" y="414972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3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2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7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388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80724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9280" y="765000"/>
            <a:ext cx="16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mul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492360" y="474336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36000" y="1844640"/>
            <a:ext cx="4391640" cy="2913480"/>
            <a:chOff x="36000" y="1844640"/>
            <a:chExt cx="4391640" cy="2913480"/>
          </a:xfrm>
        </p:grpSpPr>
        <p:sp>
          <p:nvSpPr>
            <p:cNvPr id="1399" name=""/>
            <p:cNvSpPr/>
            <p:nvPr/>
          </p:nvSpPr>
          <p:spPr>
            <a:xfrm>
              <a:off x="826920" y="1844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26920" y="4365720"/>
              <a:ext cx="360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26920" y="2421000"/>
              <a:ext cx="2953080" cy="1925640"/>
            </a:xfrm>
            <a:custGeom>
              <a:avLst/>
              <a:gdLst/>
              <a:ahLst/>
              <a:rect l="l" t="t" r="r" b="b"/>
              <a:pathLst>
                <a:path w="1764" h="896">
                  <a:moveTo>
                    <a:pt x="0" y="896"/>
                  </a:moveTo>
                  <a:cubicBezTo>
                    <a:pt x="55" y="893"/>
                    <a:pt x="109" y="892"/>
                    <a:pt x="164" y="887"/>
                  </a:cubicBezTo>
                  <a:cubicBezTo>
                    <a:pt x="204" y="883"/>
                    <a:pt x="237" y="853"/>
                    <a:pt x="274" y="841"/>
                  </a:cubicBezTo>
                  <a:cubicBezTo>
                    <a:pt x="283" y="835"/>
                    <a:pt x="291" y="828"/>
                    <a:pt x="301" y="823"/>
                  </a:cubicBezTo>
                  <a:cubicBezTo>
                    <a:pt x="310" y="819"/>
                    <a:pt x="321" y="819"/>
                    <a:pt x="329" y="814"/>
                  </a:cubicBezTo>
                  <a:cubicBezTo>
                    <a:pt x="358" y="796"/>
                    <a:pt x="364" y="780"/>
                    <a:pt x="402" y="768"/>
                  </a:cubicBezTo>
                  <a:cubicBezTo>
                    <a:pt x="411" y="759"/>
                    <a:pt x="418" y="747"/>
                    <a:pt x="429" y="740"/>
                  </a:cubicBezTo>
                  <a:cubicBezTo>
                    <a:pt x="437" y="735"/>
                    <a:pt x="449" y="737"/>
                    <a:pt x="457" y="731"/>
                  </a:cubicBezTo>
                  <a:cubicBezTo>
                    <a:pt x="466" y="724"/>
                    <a:pt x="467" y="712"/>
                    <a:pt x="475" y="704"/>
                  </a:cubicBezTo>
                  <a:cubicBezTo>
                    <a:pt x="494" y="685"/>
                    <a:pt x="525" y="664"/>
                    <a:pt x="548" y="649"/>
                  </a:cubicBezTo>
                  <a:cubicBezTo>
                    <a:pt x="560" y="631"/>
                    <a:pt x="567" y="616"/>
                    <a:pt x="585" y="603"/>
                  </a:cubicBezTo>
                  <a:cubicBezTo>
                    <a:pt x="603" y="590"/>
                    <a:pt x="640" y="567"/>
                    <a:pt x="640" y="567"/>
                  </a:cubicBezTo>
                  <a:cubicBezTo>
                    <a:pt x="677" y="510"/>
                    <a:pt x="743" y="473"/>
                    <a:pt x="795" y="430"/>
                  </a:cubicBezTo>
                  <a:cubicBezTo>
                    <a:pt x="835" y="397"/>
                    <a:pt x="856" y="354"/>
                    <a:pt x="905" y="338"/>
                  </a:cubicBezTo>
                  <a:cubicBezTo>
                    <a:pt x="949" y="293"/>
                    <a:pt x="996" y="256"/>
                    <a:pt x="1051" y="228"/>
                  </a:cubicBezTo>
                  <a:cubicBezTo>
                    <a:pt x="1080" y="213"/>
                    <a:pt x="1092" y="194"/>
                    <a:pt x="1124" y="183"/>
                  </a:cubicBezTo>
                  <a:cubicBezTo>
                    <a:pt x="1130" y="177"/>
                    <a:pt x="1134" y="168"/>
                    <a:pt x="1142" y="164"/>
                  </a:cubicBezTo>
                  <a:cubicBezTo>
                    <a:pt x="1159" y="155"/>
                    <a:pt x="1197" y="146"/>
                    <a:pt x="1197" y="146"/>
                  </a:cubicBezTo>
                  <a:cubicBezTo>
                    <a:pt x="1231" y="114"/>
                    <a:pt x="1281" y="106"/>
                    <a:pt x="1325" y="91"/>
                  </a:cubicBezTo>
                  <a:cubicBezTo>
                    <a:pt x="1336" y="87"/>
                    <a:pt x="1343" y="77"/>
                    <a:pt x="1353" y="73"/>
                  </a:cubicBezTo>
                  <a:cubicBezTo>
                    <a:pt x="1395" y="55"/>
                    <a:pt x="1472" y="27"/>
                    <a:pt x="1517" y="18"/>
                  </a:cubicBezTo>
                  <a:cubicBezTo>
                    <a:pt x="1600" y="2"/>
                    <a:pt x="1680" y="0"/>
                    <a:pt x="1764" y="0"/>
                  </a:cubicBezTo>
                </a:path>
              </a:pathLst>
            </a:custGeom>
            <a:noFill/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96360" y="2179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65080" y="43401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195640" y="3284640"/>
              <a:ext cx="0" cy="10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826920" y="3284640"/>
              <a:ext cx="136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000" y="30654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960200" y="4359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"/>
          <p:cNvSpPr/>
          <p:nvPr/>
        </p:nvSpPr>
        <p:spPr>
          <a:xfrm>
            <a:off x="5218200" y="476280"/>
            <a:ext cx="348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Cumulative Frequ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148360" y="1557360"/>
            <a:ext cx="399564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y-axis (cumulative frequ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 25%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at 50%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at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514840" y="4292640"/>
            <a:ext cx="3475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ad values from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 time scale (x-ax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H="1">
            <a:off x="611280" y="1916280"/>
            <a:ext cx="4465440" cy="1152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flipH="1" flipV="1">
            <a:off x="2410920" y="4508280"/>
            <a:ext cx="3240360" cy="21564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928120" y="5013360"/>
            <a:ext cx="21740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of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9" dur="80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0" dur="80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1" dur="80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6" dur="80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7" dur="80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8" dur="80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2120"/>
                            </p:stCondLst>
                            <p:childTnLst>
                              <p:par>
                                <p:cTn id="1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8" dur="80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9" dur="80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0" dur="80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880"/>
                            </p:stCondLst>
                            <p:childTnLst>
                              <p:par>
                                <p:cTn id="1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2380"/>
                            </p:stCondLst>
                            <p:childTnLst>
                              <p:par>
                                <p:cTn id="13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6920" y="478476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cond company has a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onger avera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sponse time.  Th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maller standard devi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ans their arrival time is more predic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1549440" y="6138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529272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5292720" y="61642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39640" y="6138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85800" y="5516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85080" y="6164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92280"/>
            <a:ext cx="85341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axi company was phoned each night of the week and the response time in minutes of their cars were noted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were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Find the mean and standard deviation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 A similar experiment was conducted with a seco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company.  The results for this wer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 = 12    and   standard deviation = 1.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second company compare to the firs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4148280"/>
            <a:ext cx="22323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 Mean =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564000" y="4005360"/>
            <a:ext cx="1871640" cy="720720"/>
            <a:chOff x="3564000" y="4005360"/>
            <a:chExt cx="1871640" cy="720720"/>
          </a:xfrm>
        </p:grpSpPr>
        <p:sp>
          <p:nvSpPr>
            <p:cNvPr id="105" name=""/>
            <p:cNvSpPr/>
            <p:nvPr/>
          </p:nvSpPr>
          <p:spPr>
            <a:xfrm>
              <a:off x="3564000" y="4005360"/>
              <a:ext cx="1871640" cy="720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3564000" y="4150080"/>
            <a:ext cx="1800360" cy="48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64000" y="4150080"/>
                      <a:ext cx="180036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8" name=""/>
          <p:cNvSpPr/>
          <p:nvPr/>
        </p:nvSpPr>
        <p:spPr>
          <a:xfrm>
            <a:off x="824400" y="573408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52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12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76280"/>
            <a:ext cx="39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axi company was phoned each night of the week and the response time in minutes of their cars were noted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were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3     5     10     7     7     15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 Find the mean and standard deviation for thi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83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n = (3+5+10+7+7+15+9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= 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26028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2060640"/>
            <a:ext cx="50036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       = 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no.pieces of data = n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88000" y="1989000"/>
          <a:ext cx="29664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1989000"/>
                    <a:ext cx="2966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38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76280"/>
            <a:ext cx="39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axi company was phoned each night of the week and the response time in minutes of their cars were noted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were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3     5     10     7     7     15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 Find the mean and standard deviation for thi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26028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Draw table comparing data to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199040" y="981000"/>
            <a:ext cx="4572000" cy="3881160"/>
            <a:chOff x="4199040" y="981000"/>
            <a:chExt cx="4572000" cy="3881160"/>
          </a:xfrm>
        </p:grpSpPr>
        <p:sp>
          <p:nvSpPr>
            <p:cNvPr id="158" name=""/>
            <p:cNvSpPr/>
            <p:nvPr/>
          </p:nvSpPr>
          <p:spPr>
            <a:xfrm>
              <a:off x="4199040" y="981000"/>
              <a:ext cx="4572000" cy="38811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8360" y="981000"/>
              <a:ext cx="0" cy="388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9040" y="144648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9040" y="183456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99040" y="222264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99040" y="261108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99040" y="299916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99040" y="338724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99040" y="377568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99040" y="416376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8560" y="981000"/>
              <a:ext cx="0" cy="318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427640" y="981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51320" y="150984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-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51320" y="18907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-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51320" y="2271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51320" y="265284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-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1320" y="30337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1320" y="3414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1320" y="379584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2920" y="42530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1720" y="42530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516720" y="4221000"/>
          <a:ext cx="29700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4221000"/>
                    <a:ext cx="2970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900000" y="3357720"/>
            <a:ext cx="1008000" cy="718920"/>
            <a:chOff x="900000" y="3357720"/>
            <a:chExt cx="1008000" cy="718920"/>
          </a:xfrm>
        </p:grpSpPr>
        <p:sp>
          <p:nvSpPr>
            <p:cNvPr id="182" name=""/>
            <p:cNvSpPr/>
            <p:nvPr/>
          </p:nvSpPr>
          <p:spPr>
            <a:xfrm>
              <a:off x="900000" y="3357720"/>
              <a:ext cx="1008000" cy="718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3" name=""/>
            <p:cNvGraphicFramePr/>
            <p:nvPr/>
          </p:nvGraphicFramePr>
          <p:xfrm>
            <a:off x="1006560" y="3429000"/>
            <a:ext cx="801720" cy="504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06560" y="3429000"/>
                      <a:ext cx="80172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5" name=""/>
          <p:cNvGraphicFramePr/>
          <p:nvPr/>
        </p:nvGraphicFramePr>
        <p:xfrm>
          <a:off x="5796000" y="933480"/>
          <a:ext cx="86364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6000" y="933480"/>
                    <a:ext cx="8636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7356600" y="981000"/>
          <a:ext cx="1031760" cy="50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56600" y="981000"/>
                    <a:ext cx="10317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92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76280"/>
            <a:ext cx="39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axi company was phoned each night of the week and the response time in minutes of their cars were noted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were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3     5     10     7     7     15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 Find the mean and standard deviation for thi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Use formula to calculate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643280" y="1052640"/>
          <a:ext cx="2664000" cy="14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1052640"/>
                    <a:ext cx="266400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643280" y="2997360"/>
          <a:ext cx="1873440" cy="109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2997360"/>
                    <a:ext cx="187344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4643280" y="4437000"/>
            <a:ext cx="1871640" cy="720720"/>
            <a:chOff x="4643280" y="4437000"/>
            <a:chExt cx="1871640" cy="720720"/>
          </a:xfrm>
        </p:grpSpPr>
        <p:sp>
          <p:nvSpPr>
            <p:cNvPr id="216" name=""/>
            <p:cNvSpPr/>
            <p:nvPr/>
          </p:nvSpPr>
          <p:spPr>
            <a:xfrm>
              <a:off x="4643280" y="4437000"/>
              <a:ext cx="1871640" cy="720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7" name=""/>
            <p:cNvGraphicFramePr/>
            <p:nvPr/>
          </p:nvGraphicFramePr>
          <p:xfrm>
            <a:off x="4643280" y="4581720"/>
            <a:ext cx="1800360" cy="485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43280" y="4581720"/>
                      <a:ext cx="180036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9" name=""/>
          <p:cNvSpPr/>
          <p:nvPr/>
        </p:nvSpPr>
        <p:spPr>
          <a:xfrm>
            <a:off x="7433280" y="1289160"/>
            <a:ext cx="15037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foun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19640" y="1484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224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22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lways compare mean and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49360"/>
            <a:ext cx="39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 A similar experiment was conducted with a second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company.  The results for this wer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= 12    an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deviation = 1.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ow does the second company compare to the first?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1341360"/>
            <a:ext cx="4752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cond company ha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onger avera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sponse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maller standard devi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ans their arrival time is m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24000" y="3430440"/>
            <a:ext cx="1008000" cy="718920"/>
            <a:chOff x="324000" y="3430440"/>
            <a:chExt cx="1008000" cy="718920"/>
          </a:xfrm>
        </p:grpSpPr>
        <p:sp>
          <p:nvSpPr>
            <p:cNvPr id="245" name=""/>
            <p:cNvSpPr/>
            <p:nvPr/>
          </p:nvSpPr>
          <p:spPr>
            <a:xfrm>
              <a:off x="324000" y="3430440"/>
              <a:ext cx="1008000" cy="718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6" name=""/>
            <p:cNvGraphicFramePr/>
            <p:nvPr/>
          </p:nvGraphicFramePr>
          <p:xfrm>
            <a:off x="430560" y="3501720"/>
            <a:ext cx="801720" cy="504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0560" y="3501720"/>
                      <a:ext cx="80172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8" name=""/>
          <p:cNvGrpSpPr/>
          <p:nvPr/>
        </p:nvGrpSpPr>
        <p:grpSpPr>
          <a:xfrm>
            <a:off x="1692360" y="3429000"/>
            <a:ext cx="1871640" cy="720720"/>
            <a:chOff x="1692360" y="3429000"/>
            <a:chExt cx="1871640" cy="720720"/>
          </a:xfrm>
        </p:grpSpPr>
        <p:sp>
          <p:nvSpPr>
            <p:cNvPr id="249" name=""/>
            <p:cNvSpPr/>
            <p:nvPr/>
          </p:nvSpPr>
          <p:spPr>
            <a:xfrm>
              <a:off x="1692360" y="3429000"/>
              <a:ext cx="1871640" cy="720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0" name=""/>
            <p:cNvGraphicFramePr/>
            <p:nvPr/>
          </p:nvGraphicFramePr>
          <p:xfrm>
            <a:off x="1692360" y="3573720"/>
            <a:ext cx="1800360" cy="485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692360" y="3573720"/>
                      <a:ext cx="180036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2" name=""/>
          <p:cNvSpPr/>
          <p:nvPr/>
        </p:nvSpPr>
        <p:spPr>
          <a:xfrm>
            <a:off x="0" y="1700280"/>
            <a:ext cx="1332000" cy="720720"/>
          </a:xfrm>
          <a:prstGeom prst="ellipse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08000" y="1989000"/>
            <a:ext cx="1332000" cy="72072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53480" y="400536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2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0724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36640"/>
            <a:ext cx="464328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Use formula to calculate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76360" y="1628640"/>
          <a:ext cx="2663640" cy="144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6360" y="1628640"/>
                    <a:ext cx="266364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576360" y="3573360"/>
          <a:ext cx="1873080" cy="109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360" y="3573360"/>
                    <a:ext cx="187308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"/>
          <p:cNvGrpSpPr/>
          <p:nvPr/>
        </p:nvGrpSpPr>
        <p:grpSpPr>
          <a:xfrm>
            <a:off x="576360" y="5013360"/>
            <a:ext cx="1871640" cy="720720"/>
            <a:chOff x="576360" y="5013360"/>
            <a:chExt cx="1871640" cy="720720"/>
          </a:xfrm>
        </p:grpSpPr>
        <p:sp>
          <p:nvSpPr>
            <p:cNvPr id="269" name=""/>
            <p:cNvSpPr/>
            <p:nvPr/>
          </p:nvSpPr>
          <p:spPr>
            <a:xfrm>
              <a:off x="576360" y="5013360"/>
              <a:ext cx="1871640" cy="720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0" name=""/>
            <p:cNvGraphicFramePr/>
            <p:nvPr/>
          </p:nvGraphicFramePr>
          <p:xfrm>
            <a:off x="576360" y="5158080"/>
            <a:ext cx="1800360" cy="485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6360" y="5158080"/>
                      <a:ext cx="180036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2" name=""/>
          <p:cNvSpPr/>
          <p:nvPr/>
        </p:nvSpPr>
        <p:spPr>
          <a:xfrm>
            <a:off x="4783680" y="450720"/>
            <a:ext cx="4223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the list of Formulae for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Deviation 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78360" y="3357720"/>
            <a:ext cx="420876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cond formula can be u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calculator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lculator must be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s. Mode to allow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ent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788000" y="1413000"/>
            <a:ext cx="4356000" cy="1368360"/>
            <a:chOff x="4788000" y="1413000"/>
            <a:chExt cx="4356000" cy="1368360"/>
          </a:xfrm>
        </p:grpSpPr>
        <p:sp>
          <p:nvSpPr>
            <p:cNvPr id="275" name=""/>
            <p:cNvSpPr/>
            <p:nvPr/>
          </p:nvSpPr>
          <p:spPr>
            <a:xfrm>
              <a:off x="4788000" y="1413000"/>
              <a:ext cx="4356000" cy="136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6" name=""/>
            <p:cNvGraphicFramePr/>
            <p:nvPr/>
          </p:nvGraphicFramePr>
          <p:xfrm>
            <a:off x="4875120" y="1487520"/>
            <a:ext cx="4268880" cy="1110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75120" y="1487520"/>
                      <a:ext cx="4268880" cy="111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8" name="">
            <a:hlinkClick r:id="rId11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16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9:43:36Z</dcterms:created>
  <dc:creator>Richardson</dc:creator>
  <dc:description/>
  <dc:language>en-US</dc:language>
  <cp:lastModifiedBy>Richardson</cp:lastModifiedBy>
  <dcterms:modified xsi:type="dcterms:W3CDTF">2006-01-08T15:25:43Z</dcterms:modified>
  <cp:revision>12</cp:revision>
  <dc:subject/>
  <dc:title>Slide 1</dc:title>
</cp:coreProperties>
</file>